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8.jpeg" ContentType="image/jpeg"/>
  <Override PartName="/ppt/media/image9.jpeg" ContentType="image/jpeg"/>
  <Override PartName="/ppt/media/image23.wmf" ContentType="image/x-wmf"/>
  <Override PartName="/ppt/media/image17.wmf" ContentType="image/x-wmf"/>
  <Override PartName="/ppt/media/image1.png" ContentType="image/png"/>
  <Override PartName="/ppt/media/image20.wmf" ContentType="image/x-wmf"/>
  <Override PartName="/ppt/media/image5.jpeg" ContentType="image/jpeg"/>
  <Override PartName="/ppt/media/image14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7208-D0E2-40B3-A49F-0D08BB9E8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B28C-AA76-450A-8675-333C11D7F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04E-1925-4309-A283-A632C4B8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DE5-CBD1-47D0-98AC-F959B310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0E5-567A-4369-9D79-21590353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3D2-7126-4FCE-99D1-EF04742C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7DA1-5417-441A-8018-CAAEB567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CB66-6BB8-4A4C-86FC-D8E2E3C2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0F63-4A9A-4224-AEFD-3A562F8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2823-D4EE-43C9-8276-01D1E6B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D48F-9DD5-4B71-BB9B-64FBA0D2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B3B-4194-4555-80EC-4542F49A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F3D8-4F04-4518-8B5D-4DE0587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71E-BA4E-4537-815D-CFCDF0D9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6D50-752C-4566-8AD2-81AAE6B6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2F28-4134-4E10-A5AF-824DC54F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66DC-C275-4F28-9EF4-62373672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2FB8-5580-45C3-A72F-47F22E05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DEE5-7723-49E1-B1B8-E0626F55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65F2-5EA2-4C63-B5A4-FF0CD803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64CC-075A-4721-B176-8F35ADF0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2388-08A3-48AF-99DA-755D8916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402A-C75E-4EA7-B34F-0B682864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4AEC-3857-4DF8-89C7-698DA18F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114-F631-4EFC-9545-BDF17118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5AA8B-A593-4201-B4F0-2D5ACF1B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B6B7-5162-468B-97C0-71F7FE5F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841C-58C8-4902-B86A-4013F95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8CB1-C20B-45DB-8582-5C3D13B3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9D81-A5C4-4D7B-B87F-F21B35F6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34D7-E89B-4D0B-AE92-BFD13158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AB78-E6D0-4C6F-A6A2-2077BC13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CF70-D583-4F66-94CE-25325957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F4AE-7F7D-4630-921A-2C2B3ADD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AD98-CE1B-41C1-9FC5-04A550C4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10A-CCE6-4C72-82AA-CBE6ABE5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794D1-DF08-4C98-878C-D7042A4D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C3C5A-4C1E-4621-8B62-AE41AB32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FC1F-A1CE-472E-9FE7-A98E7DE4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7A8A-2948-4CE3-875E-8E04CC02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2BC3-CC12-4435-82CE-6C71836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E05D-BB42-4FA6-9E10-0BBC0B8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9D59-C037-4D2F-B9E3-CC4F2BF9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54875-782A-4583-8C4E-AE9C08F9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A47B-EF10-4D33-B904-19B1D9AB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654C9-6B5B-4F6C-9B53-B0812104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70B-0DD6-4DCD-BD13-187EAD05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9A885-66CB-4DD2-93C8-F96A3C2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13E5-5488-4A6D-AEEE-50E7EBF9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2DEC-BD5E-4878-BF52-A56D0A57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87BB9-CAD2-45E0-BA31-40FB909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7AA73-B3BC-4603-83D2-7F47A04A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B6A9A-6B90-4307-9D52-764E37D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6BE9E-7B7B-4A36-BC10-22E164D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D196-4F64-49F3-87CE-905627E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B3A63-BECE-4720-838E-DE376475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2DC87-DB88-44B2-8D7B-E8F80AD1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547-FDA1-43BB-930D-F81414AE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BC20-B724-4D43-A90A-AA08C632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334D0-713D-4111-8659-B9431892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1FE2-02BC-475C-9A97-419229C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4E807-668C-47B7-AEDC-E856C44C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3C198-4474-48F7-82D8-B06DD3C2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642CA-BBC1-47E7-9C3B-A01EEC03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78137-64BE-44C7-AC3F-3A6E9292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BADDF-0F62-4FD2-AD33-D17E2605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B8174-2995-469F-A37F-87E4FF97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4ACAB-A6F1-4B8D-A052-091CD27E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41F-DF51-410B-A964-B8D00A6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09EE4-047E-40E1-8728-F7C805E4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5F19-C30F-4514-B584-890D6BBB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1E125-1A89-4CAE-BDF4-B125DFED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265-DF7A-4EE1-81AF-95BD142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66E-E0E2-4BF5-8376-9BEABFC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CD44-BEB4-4DED-8E86-023397DC4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107B-5E58-4DBB-9A3E-95547F98C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BCCD-1AA2-427D-9601-CB9947D1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8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3D27-A337-4DB0-B3CE-498E5B597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4A08-2C1A-47EA-9653-ECDB927A3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7FCC-F02F-4C1B-9ECE-2F954B6418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6095880" y="2133720"/>
          <a:ext cx="30481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133720"/>
                    <a:ext cx="3048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21276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1143000" y="51055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1523880" y="495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1981080" y="4800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2286000" y="419112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140360" y="2781360"/>
            <a:ext cx="838080" cy="9144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5219640" y="227664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959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7596360" y="3860640"/>
            <a:ext cx="990360" cy="10670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6372360" y="4581360"/>
            <a:ext cx="1066680" cy="10670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3657600" y="5105520"/>
            <a:ext cx="685800" cy="76176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7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5003640" y="3860640"/>
            <a:ext cx="685800" cy="7621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609480" y="5410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1295280" y="4191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057400" y="5410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3124080" y="4343400"/>
            <a:ext cx="685800" cy="7621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990720" y="4572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WordArt 20"/>
          <p:cNvSpPr txBox="1"/>
          <p:nvPr/>
        </p:nvSpPr>
        <p:spPr>
          <a:xfrm rot="19987800">
            <a:off x="539640" y="0"/>
            <a:ext cx="7128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植物营养与品质分析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6"/>
          <p:cNvGraphicFramePr/>
          <p:nvPr/>
        </p:nvGraphicFramePr>
        <p:xfrm>
          <a:off x="8172360" y="3573360"/>
          <a:ext cx="971640" cy="29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2360" y="3573360"/>
                    <a:ext cx="97164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3"/>
          <p:cNvSpPr/>
          <p:nvPr/>
        </p:nvSpPr>
        <p:spPr>
          <a:xfrm>
            <a:off x="838080" y="4300560"/>
            <a:ext cx="6973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按照一定路线，在采样区内多点采样，组成混合样。采集样株的数量应根据作物的种类、种植密度、株型大小、株龄或生育期以及要求的精密度确定。使混合样有代表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04920" y="533520"/>
            <a:ext cx="845820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一、植株全量养分分析样品的采集制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、样品的采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）在统一的时间，选择有代表性的样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）在样株选定后，决定取样的部位和组织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914400" y="2266920"/>
            <a:ext cx="74754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选择样株时要注意群体密度、植株长相、长势、生育期等条件的一致性；过大过小的植株，受病虫害或机械损伤的以及田边、道路、建筑物、树木等旁边的植株都不应采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特殊目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采样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如诊断缺素或受毒害情况，在采样时注意样株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典型性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，并同时在附近采集有对比意义的正常植株作为对照，使分析结果能在相互比较的条件下说明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2167200"/>
            <a:ext cx="83170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决定取样的部位和组织器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所选的部位或组织器官要对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待测定的某种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养分丰缺最敏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一般情况下，大田作物的苗期，采整个地上部；在营养生长向生殖生长转化时期，采集主茎或主枝顶部新长成的健壮叶或功能叶，幼嫩组织的养分组成变化较快，一般不宜采样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开始结实后，植株体内的养分含量、比例变化很大，一般不宜作组织分析。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果树、林木类等营养诊断通常采用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全叶分析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或不带叶柄的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叶片分析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，也常采用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叶柄分析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609480" y="2433240"/>
            <a:ext cx="784872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植物组织全量养分分析一般用烘干样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制备步骤包括：清洗、分割、杀酶、烘干、粉碎、保存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2771640" y="5229360"/>
          <a:ext cx="444024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5229360"/>
                    <a:ext cx="44402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4"/>
          <p:cNvSpPr/>
          <p:nvPr/>
        </p:nvSpPr>
        <p:spPr>
          <a:xfrm>
            <a:off x="2445480" y="838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样品的制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533520" y="2243520"/>
            <a:ext cx="8064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目的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清除样品上沾附的泥土、肥料、农药、灰尘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清洗应在植物组织尚未萎焉时进行，否则一些易溶养分（如钾、钙、水溶糖等）会被洗出。清洗时间不宜过长，一般不超过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分钟，更不能在水在浸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法：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先用自来水清洗，再用浓度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0.1-0.3%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的中性洗涤剂清洗，之后用自来水冲洗干净，用蒸馏水冲洗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次，然后尽快用吸水纸吸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926280" y="36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清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8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80880" y="1619640"/>
            <a:ext cx="849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分割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根据需要，分为不同器官（如叶片、叶鞘或叶柄、茎、果实等部分）测定时，须立即将其剪开，以免养分运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杀酶、烘干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将分割好的新鲜样品先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80℃-90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鼓风干燥箱中烘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-3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钟（松软组织烘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钟，致密坚实总之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分钟）杀酶；然后，降温到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65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烘干。干燥时间一般为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2-24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小时。对于多汁且有硬皮的茎杆如玉米等，可用锋利的刀将其劈开，但注意勿使其汁液外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有条件时，也可用高温蒸汽杀酶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5-10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分钟，再转入烘箱中烘干或风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533520" y="1769400"/>
            <a:ext cx="817236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粉碎：</a:t>
            </a:r>
            <a:r>
              <a:rPr b="1" lang="zh-CN" sz="2800" spc="-1" strike="noStrike">
                <a:solidFill>
                  <a:srgbClr val="990099"/>
                </a:solidFill>
                <a:latin typeface="宋体"/>
              </a:rPr>
              <a:t>干燥的样品可用研钵或磨样机进行粉碎，并全部过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样品粉碎的粒度：视称样量的多少而定，在称样量低于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1.0g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时，一般过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0.25mm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筛，称样量在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1-2g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时可过</a:t>
            </a:r>
            <a:r>
              <a:rPr b="1" lang="en-US" sz="2800" spc="-1" strike="noStrike">
                <a:solidFill>
                  <a:srgbClr val="0099ff"/>
                </a:solidFill>
                <a:latin typeface="宋体"/>
              </a:rPr>
              <a:t>0.5mm</a:t>
            </a:r>
            <a:r>
              <a:rPr b="1" lang="zh-CN" sz="2800" spc="-1" strike="noStrike">
                <a:solidFill>
                  <a:srgbClr val="0099ff"/>
                </a:solidFill>
                <a:latin typeface="宋体"/>
              </a:rPr>
              <a:t>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注意：在样品制备过程中，应避免污染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特别是需测定微量元素时，应避免使用铁、铜等磨或筛，干燥时也注意不要被金属的细小粉末污染。可使用玛瑙、瓷、不锈钢等的物品粉碎，过尼龙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b1f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/>
          <p:cNvSpPr/>
          <p:nvPr/>
        </p:nvSpPr>
        <p:spPr>
          <a:xfrm>
            <a:off x="1219320" y="2385360"/>
            <a:ext cx="719928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保存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样品过筛后要充分混匀，于磨口的广口瓶中保存，注意写好标签。保存过程中应注意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防霉、防虫、防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样品在粉碎、贮存过程中，会吸收一些空气中的水分。如分析精度要求较高，应在称样前在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65℃(12-24h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90℃(2h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再次烘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一般常规分析中，同类样品间比较，在样品吸湿水含量较少时，也可不烘干，直接称样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2129400" y="685800"/>
            <a:ext cx="450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</a:rPr>
              <a:t>二、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植物组织速测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95280" y="3101760"/>
            <a:ext cx="813744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集方法与全量分析样品的采集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因组织速测的是尚未同化而存在于汁液中的营养成分，这些物质处于不断转化和代谢变化之中，不仅在不同生育期的含量变化较大，而且在一日之内也有显著差异，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因此采样的部位、时间更要统一。一般采样时间在上午的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8-10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点；此时植株的各种代谢接近动态平衡，能较好反映出根系吸收与植物同化需要的相对关系，最具有营养诊断意义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Object 7"/>
          <p:cNvGraphicFramePr/>
          <p:nvPr/>
        </p:nvGraphicFramePr>
        <p:xfrm>
          <a:off x="6477120" y="4343400"/>
          <a:ext cx="26668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343400"/>
                    <a:ext cx="26668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Rectangle 6"/>
          <p:cNvSpPr/>
          <p:nvPr/>
        </p:nvSpPr>
        <p:spPr>
          <a:xfrm>
            <a:off x="762120" y="1059840"/>
            <a:ext cx="7619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植物组织速测多用新鲜样品直接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压榨法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用湿布或毛刷将样品表面清洁干净后，直接压榨出汁液测定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浸提法：样品需要清洗，同全量分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66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6516720" y="4005360"/>
          <a:ext cx="2627280" cy="28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05360"/>
                    <a:ext cx="262728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2"/>
          <p:cNvSpPr/>
          <p:nvPr/>
        </p:nvSpPr>
        <p:spPr>
          <a:xfrm>
            <a:off x="468360" y="3258720"/>
            <a:ext cx="59767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♣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植物养分全量分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植物样品的采集制备、植物中水分、灰分，植物中氮磷钾、钙镁硫，以及微量元素（铜锌铁锰及硼钼）的分析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♣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农业植物产品品质分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碳水化合物、蛋白质、脂肪、有机酸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单宁等的测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1500840" y="3571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植物分析课程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Object 14"/>
          <p:cNvGraphicFramePr/>
          <p:nvPr/>
        </p:nvGraphicFramePr>
        <p:xfrm>
          <a:off x="6948360" y="549360"/>
          <a:ext cx="1600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54936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1371600" y="1295280"/>
            <a:ext cx="701028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分析时，将洗净的鲜样剪碎混匀后，立即用称量瓶或塑料容器称样，然后在瓷碾钵中加入适当溶剂或石英砂碾磨浸提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样品来不及立即测定时，可放在冰箱中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-5℃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短期保存，保存时间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-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天。有条件时，也可将鲜样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40℃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下长期保存，但解冻后须立即测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990720" y="3085200"/>
            <a:ext cx="7127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在进行植物组织分析时，经常需要采集根系样品。采集根系样品的方法很多，且已有根系研究方法的专著，由于研究目的不同，采集方法有较大差异，这里仅介绍田间植物组织分析用根系的采集和制备方法：挖掘法和土钻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2146680" y="701640"/>
            <a:ext cx="51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第三节   植物根系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25560"/>
            <a:ext cx="3352680" cy="6832440"/>
            <a:chOff x="0" y="25560"/>
            <a:chExt cx="3352680" cy="6832440"/>
          </a:xfrm>
        </p:grpSpPr>
        <p:pic>
          <p:nvPicPr>
            <p:cNvPr id="349" name="Picture 3" descr="plant-1"/>
            <p:cNvPicPr/>
            <p:nvPr/>
          </p:nvPicPr>
          <p:blipFill>
            <a:blip r:embed="rId1"/>
            <a:stretch/>
          </p:blipFill>
          <p:spPr>
            <a:xfrm>
              <a:off x="0" y="25560"/>
              <a:ext cx="335268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4"/>
            <p:cNvSpPr/>
            <p:nvPr/>
          </p:nvSpPr>
          <p:spPr>
            <a:xfrm>
              <a:off x="3003480" y="25560"/>
              <a:ext cx="348840" cy="250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Rectangle 3"/>
          <p:cNvSpPr/>
          <p:nvPr/>
        </p:nvSpPr>
        <p:spPr>
          <a:xfrm>
            <a:off x="3733920" y="2696400"/>
            <a:ext cx="47941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一、挖掘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挖掘法采集根系样品可较好地提供植物完整根系的自然生长状况，对每条根系的长度、体积、形状、颜色、分布、状态及养分等对其的影响均可进行测定或观察。缺点是劳动强度大、消耗时间，对高大植物的根系研究有较大误差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Object 20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9"/>
          <p:cNvSpPr/>
          <p:nvPr/>
        </p:nvSpPr>
        <p:spPr>
          <a:xfrm>
            <a:off x="762120" y="2067840"/>
            <a:ext cx="7619760" cy="27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挖掘采集根系方法：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采样时先确定好样株；然后进行掘沟挖掘。壕沟至植株基部的距离对于禾本科或草本植物一般以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0-80c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为宜；视植物种类和生长阶段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根系大小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而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挖掘时尽量减少根系损失，将挖掘出的带泥土根系放入盛水的容器内进行冲洗，然后进行形态特征的观察；完成后将洗净的根系按植物组织样品处理的方法进行烘干、粉碎、保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23100"/>
            </a:gs>
            <a:gs pos="50000">
              <a:srgbClr val="00cc00"/>
            </a:gs>
            <a:gs pos="100000">
              <a:srgbClr val="42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042920" y="18288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242100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6553080" y="3852720"/>
            <a:ext cx="50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7832880" y="3852720"/>
            <a:ext cx="46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79200" y="6235560"/>
            <a:ext cx="963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04292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047600" y="6235560"/>
            <a:ext cx="137340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42100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2425680" y="6235560"/>
            <a:ext cx="15685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3994200" y="6235560"/>
            <a:ext cx="64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4000680" y="6235560"/>
            <a:ext cx="117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517536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5180040" y="6235560"/>
            <a:ext cx="1373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6553080" y="6235560"/>
            <a:ext cx="504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6558120" y="6235560"/>
            <a:ext cx="12747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7832880" y="6235560"/>
            <a:ext cx="468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7837560" y="6235560"/>
            <a:ext cx="127296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26920" y="2091600"/>
            <a:ext cx="763128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、土钻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土钻法是采集一定容积土壤根系样品的适宜方法。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使用的工具有手钻和机械钻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钻筒的结构一般为高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5c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内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7c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下缘为锯齿型结构，向一个方向将土钻打入土壤中至适宜深度，取出，用上面安装的活塞将土柱推出，放入冲根容器中，将根系冲出，进行观察和样品处理、保存。土钻的高度一般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00-200c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可采集不同深度的根系样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Object 34" descr=""/>
          <p:cNvPicPr/>
          <p:nvPr/>
        </p:nvPicPr>
        <p:blipFill>
          <a:blip r:embed="rId1"/>
          <a:stretch/>
        </p:blipFill>
        <p:spPr>
          <a:xfrm>
            <a:off x="5257800" y="6095880"/>
            <a:ext cx="3886200" cy="762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2"/>
          <p:cNvSpPr/>
          <p:nvPr/>
        </p:nvSpPr>
        <p:spPr>
          <a:xfrm>
            <a:off x="914400" y="2743560"/>
            <a:ext cx="723888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籽粒样品多用于品质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因分析目的不同，籽粒样品的采集也有较大差异。有的采自单株，有的采自试验小区或大田试验，有的采自大批收获物。由于来源不同，样品的数量也差异较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般由单株上采集的籽粒须全部留作样品。其它情况下的采样同组织全量分析样的采集方法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3"/>
          <p:cNvSpPr/>
          <p:nvPr/>
        </p:nvSpPr>
        <p:spPr>
          <a:xfrm>
            <a:off x="2470320" y="457200"/>
            <a:ext cx="44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第四节  籽粒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2695680" y="127008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248520" y="127008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740040" y="207000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6248520" y="207000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499428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6248520" y="263052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7502400" y="263052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2695680" y="31910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9"/>
          <p:cNvSpPr/>
          <p:nvPr/>
        </p:nvSpPr>
        <p:spPr>
          <a:xfrm>
            <a:off x="374004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"/>
          <p:cNvSpPr/>
          <p:nvPr/>
        </p:nvSpPr>
        <p:spPr>
          <a:xfrm>
            <a:off x="499428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3"/>
          <p:cNvSpPr/>
          <p:nvPr/>
        </p:nvSpPr>
        <p:spPr>
          <a:xfrm>
            <a:off x="6248520" y="3191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7502400" y="3191040"/>
            <a:ext cx="64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2695680" y="5946840"/>
            <a:ext cx="468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8"/>
          <p:cNvSpPr/>
          <p:nvPr/>
        </p:nvSpPr>
        <p:spPr>
          <a:xfrm>
            <a:off x="374004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499428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6248520" y="6707160"/>
            <a:ext cx="612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1"/>
          <p:cNvSpPr/>
          <p:nvPr/>
        </p:nvSpPr>
        <p:spPr>
          <a:xfrm>
            <a:off x="7502400" y="6707160"/>
            <a:ext cx="648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447920" y="2237040"/>
            <a:ext cx="64767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多点采集后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脱粒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，混匀，用四分法缩分至：小粒种子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250g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，大粒种子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500g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将籽粒样品风干、去杂、挑去不完整的粒。用磨样机或碾钵磨碎，全部通过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0.25-1.0mm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筛，贮存于广口瓶中，贴好标签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144880" y="7621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籽粒样品的采集制备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53"/>
          <p:cNvSpPr/>
          <p:nvPr/>
        </p:nvSpPr>
        <p:spPr>
          <a:xfrm>
            <a:off x="914400" y="2665440"/>
            <a:ext cx="746748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对于有壳的籽粒，如花生、棉籽、向日葵等应去掉果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油料植物的种子在粉碎时会损失部分油分，为减少损失，可不粉碎，用刀切成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.5mm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薄片供分析使用；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也可在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75℃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的温度下，干燥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15-18h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，取出，用碾钵击碎、不碾磨，供分析用，但应注明为烘干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54"/>
          <p:cNvSpPr/>
          <p:nvPr/>
        </p:nvSpPr>
        <p:spPr>
          <a:xfrm>
            <a:off x="1180080" y="304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注意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27"/>
          <p:cNvSpPr/>
          <p:nvPr/>
        </p:nvSpPr>
        <p:spPr>
          <a:xfrm>
            <a:off x="380880" y="2496600"/>
            <a:ext cx="8425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瓜果样品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是泛指蔬菜、水果中的果实、浆果、块根、块茎等。由于瓜果的成熟期较长，采样应根据需要确定采集成熟期样品或在成熟过程中采集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-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集时注意从不同地方的不同样株上采集簇位相同、成熟度一致的组成平均样。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较小的瓜果如辣椒等，不少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个；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番茄、洋葱、马铃薯等不少于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个；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黄瓜、茄子、萝卜等不少于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个；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较大的如西瓜、白菜、甘蓝等不少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数量较多时，可切取果实的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/4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左右组成平均样，总重以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kg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为宜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28"/>
          <p:cNvSpPr/>
          <p:nvPr/>
        </p:nvSpPr>
        <p:spPr>
          <a:xfrm>
            <a:off x="2318040" y="457200"/>
            <a:ext cx="44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第五节  瓜果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7ffff"/>
            </a:gs>
            <a:gs pos="100000">
              <a:srgbClr val="ebd7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17"/>
          <p:cNvGrpSpPr/>
          <p:nvPr/>
        </p:nvGrpSpPr>
        <p:grpSpPr>
          <a:xfrm>
            <a:off x="0" y="4648320"/>
            <a:ext cx="9142200" cy="2209680"/>
            <a:chOff x="0" y="4648320"/>
            <a:chExt cx="9142200" cy="2209680"/>
          </a:xfrm>
        </p:grpSpPr>
        <p:grpSp>
          <p:nvGrpSpPr>
            <p:cNvPr id="399" name="Group 16"/>
            <p:cNvGrpSpPr/>
            <p:nvPr/>
          </p:nvGrpSpPr>
          <p:grpSpPr>
            <a:xfrm>
              <a:off x="0" y="4812480"/>
              <a:ext cx="2590560" cy="2044800"/>
              <a:chOff x="0" y="4812480"/>
              <a:chExt cx="2590560" cy="2044800"/>
            </a:xfrm>
          </p:grpSpPr>
          <p:grpSp>
            <p:nvGrpSpPr>
              <p:cNvPr id="400" name="Group 66"/>
              <p:cNvGrpSpPr/>
              <p:nvPr/>
            </p:nvGrpSpPr>
            <p:grpSpPr>
              <a:xfrm>
                <a:off x="1141560" y="5046840"/>
                <a:ext cx="273960" cy="1810440"/>
                <a:chOff x="1141560" y="5046840"/>
                <a:chExt cx="273960" cy="1810440"/>
              </a:xfrm>
            </p:grpSpPr>
            <p:sp>
              <p:nvSpPr>
                <p:cNvPr id="401" name="Freeform 67"/>
                <p:cNvSpPr/>
                <p:nvPr/>
              </p:nvSpPr>
              <p:spPr>
                <a:xfrm>
                  <a:off x="1141560" y="5046840"/>
                  <a:ext cx="273960" cy="181044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1810440"/>
                    <a:gd name="textAreaBottom" fmla="*/ 1810800 h 1810440"/>
                  </a:gdLst>
                  <a:ahLst/>
                  <a:rect l="textAreaLeft" t="textAreaTop" r="textAreaRight" b="textAreaBottom"/>
                  <a:pathLst>
                    <a:path w="313" h="2577">
                      <a:moveTo>
                        <a:pt x="195" y="0"/>
                      </a:moveTo>
                      <a:lnTo>
                        <a:pt x="276" y="1303"/>
                      </a:lnTo>
                      <a:lnTo>
                        <a:pt x="268" y="1638"/>
                      </a:lnTo>
                      <a:lnTo>
                        <a:pt x="269" y="1893"/>
                      </a:lnTo>
                      <a:lnTo>
                        <a:pt x="268" y="1963"/>
                      </a:lnTo>
                      <a:lnTo>
                        <a:pt x="265" y="2072"/>
                      </a:lnTo>
                      <a:lnTo>
                        <a:pt x="276" y="2181"/>
                      </a:lnTo>
                      <a:lnTo>
                        <a:pt x="273" y="2318"/>
                      </a:lnTo>
                      <a:lnTo>
                        <a:pt x="284" y="2439"/>
                      </a:lnTo>
                      <a:lnTo>
                        <a:pt x="313" y="2544"/>
                      </a:lnTo>
                      <a:lnTo>
                        <a:pt x="241" y="2553"/>
                      </a:lnTo>
                      <a:lnTo>
                        <a:pt x="184" y="2577"/>
                      </a:lnTo>
                      <a:lnTo>
                        <a:pt x="102" y="2569"/>
                      </a:lnTo>
                      <a:lnTo>
                        <a:pt x="42" y="2569"/>
                      </a:lnTo>
                      <a:lnTo>
                        <a:pt x="0" y="2540"/>
                      </a:lnTo>
                      <a:lnTo>
                        <a:pt x="9" y="2435"/>
                      </a:lnTo>
                      <a:lnTo>
                        <a:pt x="25" y="2318"/>
                      </a:lnTo>
                      <a:lnTo>
                        <a:pt x="24" y="2106"/>
                      </a:lnTo>
                      <a:lnTo>
                        <a:pt x="25" y="2043"/>
                      </a:lnTo>
                      <a:lnTo>
                        <a:pt x="25" y="1893"/>
                      </a:lnTo>
                      <a:lnTo>
                        <a:pt x="25" y="1759"/>
                      </a:lnTo>
                      <a:lnTo>
                        <a:pt x="40" y="1629"/>
                      </a:lnTo>
                      <a:lnTo>
                        <a:pt x="32" y="1069"/>
                      </a:lnTo>
                      <a:lnTo>
                        <a:pt x="32" y="367"/>
                      </a:lnTo>
                      <a:lnTo>
                        <a:pt x="56" y="92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68"/>
                <p:cNvSpPr/>
                <p:nvPr/>
              </p:nvSpPr>
              <p:spPr>
                <a:xfrm>
                  <a:off x="1149840" y="6200640"/>
                  <a:ext cx="166680" cy="63684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636840"/>
                    <a:gd name="textAreaBottom" fmla="*/ 637200 h 636840"/>
                  </a:gdLst>
                  <a:ahLst/>
                  <a:rect l="textAreaLeft" t="textAreaTop" r="textAreaRight" b="textAreaBottom"/>
                  <a:pathLst>
                    <a:path w="191" h="907">
                      <a:moveTo>
                        <a:pt x="61" y="0"/>
                      </a:moveTo>
                      <a:lnTo>
                        <a:pt x="121" y="46"/>
                      </a:lnTo>
                      <a:lnTo>
                        <a:pt x="191" y="75"/>
                      </a:lnTo>
                      <a:lnTo>
                        <a:pt x="146" y="79"/>
                      </a:lnTo>
                      <a:lnTo>
                        <a:pt x="77" y="66"/>
                      </a:lnTo>
                      <a:lnTo>
                        <a:pt x="105" y="117"/>
                      </a:lnTo>
                      <a:lnTo>
                        <a:pt x="171" y="158"/>
                      </a:lnTo>
                      <a:lnTo>
                        <a:pt x="93" y="163"/>
                      </a:lnTo>
                      <a:lnTo>
                        <a:pt x="65" y="187"/>
                      </a:lnTo>
                      <a:lnTo>
                        <a:pt x="97" y="229"/>
                      </a:lnTo>
                      <a:lnTo>
                        <a:pt x="154" y="262"/>
                      </a:lnTo>
                      <a:lnTo>
                        <a:pt x="61" y="271"/>
                      </a:lnTo>
                      <a:lnTo>
                        <a:pt x="53" y="309"/>
                      </a:lnTo>
                      <a:lnTo>
                        <a:pt x="61" y="346"/>
                      </a:lnTo>
                      <a:lnTo>
                        <a:pt x="129" y="396"/>
                      </a:lnTo>
                      <a:lnTo>
                        <a:pt x="171" y="396"/>
                      </a:lnTo>
                      <a:lnTo>
                        <a:pt x="101" y="418"/>
                      </a:lnTo>
                      <a:lnTo>
                        <a:pt x="57" y="421"/>
                      </a:lnTo>
                      <a:lnTo>
                        <a:pt x="85" y="464"/>
                      </a:lnTo>
                      <a:lnTo>
                        <a:pt x="133" y="506"/>
                      </a:lnTo>
                      <a:lnTo>
                        <a:pt x="57" y="546"/>
                      </a:lnTo>
                      <a:lnTo>
                        <a:pt x="57" y="647"/>
                      </a:lnTo>
                      <a:lnTo>
                        <a:pt x="93" y="751"/>
                      </a:lnTo>
                      <a:lnTo>
                        <a:pt x="49" y="781"/>
                      </a:lnTo>
                      <a:lnTo>
                        <a:pt x="129" y="802"/>
                      </a:lnTo>
                      <a:lnTo>
                        <a:pt x="41" y="814"/>
                      </a:lnTo>
                      <a:lnTo>
                        <a:pt x="146" y="848"/>
                      </a:lnTo>
                      <a:lnTo>
                        <a:pt x="37" y="860"/>
                      </a:lnTo>
                      <a:lnTo>
                        <a:pt x="109" y="885"/>
                      </a:lnTo>
                      <a:lnTo>
                        <a:pt x="146" y="907"/>
                      </a:lnTo>
                      <a:lnTo>
                        <a:pt x="69" y="907"/>
                      </a:lnTo>
                      <a:lnTo>
                        <a:pt x="0" y="898"/>
                      </a:lnTo>
                      <a:lnTo>
                        <a:pt x="16" y="806"/>
                      </a:lnTo>
                      <a:lnTo>
                        <a:pt x="33" y="731"/>
                      </a:lnTo>
                      <a:lnTo>
                        <a:pt x="28" y="618"/>
                      </a:lnTo>
                      <a:lnTo>
                        <a:pt x="33" y="467"/>
                      </a:lnTo>
                      <a:lnTo>
                        <a:pt x="24" y="350"/>
                      </a:lnTo>
                      <a:lnTo>
                        <a:pt x="33" y="205"/>
                      </a:lnTo>
                      <a:lnTo>
                        <a:pt x="45" y="137"/>
                      </a:lnTo>
                      <a:lnTo>
                        <a:pt x="45" y="6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69"/>
              <p:cNvGrpSpPr/>
              <p:nvPr/>
            </p:nvGrpSpPr>
            <p:grpSpPr>
              <a:xfrm>
                <a:off x="1198440" y="4812480"/>
                <a:ext cx="1392120" cy="1812600"/>
                <a:chOff x="1198440" y="4812480"/>
                <a:chExt cx="1392120" cy="1812600"/>
              </a:xfrm>
            </p:grpSpPr>
            <p:sp>
              <p:nvSpPr>
                <p:cNvPr id="404" name="Freeform 70"/>
                <p:cNvSpPr/>
                <p:nvPr/>
              </p:nvSpPr>
              <p:spPr>
                <a:xfrm>
                  <a:off x="1198440" y="4812480"/>
                  <a:ext cx="669960" cy="492840"/>
                </a:xfrm>
                <a:custGeom>
                  <a:avLst/>
                  <a:gdLst>
                    <a:gd name="textAreaLeft" fmla="*/ 0 w 669960"/>
                    <a:gd name="textAreaRight" fmla="*/ 670320 w 669960"/>
                    <a:gd name="textAreaTop" fmla="*/ 0 h 492840"/>
                    <a:gd name="textAreaBottom" fmla="*/ 493200 h 492840"/>
                  </a:gdLst>
                  <a:ahLst/>
                  <a:rect l="textAreaLeft" t="textAreaTop" r="textAreaRight" b="textAreaBottom"/>
                  <a:pathLst>
                    <a:path w="769" h="700">
                      <a:moveTo>
                        <a:pt x="155" y="108"/>
                      </a:moveTo>
                      <a:lnTo>
                        <a:pt x="212" y="200"/>
                      </a:lnTo>
                      <a:lnTo>
                        <a:pt x="276" y="284"/>
                      </a:lnTo>
                      <a:lnTo>
                        <a:pt x="381" y="367"/>
                      </a:lnTo>
                      <a:lnTo>
                        <a:pt x="486" y="434"/>
                      </a:lnTo>
                      <a:lnTo>
                        <a:pt x="632" y="500"/>
                      </a:lnTo>
                      <a:lnTo>
                        <a:pt x="769" y="526"/>
                      </a:lnTo>
                      <a:lnTo>
                        <a:pt x="761" y="542"/>
                      </a:lnTo>
                      <a:lnTo>
                        <a:pt x="640" y="533"/>
                      </a:lnTo>
                      <a:lnTo>
                        <a:pt x="688" y="584"/>
                      </a:lnTo>
                      <a:lnTo>
                        <a:pt x="737" y="617"/>
                      </a:lnTo>
                      <a:lnTo>
                        <a:pt x="672" y="601"/>
                      </a:lnTo>
                      <a:lnTo>
                        <a:pt x="608" y="542"/>
                      </a:lnTo>
                      <a:lnTo>
                        <a:pt x="616" y="592"/>
                      </a:lnTo>
                      <a:lnTo>
                        <a:pt x="664" y="643"/>
                      </a:lnTo>
                      <a:lnTo>
                        <a:pt x="721" y="693"/>
                      </a:lnTo>
                      <a:lnTo>
                        <a:pt x="688" y="693"/>
                      </a:lnTo>
                      <a:lnTo>
                        <a:pt x="608" y="625"/>
                      </a:lnTo>
                      <a:lnTo>
                        <a:pt x="567" y="568"/>
                      </a:lnTo>
                      <a:lnTo>
                        <a:pt x="591" y="643"/>
                      </a:lnTo>
                      <a:lnTo>
                        <a:pt x="648" y="700"/>
                      </a:lnTo>
                      <a:lnTo>
                        <a:pt x="567" y="651"/>
                      </a:lnTo>
                      <a:lnTo>
                        <a:pt x="527" y="592"/>
                      </a:lnTo>
                      <a:lnTo>
                        <a:pt x="519" y="617"/>
                      </a:lnTo>
                      <a:lnTo>
                        <a:pt x="527" y="667"/>
                      </a:lnTo>
                      <a:lnTo>
                        <a:pt x="503" y="667"/>
                      </a:lnTo>
                      <a:lnTo>
                        <a:pt x="470" y="608"/>
                      </a:lnTo>
                      <a:lnTo>
                        <a:pt x="446" y="601"/>
                      </a:lnTo>
                      <a:lnTo>
                        <a:pt x="454" y="651"/>
                      </a:lnTo>
                      <a:lnTo>
                        <a:pt x="470" y="676"/>
                      </a:lnTo>
                      <a:lnTo>
                        <a:pt x="438" y="676"/>
                      </a:lnTo>
                      <a:lnTo>
                        <a:pt x="406" y="617"/>
                      </a:lnTo>
                      <a:lnTo>
                        <a:pt x="373" y="568"/>
                      </a:lnTo>
                      <a:lnTo>
                        <a:pt x="381" y="617"/>
                      </a:lnTo>
                      <a:lnTo>
                        <a:pt x="406" y="651"/>
                      </a:lnTo>
                      <a:lnTo>
                        <a:pt x="357" y="625"/>
                      </a:lnTo>
                      <a:lnTo>
                        <a:pt x="317" y="509"/>
                      </a:lnTo>
                      <a:lnTo>
                        <a:pt x="309" y="550"/>
                      </a:lnTo>
                      <a:lnTo>
                        <a:pt x="325" y="601"/>
                      </a:lnTo>
                      <a:lnTo>
                        <a:pt x="341" y="634"/>
                      </a:lnTo>
                      <a:lnTo>
                        <a:pt x="317" y="651"/>
                      </a:lnTo>
                      <a:lnTo>
                        <a:pt x="284" y="601"/>
                      </a:lnTo>
                      <a:lnTo>
                        <a:pt x="268" y="550"/>
                      </a:lnTo>
                      <a:lnTo>
                        <a:pt x="260" y="592"/>
                      </a:lnTo>
                      <a:lnTo>
                        <a:pt x="276" y="617"/>
                      </a:lnTo>
                      <a:lnTo>
                        <a:pt x="260" y="634"/>
                      </a:lnTo>
                      <a:lnTo>
                        <a:pt x="244" y="592"/>
                      </a:lnTo>
                      <a:lnTo>
                        <a:pt x="220" y="550"/>
                      </a:lnTo>
                      <a:lnTo>
                        <a:pt x="179" y="467"/>
                      </a:lnTo>
                      <a:lnTo>
                        <a:pt x="171" y="493"/>
                      </a:lnTo>
                      <a:lnTo>
                        <a:pt x="179" y="550"/>
                      </a:lnTo>
                      <a:lnTo>
                        <a:pt x="196" y="608"/>
                      </a:lnTo>
                      <a:lnTo>
                        <a:pt x="171" y="608"/>
                      </a:lnTo>
                      <a:lnTo>
                        <a:pt x="155" y="542"/>
                      </a:lnTo>
                      <a:lnTo>
                        <a:pt x="139" y="458"/>
                      </a:lnTo>
                      <a:lnTo>
                        <a:pt x="123" y="517"/>
                      </a:lnTo>
                      <a:lnTo>
                        <a:pt x="123" y="559"/>
                      </a:lnTo>
                      <a:lnTo>
                        <a:pt x="97" y="517"/>
                      </a:lnTo>
                      <a:lnTo>
                        <a:pt x="105" y="451"/>
                      </a:lnTo>
                      <a:lnTo>
                        <a:pt x="89" y="392"/>
                      </a:lnTo>
                      <a:lnTo>
                        <a:pt x="73" y="484"/>
                      </a:lnTo>
                      <a:lnTo>
                        <a:pt x="73" y="533"/>
                      </a:lnTo>
                      <a:lnTo>
                        <a:pt x="57" y="509"/>
                      </a:lnTo>
                      <a:lnTo>
                        <a:pt x="49" y="434"/>
                      </a:lnTo>
                      <a:lnTo>
                        <a:pt x="49" y="341"/>
                      </a:lnTo>
                      <a:lnTo>
                        <a:pt x="49" y="275"/>
                      </a:lnTo>
                      <a:lnTo>
                        <a:pt x="25" y="333"/>
                      </a:lnTo>
                      <a:lnTo>
                        <a:pt x="33" y="392"/>
                      </a:lnTo>
                      <a:lnTo>
                        <a:pt x="8" y="400"/>
                      </a:lnTo>
                      <a:lnTo>
                        <a:pt x="0" y="341"/>
                      </a:lnTo>
                      <a:lnTo>
                        <a:pt x="8" y="242"/>
                      </a:lnTo>
                      <a:lnTo>
                        <a:pt x="41" y="150"/>
                      </a:lnTo>
                      <a:lnTo>
                        <a:pt x="49" y="91"/>
                      </a:lnTo>
                      <a:lnTo>
                        <a:pt x="49" y="0"/>
                      </a:lnTo>
                      <a:lnTo>
                        <a:pt x="155" y="108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71"/>
                <p:cNvSpPr/>
                <p:nvPr/>
              </p:nvSpPr>
              <p:spPr>
                <a:xfrm>
                  <a:off x="1255680" y="5035680"/>
                  <a:ext cx="748080" cy="502920"/>
                </a:xfrm>
                <a:custGeom>
                  <a:avLst/>
                  <a:gdLst>
                    <a:gd name="textAreaLeft" fmla="*/ 0 w 748080"/>
                    <a:gd name="textAreaRight" fmla="*/ 748440 w 748080"/>
                    <a:gd name="textAreaTop" fmla="*/ 0 h 502920"/>
                    <a:gd name="textAreaBottom" fmla="*/ 503280 h 502920"/>
                  </a:gdLst>
                  <a:ahLst/>
                  <a:rect l="textAreaLeft" t="textAreaTop" r="textAreaRight" b="textAreaBottom"/>
                  <a:pathLst>
                    <a:path w="858" h="717">
                      <a:moveTo>
                        <a:pt x="173" y="109"/>
                      </a:moveTo>
                      <a:lnTo>
                        <a:pt x="236" y="204"/>
                      </a:lnTo>
                      <a:lnTo>
                        <a:pt x="307" y="289"/>
                      </a:lnTo>
                      <a:lnTo>
                        <a:pt x="424" y="376"/>
                      </a:lnTo>
                      <a:lnTo>
                        <a:pt x="542" y="444"/>
                      </a:lnTo>
                      <a:lnTo>
                        <a:pt x="704" y="512"/>
                      </a:lnTo>
                      <a:lnTo>
                        <a:pt x="858" y="537"/>
                      </a:lnTo>
                      <a:lnTo>
                        <a:pt x="850" y="555"/>
                      </a:lnTo>
                      <a:lnTo>
                        <a:pt x="713" y="546"/>
                      </a:lnTo>
                      <a:lnTo>
                        <a:pt x="768" y="597"/>
                      </a:lnTo>
                      <a:lnTo>
                        <a:pt x="823" y="632"/>
                      </a:lnTo>
                      <a:lnTo>
                        <a:pt x="749" y="615"/>
                      </a:lnTo>
                      <a:lnTo>
                        <a:pt x="678" y="555"/>
                      </a:lnTo>
                      <a:lnTo>
                        <a:pt x="686" y="606"/>
                      </a:lnTo>
                      <a:lnTo>
                        <a:pt x="739" y="657"/>
                      </a:lnTo>
                      <a:lnTo>
                        <a:pt x="804" y="708"/>
                      </a:lnTo>
                      <a:lnTo>
                        <a:pt x="768" y="708"/>
                      </a:lnTo>
                      <a:lnTo>
                        <a:pt x="678" y="640"/>
                      </a:lnTo>
                      <a:lnTo>
                        <a:pt x="632" y="581"/>
                      </a:lnTo>
                      <a:lnTo>
                        <a:pt x="659" y="657"/>
                      </a:lnTo>
                      <a:lnTo>
                        <a:pt x="722" y="717"/>
                      </a:lnTo>
                      <a:lnTo>
                        <a:pt x="632" y="666"/>
                      </a:lnTo>
                      <a:lnTo>
                        <a:pt x="587" y="606"/>
                      </a:lnTo>
                      <a:lnTo>
                        <a:pt x="578" y="632"/>
                      </a:lnTo>
                      <a:lnTo>
                        <a:pt x="587" y="684"/>
                      </a:lnTo>
                      <a:lnTo>
                        <a:pt x="560" y="684"/>
                      </a:lnTo>
                      <a:lnTo>
                        <a:pt x="524" y="624"/>
                      </a:lnTo>
                      <a:lnTo>
                        <a:pt x="497" y="615"/>
                      </a:lnTo>
                      <a:lnTo>
                        <a:pt x="505" y="666"/>
                      </a:lnTo>
                      <a:lnTo>
                        <a:pt x="524" y="691"/>
                      </a:lnTo>
                      <a:lnTo>
                        <a:pt x="488" y="691"/>
                      </a:lnTo>
                      <a:lnTo>
                        <a:pt x="451" y="632"/>
                      </a:lnTo>
                      <a:lnTo>
                        <a:pt x="415" y="581"/>
                      </a:lnTo>
                      <a:lnTo>
                        <a:pt x="424" y="632"/>
                      </a:lnTo>
                      <a:lnTo>
                        <a:pt x="451" y="666"/>
                      </a:lnTo>
                      <a:lnTo>
                        <a:pt x="398" y="640"/>
                      </a:lnTo>
                      <a:lnTo>
                        <a:pt x="353" y="521"/>
                      </a:lnTo>
                      <a:lnTo>
                        <a:pt x="344" y="564"/>
                      </a:lnTo>
                      <a:lnTo>
                        <a:pt x="361" y="615"/>
                      </a:lnTo>
                      <a:lnTo>
                        <a:pt x="380" y="648"/>
                      </a:lnTo>
                      <a:lnTo>
                        <a:pt x="353" y="666"/>
                      </a:lnTo>
                      <a:lnTo>
                        <a:pt x="317" y="615"/>
                      </a:lnTo>
                      <a:lnTo>
                        <a:pt x="298" y="564"/>
                      </a:lnTo>
                      <a:lnTo>
                        <a:pt x="290" y="606"/>
                      </a:lnTo>
                      <a:lnTo>
                        <a:pt x="307" y="632"/>
                      </a:lnTo>
                      <a:lnTo>
                        <a:pt x="290" y="648"/>
                      </a:lnTo>
                      <a:lnTo>
                        <a:pt x="271" y="606"/>
                      </a:lnTo>
                      <a:lnTo>
                        <a:pt x="244" y="564"/>
                      </a:lnTo>
                      <a:lnTo>
                        <a:pt x="200" y="477"/>
                      </a:lnTo>
                      <a:lnTo>
                        <a:pt x="190" y="504"/>
                      </a:lnTo>
                      <a:lnTo>
                        <a:pt x="200" y="564"/>
                      </a:lnTo>
                      <a:lnTo>
                        <a:pt x="217" y="624"/>
                      </a:lnTo>
                      <a:lnTo>
                        <a:pt x="190" y="624"/>
                      </a:lnTo>
                      <a:lnTo>
                        <a:pt x="173" y="555"/>
                      </a:lnTo>
                      <a:lnTo>
                        <a:pt x="154" y="469"/>
                      </a:lnTo>
                      <a:lnTo>
                        <a:pt x="136" y="528"/>
                      </a:lnTo>
                      <a:lnTo>
                        <a:pt x="136" y="572"/>
                      </a:lnTo>
                      <a:lnTo>
                        <a:pt x="109" y="528"/>
                      </a:lnTo>
                      <a:lnTo>
                        <a:pt x="119" y="461"/>
                      </a:lnTo>
                      <a:lnTo>
                        <a:pt x="100" y="401"/>
                      </a:lnTo>
                      <a:lnTo>
                        <a:pt x="83" y="495"/>
                      </a:lnTo>
                      <a:lnTo>
                        <a:pt x="83" y="546"/>
                      </a:lnTo>
                      <a:lnTo>
                        <a:pt x="64" y="521"/>
                      </a:lnTo>
                      <a:lnTo>
                        <a:pt x="56" y="444"/>
                      </a:lnTo>
                      <a:lnTo>
                        <a:pt x="56" y="349"/>
                      </a:lnTo>
                      <a:lnTo>
                        <a:pt x="56" y="281"/>
                      </a:lnTo>
                      <a:lnTo>
                        <a:pt x="27" y="341"/>
                      </a:lnTo>
                      <a:lnTo>
                        <a:pt x="35" y="401"/>
                      </a:lnTo>
                      <a:lnTo>
                        <a:pt x="8" y="409"/>
                      </a:lnTo>
                      <a:lnTo>
                        <a:pt x="0" y="349"/>
                      </a:lnTo>
                      <a:lnTo>
                        <a:pt x="8" y="247"/>
                      </a:lnTo>
                      <a:lnTo>
                        <a:pt x="46" y="153"/>
                      </a:lnTo>
                      <a:lnTo>
                        <a:pt x="56" y="93"/>
                      </a:lnTo>
                      <a:lnTo>
                        <a:pt x="56" y="0"/>
                      </a:lnTo>
                      <a:lnTo>
                        <a:pt x="173" y="109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72"/>
                <p:cNvSpPr/>
                <p:nvPr/>
              </p:nvSpPr>
              <p:spPr>
                <a:xfrm>
                  <a:off x="1269000" y="5270400"/>
                  <a:ext cx="960480" cy="552240"/>
                </a:xfrm>
                <a:custGeom>
                  <a:avLst/>
                  <a:gdLst>
                    <a:gd name="textAreaLeft" fmla="*/ 0 w 960480"/>
                    <a:gd name="textAreaRight" fmla="*/ 960840 w 960480"/>
                    <a:gd name="textAreaTop" fmla="*/ 0 h 552240"/>
                    <a:gd name="textAreaBottom" fmla="*/ 552600 h 552240"/>
                  </a:gdLst>
                  <a:ahLst/>
                  <a:rect l="textAreaLeft" t="textAreaTop" r="textAreaRight" b="textAreaBottom"/>
                  <a:pathLst>
                    <a:path w="1099" h="787">
                      <a:moveTo>
                        <a:pt x="220" y="119"/>
                      </a:moveTo>
                      <a:lnTo>
                        <a:pt x="302" y="224"/>
                      </a:lnTo>
                      <a:lnTo>
                        <a:pt x="394" y="317"/>
                      </a:lnTo>
                      <a:lnTo>
                        <a:pt x="543" y="412"/>
                      </a:lnTo>
                      <a:lnTo>
                        <a:pt x="694" y="486"/>
                      </a:lnTo>
                      <a:lnTo>
                        <a:pt x="904" y="561"/>
                      </a:lnTo>
                      <a:lnTo>
                        <a:pt x="1099" y="589"/>
                      </a:lnTo>
                      <a:lnTo>
                        <a:pt x="1090" y="608"/>
                      </a:lnTo>
                      <a:lnTo>
                        <a:pt x="915" y="599"/>
                      </a:lnTo>
                      <a:lnTo>
                        <a:pt x="986" y="654"/>
                      </a:lnTo>
                      <a:lnTo>
                        <a:pt x="1055" y="694"/>
                      </a:lnTo>
                      <a:lnTo>
                        <a:pt x="962" y="673"/>
                      </a:lnTo>
                      <a:lnTo>
                        <a:pt x="871" y="608"/>
                      </a:lnTo>
                      <a:lnTo>
                        <a:pt x="880" y="666"/>
                      </a:lnTo>
                      <a:lnTo>
                        <a:pt x="950" y="719"/>
                      </a:lnTo>
                      <a:lnTo>
                        <a:pt x="1031" y="776"/>
                      </a:lnTo>
                      <a:lnTo>
                        <a:pt x="986" y="776"/>
                      </a:lnTo>
                      <a:lnTo>
                        <a:pt x="871" y="701"/>
                      </a:lnTo>
                      <a:lnTo>
                        <a:pt x="811" y="636"/>
                      </a:lnTo>
                      <a:lnTo>
                        <a:pt x="846" y="719"/>
                      </a:lnTo>
                      <a:lnTo>
                        <a:pt x="927" y="787"/>
                      </a:lnTo>
                      <a:lnTo>
                        <a:pt x="811" y="731"/>
                      </a:lnTo>
                      <a:lnTo>
                        <a:pt x="753" y="666"/>
                      </a:lnTo>
                      <a:lnTo>
                        <a:pt x="741" y="694"/>
                      </a:lnTo>
                      <a:lnTo>
                        <a:pt x="753" y="748"/>
                      </a:lnTo>
                      <a:lnTo>
                        <a:pt x="718" y="748"/>
                      </a:lnTo>
                      <a:lnTo>
                        <a:pt x="671" y="683"/>
                      </a:lnTo>
                      <a:lnTo>
                        <a:pt x="638" y="673"/>
                      </a:lnTo>
                      <a:lnTo>
                        <a:pt x="647" y="731"/>
                      </a:lnTo>
                      <a:lnTo>
                        <a:pt x="671" y="759"/>
                      </a:lnTo>
                      <a:lnTo>
                        <a:pt x="626" y="759"/>
                      </a:lnTo>
                      <a:lnTo>
                        <a:pt x="578" y="694"/>
                      </a:lnTo>
                      <a:lnTo>
                        <a:pt x="531" y="636"/>
                      </a:lnTo>
                      <a:lnTo>
                        <a:pt x="543" y="694"/>
                      </a:lnTo>
                      <a:lnTo>
                        <a:pt x="578" y="731"/>
                      </a:lnTo>
                      <a:lnTo>
                        <a:pt x="510" y="701"/>
                      </a:lnTo>
                      <a:lnTo>
                        <a:pt x="452" y="570"/>
                      </a:lnTo>
                      <a:lnTo>
                        <a:pt x="440" y="618"/>
                      </a:lnTo>
                      <a:lnTo>
                        <a:pt x="463" y="673"/>
                      </a:lnTo>
                      <a:lnTo>
                        <a:pt x="487" y="711"/>
                      </a:lnTo>
                      <a:lnTo>
                        <a:pt x="452" y="731"/>
                      </a:lnTo>
                      <a:lnTo>
                        <a:pt x="406" y="673"/>
                      </a:lnTo>
                      <a:lnTo>
                        <a:pt x="382" y="618"/>
                      </a:lnTo>
                      <a:lnTo>
                        <a:pt x="371" y="666"/>
                      </a:lnTo>
                      <a:lnTo>
                        <a:pt x="394" y="694"/>
                      </a:lnTo>
                      <a:lnTo>
                        <a:pt x="371" y="711"/>
                      </a:lnTo>
                      <a:lnTo>
                        <a:pt x="347" y="666"/>
                      </a:lnTo>
                      <a:lnTo>
                        <a:pt x="312" y="618"/>
                      </a:lnTo>
                      <a:lnTo>
                        <a:pt x="255" y="523"/>
                      </a:lnTo>
                      <a:lnTo>
                        <a:pt x="243" y="552"/>
                      </a:lnTo>
                      <a:lnTo>
                        <a:pt x="255" y="618"/>
                      </a:lnTo>
                      <a:lnTo>
                        <a:pt x="278" y="683"/>
                      </a:lnTo>
                      <a:lnTo>
                        <a:pt x="243" y="683"/>
                      </a:lnTo>
                      <a:lnTo>
                        <a:pt x="220" y="608"/>
                      </a:lnTo>
                      <a:lnTo>
                        <a:pt x="196" y="514"/>
                      </a:lnTo>
                      <a:lnTo>
                        <a:pt x="175" y="579"/>
                      </a:lnTo>
                      <a:lnTo>
                        <a:pt x="175" y="626"/>
                      </a:lnTo>
                      <a:lnTo>
                        <a:pt x="140" y="579"/>
                      </a:lnTo>
                      <a:lnTo>
                        <a:pt x="152" y="505"/>
                      </a:lnTo>
                      <a:lnTo>
                        <a:pt x="127" y="439"/>
                      </a:lnTo>
                      <a:lnTo>
                        <a:pt x="105" y="543"/>
                      </a:lnTo>
                      <a:lnTo>
                        <a:pt x="105" y="599"/>
                      </a:lnTo>
                      <a:lnTo>
                        <a:pt x="80" y="570"/>
                      </a:lnTo>
                      <a:lnTo>
                        <a:pt x="71" y="486"/>
                      </a:lnTo>
                      <a:lnTo>
                        <a:pt x="71" y="383"/>
                      </a:lnTo>
                      <a:lnTo>
                        <a:pt x="71" y="308"/>
                      </a:lnTo>
                      <a:lnTo>
                        <a:pt x="36" y="373"/>
                      </a:lnTo>
                      <a:lnTo>
                        <a:pt x="47" y="439"/>
                      </a:lnTo>
                      <a:lnTo>
                        <a:pt x="10" y="448"/>
                      </a:lnTo>
                      <a:lnTo>
                        <a:pt x="0" y="383"/>
                      </a:lnTo>
                      <a:lnTo>
                        <a:pt x="10" y="271"/>
                      </a:lnTo>
                      <a:lnTo>
                        <a:pt x="59" y="166"/>
                      </a:lnTo>
                      <a:lnTo>
                        <a:pt x="71" y="101"/>
                      </a:lnTo>
                      <a:lnTo>
                        <a:pt x="71" y="0"/>
                      </a:lnTo>
                      <a:lnTo>
                        <a:pt x="220" y="119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73"/>
                <p:cNvSpPr/>
                <p:nvPr/>
              </p:nvSpPr>
              <p:spPr>
                <a:xfrm>
                  <a:off x="1297800" y="5534640"/>
                  <a:ext cx="1127520" cy="628200"/>
                </a:xfrm>
                <a:custGeom>
                  <a:avLst/>
                  <a:gdLst>
                    <a:gd name="textAreaLeft" fmla="*/ 0 w 1127520"/>
                    <a:gd name="textAreaRight" fmla="*/ 1127880 w 1127520"/>
                    <a:gd name="textAreaTop" fmla="*/ 0 h 628200"/>
                    <a:gd name="textAreaBottom" fmla="*/ 628560 h 628200"/>
                  </a:gdLst>
                  <a:ahLst/>
                  <a:rect l="textAreaLeft" t="textAreaTop" r="textAreaRight" b="textAreaBottom"/>
                  <a:pathLst>
                    <a:path w="1294" h="894">
                      <a:moveTo>
                        <a:pt x="113" y="68"/>
                      </a:moveTo>
                      <a:lnTo>
                        <a:pt x="283" y="235"/>
                      </a:lnTo>
                      <a:lnTo>
                        <a:pt x="565" y="385"/>
                      </a:lnTo>
                      <a:lnTo>
                        <a:pt x="760" y="443"/>
                      </a:lnTo>
                      <a:lnTo>
                        <a:pt x="914" y="476"/>
                      </a:lnTo>
                      <a:lnTo>
                        <a:pt x="1156" y="519"/>
                      </a:lnTo>
                      <a:lnTo>
                        <a:pt x="1229" y="544"/>
                      </a:lnTo>
                      <a:lnTo>
                        <a:pt x="1213" y="552"/>
                      </a:lnTo>
                      <a:lnTo>
                        <a:pt x="1076" y="544"/>
                      </a:lnTo>
                      <a:lnTo>
                        <a:pt x="1116" y="603"/>
                      </a:lnTo>
                      <a:lnTo>
                        <a:pt x="1189" y="669"/>
                      </a:lnTo>
                      <a:lnTo>
                        <a:pt x="1294" y="702"/>
                      </a:lnTo>
                      <a:lnTo>
                        <a:pt x="1221" y="702"/>
                      </a:lnTo>
                      <a:lnTo>
                        <a:pt x="1092" y="643"/>
                      </a:lnTo>
                      <a:lnTo>
                        <a:pt x="1132" y="702"/>
                      </a:lnTo>
                      <a:lnTo>
                        <a:pt x="1181" y="753"/>
                      </a:lnTo>
                      <a:lnTo>
                        <a:pt x="1253" y="803"/>
                      </a:lnTo>
                      <a:lnTo>
                        <a:pt x="1205" y="811"/>
                      </a:lnTo>
                      <a:lnTo>
                        <a:pt x="1067" y="702"/>
                      </a:lnTo>
                      <a:lnTo>
                        <a:pt x="1011" y="643"/>
                      </a:lnTo>
                      <a:lnTo>
                        <a:pt x="1059" y="769"/>
                      </a:lnTo>
                      <a:lnTo>
                        <a:pt x="1100" y="845"/>
                      </a:lnTo>
                      <a:lnTo>
                        <a:pt x="1140" y="894"/>
                      </a:lnTo>
                      <a:lnTo>
                        <a:pt x="1100" y="894"/>
                      </a:lnTo>
                      <a:lnTo>
                        <a:pt x="1043" y="786"/>
                      </a:lnTo>
                      <a:lnTo>
                        <a:pt x="946" y="652"/>
                      </a:lnTo>
                      <a:lnTo>
                        <a:pt x="930" y="736"/>
                      </a:lnTo>
                      <a:lnTo>
                        <a:pt x="946" y="803"/>
                      </a:lnTo>
                      <a:lnTo>
                        <a:pt x="971" y="870"/>
                      </a:lnTo>
                      <a:lnTo>
                        <a:pt x="914" y="819"/>
                      </a:lnTo>
                      <a:lnTo>
                        <a:pt x="898" y="744"/>
                      </a:lnTo>
                      <a:lnTo>
                        <a:pt x="890" y="636"/>
                      </a:lnTo>
                      <a:lnTo>
                        <a:pt x="857" y="694"/>
                      </a:lnTo>
                      <a:lnTo>
                        <a:pt x="865" y="819"/>
                      </a:lnTo>
                      <a:lnTo>
                        <a:pt x="882" y="887"/>
                      </a:lnTo>
                      <a:lnTo>
                        <a:pt x="833" y="828"/>
                      </a:lnTo>
                      <a:lnTo>
                        <a:pt x="825" y="753"/>
                      </a:lnTo>
                      <a:lnTo>
                        <a:pt x="809" y="845"/>
                      </a:lnTo>
                      <a:lnTo>
                        <a:pt x="785" y="753"/>
                      </a:lnTo>
                      <a:lnTo>
                        <a:pt x="735" y="636"/>
                      </a:lnTo>
                      <a:lnTo>
                        <a:pt x="719" y="694"/>
                      </a:lnTo>
                      <a:lnTo>
                        <a:pt x="735" y="803"/>
                      </a:lnTo>
                      <a:lnTo>
                        <a:pt x="777" y="861"/>
                      </a:lnTo>
                      <a:lnTo>
                        <a:pt x="695" y="794"/>
                      </a:lnTo>
                      <a:lnTo>
                        <a:pt x="686" y="694"/>
                      </a:lnTo>
                      <a:lnTo>
                        <a:pt x="654" y="568"/>
                      </a:lnTo>
                      <a:lnTo>
                        <a:pt x="646" y="661"/>
                      </a:lnTo>
                      <a:lnTo>
                        <a:pt x="654" y="803"/>
                      </a:lnTo>
                      <a:lnTo>
                        <a:pt x="695" y="870"/>
                      </a:lnTo>
                      <a:lnTo>
                        <a:pt x="622" y="819"/>
                      </a:lnTo>
                      <a:lnTo>
                        <a:pt x="581" y="669"/>
                      </a:lnTo>
                      <a:lnTo>
                        <a:pt x="581" y="736"/>
                      </a:lnTo>
                      <a:lnTo>
                        <a:pt x="590" y="794"/>
                      </a:lnTo>
                      <a:lnTo>
                        <a:pt x="541" y="760"/>
                      </a:lnTo>
                      <a:lnTo>
                        <a:pt x="541" y="727"/>
                      </a:lnTo>
                      <a:lnTo>
                        <a:pt x="468" y="610"/>
                      </a:lnTo>
                      <a:lnTo>
                        <a:pt x="371" y="535"/>
                      </a:lnTo>
                      <a:lnTo>
                        <a:pt x="396" y="610"/>
                      </a:lnTo>
                      <a:lnTo>
                        <a:pt x="420" y="643"/>
                      </a:lnTo>
                      <a:lnTo>
                        <a:pt x="371" y="643"/>
                      </a:lnTo>
                      <a:lnTo>
                        <a:pt x="347" y="561"/>
                      </a:lnTo>
                      <a:lnTo>
                        <a:pt x="315" y="519"/>
                      </a:lnTo>
                      <a:lnTo>
                        <a:pt x="234" y="410"/>
                      </a:lnTo>
                      <a:lnTo>
                        <a:pt x="266" y="493"/>
                      </a:lnTo>
                      <a:lnTo>
                        <a:pt x="274" y="552"/>
                      </a:lnTo>
                      <a:lnTo>
                        <a:pt x="315" y="594"/>
                      </a:lnTo>
                      <a:lnTo>
                        <a:pt x="274" y="603"/>
                      </a:lnTo>
                      <a:lnTo>
                        <a:pt x="218" y="502"/>
                      </a:lnTo>
                      <a:lnTo>
                        <a:pt x="178" y="418"/>
                      </a:lnTo>
                      <a:lnTo>
                        <a:pt x="129" y="343"/>
                      </a:lnTo>
                      <a:lnTo>
                        <a:pt x="145" y="434"/>
                      </a:lnTo>
                      <a:lnTo>
                        <a:pt x="169" y="493"/>
                      </a:lnTo>
                      <a:lnTo>
                        <a:pt x="113" y="469"/>
                      </a:lnTo>
                      <a:lnTo>
                        <a:pt x="97" y="326"/>
                      </a:lnTo>
                      <a:lnTo>
                        <a:pt x="73" y="418"/>
                      </a:lnTo>
                      <a:lnTo>
                        <a:pt x="40" y="268"/>
                      </a:lnTo>
                      <a:lnTo>
                        <a:pt x="0" y="260"/>
                      </a:lnTo>
                      <a:lnTo>
                        <a:pt x="56" y="201"/>
                      </a:lnTo>
                      <a:lnTo>
                        <a:pt x="16" y="0"/>
                      </a:lnTo>
                      <a:lnTo>
                        <a:pt x="113" y="68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74"/>
                <p:cNvSpPr/>
                <p:nvPr/>
              </p:nvSpPr>
              <p:spPr>
                <a:xfrm>
                  <a:off x="1334880" y="5763600"/>
                  <a:ext cx="1177200" cy="656280"/>
                </a:xfrm>
                <a:custGeom>
                  <a:avLst/>
                  <a:gdLst>
                    <a:gd name="textAreaLeft" fmla="*/ 0 w 1177200"/>
                    <a:gd name="textAreaRight" fmla="*/ 1177560 w 1177200"/>
                    <a:gd name="textAreaTop" fmla="*/ 0 h 656280"/>
                    <a:gd name="textAreaBottom" fmla="*/ 656640 h 656280"/>
                  </a:gdLst>
                  <a:ahLst/>
                  <a:rect l="textAreaLeft" t="textAreaTop" r="textAreaRight" b="textAreaBottom"/>
                  <a:pathLst>
                    <a:path w="1349" h="935">
                      <a:moveTo>
                        <a:pt x="117" y="70"/>
                      </a:moveTo>
                      <a:lnTo>
                        <a:pt x="294" y="243"/>
                      </a:lnTo>
                      <a:lnTo>
                        <a:pt x="589" y="401"/>
                      </a:lnTo>
                      <a:lnTo>
                        <a:pt x="793" y="462"/>
                      </a:lnTo>
                      <a:lnTo>
                        <a:pt x="953" y="497"/>
                      </a:lnTo>
                      <a:lnTo>
                        <a:pt x="1206" y="541"/>
                      </a:lnTo>
                      <a:lnTo>
                        <a:pt x="1281" y="568"/>
                      </a:lnTo>
                      <a:lnTo>
                        <a:pt x="1265" y="577"/>
                      </a:lnTo>
                      <a:lnTo>
                        <a:pt x="1121" y="568"/>
                      </a:lnTo>
                      <a:lnTo>
                        <a:pt x="1164" y="629"/>
                      </a:lnTo>
                      <a:lnTo>
                        <a:pt x="1239" y="699"/>
                      </a:lnTo>
                      <a:lnTo>
                        <a:pt x="1349" y="734"/>
                      </a:lnTo>
                      <a:lnTo>
                        <a:pt x="1273" y="734"/>
                      </a:lnTo>
                      <a:lnTo>
                        <a:pt x="1139" y="673"/>
                      </a:lnTo>
                      <a:lnTo>
                        <a:pt x="1180" y="734"/>
                      </a:lnTo>
                      <a:lnTo>
                        <a:pt x="1231" y="787"/>
                      </a:lnTo>
                      <a:lnTo>
                        <a:pt x="1307" y="838"/>
                      </a:lnTo>
                      <a:lnTo>
                        <a:pt x="1257" y="848"/>
                      </a:lnTo>
                      <a:lnTo>
                        <a:pt x="1113" y="734"/>
                      </a:lnTo>
                      <a:lnTo>
                        <a:pt x="1054" y="673"/>
                      </a:lnTo>
                      <a:lnTo>
                        <a:pt x="1105" y="804"/>
                      </a:lnTo>
                      <a:lnTo>
                        <a:pt x="1147" y="883"/>
                      </a:lnTo>
                      <a:lnTo>
                        <a:pt x="1190" y="935"/>
                      </a:lnTo>
                      <a:lnTo>
                        <a:pt x="1147" y="935"/>
                      </a:lnTo>
                      <a:lnTo>
                        <a:pt x="1087" y="822"/>
                      </a:lnTo>
                      <a:lnTo>
                        <a:pt x="986" y="682"/>
                      </a:lnTo>
                      <a:lnTo>
                        <a:pt x="970" y="769"/>
                      </a:lnTo>
                      <a:lnTo>
                        <a:pt x="986" y="838"/>
                      </a:lnTo>
                      <a:lnTo>
                        <a:pt x="1012" y="909"/>
                      </a:lnTo>
                      <a:lnTo>
                        <a:pt x="953" y="856"/>
                      </a:lnTo>
                      <a:lnTo>
                        <a:pt x="937" y="777"/>
                      </a:lnTo>
                      <a:lnTo>
                        <a:pt x="927" y="665"/>
                      </a:lnTo>
                      <a:lnTo>
                        <a:pt x="894" y="726"/>
                      </a:lnTo>
                      <a:lnTo>
                        <a:pt x="903" y="856"/>
                      </a:lnTo>
                      <a:lnTo>
                        <a:pt x="919" y="926"/>
                      </a:lnTo>
                      <a:lnTo>
                        <a:pt x="869" y="865"/>
                      </a:lnTo>
                      <a:lnTo>
                        <a:pt x="860" y="787"/>
                      </a:lnTo>
                      <a:lnTo>
                        <a:pt x="844" y="883"/>
                      </a:lnTo>
                      <a:lnTo>
                        <a:pt x="818" y="787"/>
                      </a:lnTo>
                      <a:lnTo>
                        <a:pt x="767" y="665"/>
                      </a:lnTo>
                      <a:lnTo>
                        <a:pt x="751" y="726"/>
                      </a:lnTo>
                      <a:lnTo>
                        <a:pt x="767" y="838"/>
                      </a:lnTo>
                      <a:lnTo>
                        <a:pt x="810" y="899"/>
                      </a:lnTo>
                      <a:lnTo>
                        <a:pt x="725" y="831"/>
                      </a:lnTo>
                      <a:lnTo>
                        <a:pt x="717" y="726"/>
                      </a:lnTo>
                      <a:lnTo>
                        <a:pt x="682" y="595"/>
                      </a:lnTo>
                      <a:lnTo>
                        <a:pt x="674" y="690"/>
                      </a:lnTo>
                      <a:lnTo>
                        <a:pt x="682" y="838"/>
                      </a:lnTo>
                      <a:lnTo>
                        <a:pt x="725" y="909"/>
                      </a:lnTo>
                      <a:lnTo>
                        <a:pt x="648" y="856"/>
                      </a:lnTo>
                      <a:lnTo>
                        <a:pt x="605" y="699"/>
                      </a:lnTo>
                      <a:lnTo>
                        <a:pt x="605" y="769"/>
                      </a:lnTo>
                      <a:lnTo>
                        <a:pt x="615" y="831"/>
                      </a:lnTo>
                      <a:lnTo>
                        <a:pt x="564" y="795"/>
                      </a:lnTo>
                      <a:lnTo>
                        <a:pt x="564" y="760"/>
                      </a:lnTo>
                      <a:lnTo>
                        <a:pt x="488" y="638"/>
                      </a:lnTo>
                      <a:lnTo>
                        <a:pt x="387" y="559"/>
                      </a:lnTo>
                      <a:lnTo>
                        <a:pt x="412" y="638"/>
                      </a:lnTo>
                      <a:lnTo>
                        <a:pt x="437" y="673"/>
                      </a:lnTo>
                      <a:lnTo>
                        <a:pt x="387" y="673"/>
                      </a:lnTo>
                      <a:lnTo>
                        <a:pt x="362" y="585"/>
                      </a:lnTo>
                      <a:lnTo>
                        <a:pt x="328" y="541"/>
                      </a:lnTo>
                      <a:lnTo>
                        <a:pt x="243" y="428"/>
                      </a:lnTo>
                      <a:lnTo>
                        <a:pt x="277" y="516"/>
                      </a:lnTo>
                      <a:lnTo>
                        <a:pt x="285" y="577"/>
                      </a:lnTo>
                      <a:lnTo>
                        <a:pt x="328" y="620"/>
                      </a:lnTo>
                      <a:lnTo>
                        <a:pt x="285" y="629"/>
                      </a:lnTo>
                      <a:lnTo>
                        <a:pt x="227" y="524"/>
                      </a:lnTo>
                      <a:lnTo>
                        <a:pt x="184" y="437"/>
                      </a:lnTo>
                      <a:lnTo>
                        <a:pt x="134" y="358"/>
                      </a:lnTo>
                      <a:lnTo>
                        <a:pt x="150" y="455"/>
                      </a:lnTo>
                      <a:lnTo>
                        <a:pt x="176" y="516"/>
                      </a:lnTo>
                      <a:lnTo>
                        <a:pt x="117" y="489"/>
                      </a:lnTo>
                      <a:lnTo>
                        <a:pt x="101" y="340"/>
                      </a:lnTo>
                      <a:lnTo>
                        <a:pt x="75" y="437"/>
                      </a:lnTo>
                      <a:lnTo>
                        <a:pt x="41" y="279"/>
                      </a:lnTo>
                      <a:lnTo>
                        <a:pt x="0" y="270"/>
                      </a:lnTo>
                      <a:lnTo>
                        <a:pt x="57" y="209"/>
                      </a:lnTo>
                      <a:lnTo>
                        <a:pt x="16" y="0"/>
                      </a:lnTo>
                      <a:lnTo>
                        <a:pt x="117" y="7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75"/>
                <p:cNvSpPr/>
                <p:nvPr/>
              </p:nvSpPr>
              <p:spPr>
                <a:xfrm>
                  <a:off x="1334880" y="6004080"/>
                  <a:ext cx="1255680" cy="621000"/>
                </a:xfrm>
                <a:custGeom>
                  <a:avLst/>
                  <a:gdLst>
                    <a:gd name="textAreaLeft" fmla="*/ 0 w 1255680"/>
                    <a:gd name="textAreaRight" fmla="*/ 1255680 w 1255680"/>
                    <a:gd name="textAreaTop" fmla="*/ 0 h 621000"/>
                    <a:gd name="textAreaBottom" fmla="*/ 621360 h 621000"/>
                  </a:gdLst>
                  <a:ahLst/>
                  <a:rect l="textAreaLeft" t="textAreaTop" r="textAreaRight" b="textAreaBottom"/>
                  <a:pathLst>
                    <a:path w="1438" h="884">
                      <a:moveTo>
                        <a:pt x="287" y="135"/>
                      </a:moveTo>
                      <a:lnTo>
                        <a:pt x="393" y="252"/>
                      </a:lnTo>
                      <a:lnTo>
                        <a:pt x="513" y="356"/>
                      </a:lnTo>
                      <a:lnTo>
                        <a:pt x="711" y="463"/>
                      </a:lnTo>
                      <a:lnTo>
                        <a:pt x="907" y="547"/>
                      </a:lnTo>
                      <a:lnTo>
                        <a:pt x="1182" y="631"/>
                      </a:lnTo>
                      <a:lnTo>
                        <a:pt x="1438" y="662"/>
                      </a:lnTo>
                      <a:lnTo>
                        <a:pt x="1423" y="685"/>
                      </a:lnTo>
                      <a:lnTo>
                        <a:pt x="1195" y="675"/>
                      </a:lnTo>
                      <a:lnTo>
                        <a:pt x="1288" y="736"/>
                      </a:lnTo>
                      <a:lnTo>
                        <a:pt x="1379" y="779"/>
                      </a:lnTo>
                      <a:lnTo>
                        <a:pt x="1256" y="759"/>
                      </a:lnTo>
                      <a:lnTo>
                        <a:pt x="1136" y="685"/>
                      </a:lnTo>
                      <a:lnTo>
                        <a:pt x="1150" y="749"/>
                      </a:lnTo>
                      <a:lnTo>
                        <a:pt x="1240" y="810"/>
                      </a:lnTo>
                      <a:lnTo>
                        <a:pt x="1346" y="875"/>
                      </a:lnTo>
                      <a:lnTo>
                        <a:pt x="1288" y="875"/>
                      </a:lnTo>
                      <a:lnTo>
                        <a:pt x="1136" y="791"/>
                      </a:lnTo>
                      <a:lnTo>
                        <a:pt x="1059" y="715"/>
                      </a:lnTo>
                      <a:lnTo>
                        <a:pt x="1104" y="810"/>
                      </a:lnTo>
                      <a:lnTo>
                        <a:pt x="1210" y="884"/>
                      </a:lnTo>
                      <a:lnTo>
                        <a:pt x="1059" y="822"/>
                      </a:lnTo>
                      <a:lnTo>
                        <a:pt x="984" y="749"/>
                      </a:lnTo>
                      <a:lnTo>
                        <a:pt x="969" y="779"/>
                      </a:lnTo>
                      <a:lnTo>
                        <a:pt x="984" y="844"/>
                      </a:lnTo>
                      <a:lnTo>
                        <a:pt x="940" y="844"/>
                      </a:lnTo>
                      <a:lnTo>
                        <a:pt x="878" y="770"/>
                      </a:lnTo>
                      <a:lnTo>
                        <a:pt x="833" y="759"/>
                      </a:lnTo>
                      <a:lnTo>
                        <a:pt x="847" y="822"/>
                      </a:lnTo>
                      <a:lnTo>
                        <a:pt x="878" y="853"/>
                      </a:lnTo>
                      <a:lnTo>
                        <a:pt x="817" y="853"/>
                      </a:lnTo>
                      <a:lnTo>
                        <a:pt x="757" y="779"/>
                      </a:lnTo>
                      <a:lnTo>
                        <a:pt x="693" y="715"/>
                      </a:lnTo>
                      <a:lnTo>
                        <a:pt x="711" y="779"/>
                      </a:lnTo>
                      <a:lnTo>
                        <a:pt x="757" y="822"/>
                      </a:lnTo>
                      <a:lnTo>
                        <a:pt x="665" y="791"/>
                      </a:lnTo>
                      <a:lnTo>
                        <a:pt x="590" y="642"/>
                      </a:lnTo>
                      <a:lnTo>
                        <a:pt x="573" y="696"/>
                      </a:lnTo>
                      <a:lnTo>
                        <a:pt x="603" y="759"/>
                      </a:lnTo>
                      <a:lnTo>
                        <a:pt x="635" y="801"/>
                      </a:lnTo>
                      <a:lnTo>
                        <a:pt x="590" y="822"/>
                      </a:lnTo>
                      <a:lnTo>
                        <a:pt x="529" y="759"/>
                      </a:lnTo>
                      <a:lnTo>
                        <a:pt x="497" y="696"/>
                      </a:lnTo>
                      <a:lnTo>
                        <a:pt x="483" y="749"/>
                      </a:lnTo>
                      <a:lnTo>
                        <a:pt x="513" y="779"/>
                      </a:lnTo>
                      <a:lnTo>
                        <a:pt x="483" y="801"/>
                      </a:lnTo>
                      <a:lnTo>
                        <a:pt x="452" y="749"/>
                      </a:lnTo>
                      <a:lnTo>
                        <a:pt x="406" y="696"/>
                      </a:lnTo>
                      <a:lnTo>
                        <a:pt x="332" y="589"/>
                      </a:lnTo>
                      <a:lnTo>
                        <a:pt x="316" y="623"/>
                      </a:lnTo>
                      <a:lnTo>
                        <a:pt x="332" y="696"/>
                      </a:lnTo>
                      <a:lnTo>
                        <a:pt x="361" y="770"/>
                      </a:lnTo>
                      <a:lnTo>
                        <a:pt x="316" y="770"/>
                      </a:lnTo>
                      <a:lnTo>
                        <a:pt x="287" y="685"/>
                      </a:lnTo>
                      <a:lnTo>
                        <a:pt x="254" y="579"/>
                      </a:lnTo>
                      <a:lnTo>
                        <a:pt x="226" y="653"/>
                      </a:lnTo>
                      <a:lnTo>
                        <a:pt x="226" y="705"/>
                      </a:lnTo>
                      <a:lnTo>
                        <a:pt x="180" y="653"/>
                      </a:lnTo>
                      <a:lnTo>
                        <a:pt x="196" y="568"/>
                      </a:lnTo>
                      <a:lnTo>
                        <a:pt x="164" y="494"/>
                      </a:lnTo>
                      <a:lnTo>
                        <a:pt x="135" y="611"/>
                      </a:lnTo>
                      <a:lnTo>
                        <a:pt x="135" y="675"/>
                      </a:lnTo>
                      <a:lnTo>
                        <a:pt x="104" y="642"/>
                      </a:lnTo>
                      <a:lnTo>
                        <a:pt x="90" y="547"/>
                      </a:lnTo>
                      <a:lnTo>
                        <a:pt x="90" y="430"/>
                      </a:lnTo>
                      <a:lnTo>
                        <a:pt x="90" y="346"/>
                      </a:lnTo>
                      <a:lnTo>
                        <a:pt x="44" y="420"/>
                      </a:lnTo>
                      <a:lnTo>
                        <a:pt x="58" y="494"/>
                      </a:lnTo>
                      <a:lnTo>
                        <a:pt x="13" y="505"/>
                      </a:lnTo>
                      <a:lnTo>
                        <a:pt x="0" y="430"/>
                      </a:lnTo>
                      <a:lnTo>
                        <a:pt x="13" y="304"/>
                      </a:lnTo>
                      <a:lnTo>
                        <a:pt x="74" y="188"/>
                      </a:lnTo>
                      <a:lnTo>
                        <a:pt x="90" y="114"/>
                      </a:lnTo>
                      <a:lnTo>
                        <a:pt x="90" y="0"/>
                      </a:lnTo>
                      <a:lnTo>
                        <a:pt x="287" y="135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76"/>
                <p:cNvSpPr/>
                <p:nvPr/>
              </p:nvSpPr>
              <p:spPr>
                <a:xfrm>
                  <a:off x="1274400" y="4850280"/>
                  <a:ext cx="442080" cy="334080"/>
                </a:xfrm>
                <a:custGeom>
                  <a:avLst/>
                  <a:gdLst>
                    <a:gd name="textAreaLeft" fmla="*/ 0 w 442080"/>
                    <a:gd name="textAreaRight" fmla="*/ 442440 w 442080"/>
                    <a:gd name="textAreaTop" fmla="*/ 0 h 334080"/>
                    <a:gd name="textAreaBottom" fmla="*/ 334440 h 334080"/>
                  </a:gdLst>
                  <a:ahLst/>
                  <a:rect l="textAreaLeft" t="textAreaTop" r="textAreaRight" b="textAreaBottom"/>
                  <a:pathLst>
                    <a:path w="506" h="477">
                      <a:moveTo>
                        <a:pt x="0" y="0"/>
                      </a:moveTo>
                      <a:lnTo>
                        <a:pt x="54" y="63"/>
                      </a:lnTo>
                      <a:lnTo>
                        <a:pt x="99" y="154"/>
                      </a:lnTo>
                      <a:lnTo>
                        <a:pt x="208" y="280"/>
                      </a:lnTo>
                      <a:lnTo>
                        <a:pt x="313" y="339"/>
                      </a:lnTo>
                      <a:lnTo>
                        <a:pt x="430" y="427"/>
                      </a:lnTo>
                      <a:lnTo>
                        <a:pt x="506" y="451"/>
                      </a:lnTo>
                      <a:lnTo>
                        <a:pt x="462" y="451"/>
                      </a:lnTo>
                      <a:lnTo>
                        <a:pt x="357" y="410"/>
                      </a:lnTo>
                      <a:lnTo>
                        <a:pt x="385" y="477"/>
                      </a:lnTo>
                      <a:lnTo>
                        <a:pt x="321" y="376"/>
                      </a:lnTo>
                      <a:lnTo>
                        <a:pt x="284" y="363"/>
                      </a:lnTo>
                      <a:lnTo>
                        <a:pt x="300" y="418"/>
                      </a:lnTo>
                      <a:lnTo>
                        <a:pt x="244" y="335"/>
                      </a:lnTo>
                      <a:lnTo>
                        <a:pt x="163" y="259"/>
                      </a:lnTo>
                      <a:lnTo>
                        <a:pt x="175" y="317"/>
                      </a:lnTo>
                      <a:lnTo>
                        <a:pt x="119" y="209"/>
                      </a:lnTo>
                      <a:lnTo>
                        <a:pt x="115" y="251"/>
                      </a:lnTo>
                      <a:lnTo>
                        <a:pt x="90" y="172"/>
                      </a:lnTo>
                      <a:lnTo>
                        <a:pt x="34" y="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77"/>
                <p:cNvSpPr/>
                <p:nvPr/>
              </p:nvSpPr>
              <p:spPr>
                <a:xfrm>
                  <a:off x="1473120" y="5223960"/>
                  <a:ext cx="384840" cy="213480"/>
                </a:xfrm>
                <a:custGeom>
                  <a:avLst/>
                  <a:gdLst>
                    <a:gd name="textAreaLeft" fmla="*/ 0 w 384840"/>
                    <a:gd name="textAreaRight" fmla="*/ 385200 w 38484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440" h="305">
                      <a:moveTo>
                        <a:pt x="0" y="0"/>
                      </a:moveTo>
                      <a:lnTo>
                        <a:pt x="85" y="75"/>
                      </a:lnTo>
                      <a:lnTo>
                        <a:pt x="182" y="142"/>
                      </a:lnTo>
                      <a:lnTo>
                        <a:pt x="278" y="187"/>
                      </a:lnTo>
                      <a:lnTo>
                        <a:pt x="383" y="242"/>
                      </a:lnTo>
                      <a:lnTo>
                        <a:pt x="440" y="259"/>
                      </a:lnTo>
                      <a:lnTo>
                        <a:pt x="396" y="259"/>
                      </a:lnTo>
                      <a:lnTo>
                        <a:pt x="416" y="305"/>
                      </a:lnTo>
                      <a:lnTo>
                        <a:pt x="355" y="255"/>
                      </a:lnTo>
                      <a:lnTo>
                        <a:pt x="347" y="288"/>
                      </a:lnTo>
                      <a:lnTo>
                        <a:pt x="291" y="221"/>
                      </a:lnTo>
                      <a:lnTo>
                        <a:pt x="291" y="272"/>
                      </a:lnTo>
                      <a:lnTo>
                        <a:pt x="230" y="187"/>
                      </a:lnTo>
                      <a:lnTo>
                        <a:pt x="182" y="167"/>
                      </a:lnTo>
                      <a:lnTo>
                        <a:pt x="153" y="167"/>
                      </a:lnTo>
                      <a:lnTo>
                        <a:pt x="186" y="233"/>
                      </a:lnTo>
                      <a:lnTo>
                        <a:pt x="137" y="180"/>
                      </a:lnTo>
                      <a:lnTo>
                        <a:pt x="129" y="129"/>
                      </a:lnTo>
                      <a:lnTo>
                        <a:pt x="77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78"/>
                <p:cNvSpPr/>
                <p:nvPr/>
              </p:nvSpPr>
              <p:spPr>
                <a:xfrm>
                  <a:off x="1606680" y="5499360"/>
                  <a:ext cx="452520" cy="213480"/>
                </a:xfrm>
                <a:custGeom>
                  <a:avLst/>
                  <a:gdLst>
                    <a:gd name="textAreaLeft" fmla="*/ 0 w 452520"/>
                    <a:gd name="textAreaRight" fmla="*/ 452880 w 452520"/>
                    <a:gd name="textAreaTop" fmla="*/ 0 h 213480"/>
                    <a:gd name="textAreaBottom" fmla="*/ 213840 h 213480"/>
                  </a:gdLst>
                  <a:ahLst/>
                  <a:rect l="textAreaLeft" t="textAreaTop" r="textAreaRight" b="textAreaBottom"/>
                  <a:pathLst>
                    <a:path w="519" h="304">
                      <a:moveTo>
                        <a:pt x="0" y="0"/>
                      </a:moveTo>
                      <a:lnTo>
                        <a:pt x="101" y="84"/>
                      </a:lnTo>
                      <a:lnTo>
                        <a:pt x="194" y="133"/>
                      </a:lnTo>
                      <a:lnTo>
                        <a:pt x="323" y="183"/>
                      </a:lnTo>
                      <a:lnTo>
                        <a:pt x="397" y="217"/>
                      </a:lnTo>
                      <a:lnTo>
                        <a:pt x="519" y="245"/>
                      </a:lnTo>
                      <a:lnTo>
                        <a:pt x="450" y="250"/>
                      </a:lnTo>
                      <a:lnTo>
                        <a:pt x="454" y="296"/>
                      </a:lnTo>
                      <a:lnTo>
                        <a:pt x="418" y="229"/>
                      </a:lnTo>
                      <a:lnTo>
                        <a:pt x="397" y="304"/>
                      </a:lnTo>
                      <a:lnTo>
                        <a:pt x="376" y="229"/>
                      </a:lnTo>
                      <a:lnTo>
                        <a:pt x="247" y="175"/>
                      </a:lnTo>
                      <a:lnTo>
                        <a:pt x="247" y="250"/>
                      </a:lnTo>
                      <a:lnTo>
                        <a:pt x="214" y="170"/>
                      </a:lnTo>
                      <a:lnTo>
                        <a:pt x="105" y="1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79"/>
                <p:cNvSpPr/>
                <p:nvPr/>
              </p:nvSpPr>
              <p:spPr>
                <a:xfrm>
                  <a:off x="1737720" y="5807520"/>
                  <a:ext cx="523080" cy="158400"/>
                </a:xfrm>
                <a:custGeom>
                  <a:avLst/>
                  <a:gdLst>
                    <a:gd name="textAreaLeft" fmla="*/ 0 w 523080"/>
                    <a:gd name="textAreaRight" fmla="*/ 523440 w 5230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99" h="225">
                      <a:moveTo>
                        <a:pt x="599" y="133"/>
                      </a:moveTo>
                      <a:lnTo>
                        <a:pt x="409" y="117"/>
                      </a:lnTo>
                      <a:lnTo>
                        <a:pt x="284" y="84"/>
                      </a:lnTo>
                      <a:lnTo>
                        <a:pt x="101" y="21"/>
                      </a:lnTo>
                      <a:lnTo>
                        <a:pt x="0" y="0"/>
                      </a:lnTo>
                      <a:lnTo>
                        <a:pt x="97" y="38"/>
                      </a:lnTo>
                      <a:lnTo>
                        <a:pt x="194" y="71"/>
                      </a:lnTo>
                      <a:lnTo>
                        <a:pt x="206" y="155"/>
                      </a:lnTo>
                      <a:lnTo>
                        <a:pt x="210" y="67"/>
                      </a:lnTo>
                      <a:lnTo>
                        <a:pt x="304" y="109"/>
                      </a:lnTo>
                      <a:lnTo>
                        <a:pt x="324" y="225"/>
                      </a:lnTo>
                      <a:lnTo>
                        <a:pt x="324" y="117"/>
                      </a:lnTo>
                      <a:lnTo>
                        <a:pt x="433" y="138"/>
                      </a:lnTo>
                      <a:lnTo>
                        <a:pt x="478" y="192"/>
                      </a:lnTo>
                      <a:lnTo>
                        <a:pt x="461" y="138"/>
                      </a:lnTo>
                      <a:lnTo>
                        <a:pt x="546" y="196"/>
                      </a:lnTo>
                      <a:lnTo>
                        <a:pt x="510" y="138"/>
                      </a:lnTo>
                      <a:lnTo>
                        <a:pt x="599" y="133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80"/>
                <p:cNvSpPr/>
                <p:nvPr/>
              </p:nvSpPr>
              <p:spPr>
                <a:xfrm>
                  <a:off x="1756080" y="6024960"/>
                  <a:ext cx="585720" cy="19944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199440"/>
                    <a:gd name="textAreaBottom" fmla="*/ 199800 h 199440"/>
                  </a:gdLst>
                  <a:ahLst/>
                  <a:rect l="textAreaLeft" t="textAreaTop" r="textAreaRight" b="textAreaBottom"/>
                  <a:pathLst>
                    <a:path w="672" h="284">
                      <a:moveTo>
                        <a:pt x="672" y="176"/>
                      </a:moveTo>
                      <a:lnTo>
                        <a:pt x="534" y="159"/>
                      </a:lnTo>
                      <a:lnTo>
                        <a:pt x="369" y="130"/>
                      </a:lnTo>
                      <a:lnTo>
                        <a:pt x="149" y="71"/>
                      </a:lnTo>
                      <a:lnTo>
                        <a:pt x="0" y="0"/>
                      </a:lnTo>
                      <a:lnTo>
                        <a:pt x="165" y="105"/>
                      </a:lnTo>
                      <a:lnTo>
                        <a:pt x="244" y="180"/>
                      </a:lnTo>
                      <a:lnTo>
                        <a:pt x="308" y="255"/>
                      </a:lnTo>
                      <a:lnTo>
                        <a:pt x="260" y="163"/>
                      </a:lnTo>
                      <a:lnTo>
                        <a:pt x="227" y="121"/>
                      </a:lnTo>
                      <a:lnTo>
                        <a:pt x="345" y="172"/>
                      </a:lnTo>
                      <a:lnTo>
                        <a:pt x="369" y="222"/>
                      </a:lnTo>
                      <a:lnTo>
                        <a:pt x="401" y="275"/>
                      </a:lnTo>
                      <a:lnTo>
                        <a:pt x="369" y="172"/>
                      </a:lnTo>
                      <a:lnTo>
                        <a:pt x="417" y="180"/>
                      </a:lnTo>
                      <a:lnTo>
                        <a:pt x="441" y="225"/>
                      </a:lnTo>
                      <a:lnTo>
                        <a:pt x="462" y="271"/>
                      </a:lnTo>
                      <a:lnTo>
                        <a:pt x="433" y="172"/>
                      </a:lnTo>
                      <a:lnTo>
                        <a:pt x="571" y="183"/>
                      </a:lnTo>
                      <a:lnTo>
                        <a:pt x="615" y="284"/>
                      </a:lnTo>
                      <a:lnTo>
                        <a:pt x="583" y="196"/>
                      </a:lnTo>
                      <a:lnTo>
                        <a:pt x="672" y="176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81"/>
                <p:cNvSpPr/>
                <p:nvPr/>
              </p:nvSpPr>
              <p:spPr>
                <a:xfrm>
                  <a:off x="1834560" y="6291000"/>
                  <a:ext cx="653760" cy="217440"/>
                </a:xfrm>
                <a:custGeom>
                  <a:avLst/>
                  <a:gdLst>
                    <a:gd name="textAreaLeft" fmla="*/ 0 w 653760"/>
                    <a:gd name="textAreaRight" fmla="*/ 654120 w 653760"/>
                    <a:gd name="textAreaTop" fmla="*/ 0 h 217440"/>
                    <a:gd name="textAreaBottom" fmla="*/ 217800 h 217440"/>
                  </a:gdLst>
                  <a:ahLst/>
                  <a:rect l="textAreaLeft" t="textAreaTop" r="textAreaRight" b="textAreaBottom"/>
                  <a:pathLst>
                    <a:path w="752" h="309">
                      <a:moveTo>
                        <a:pt x="0" y="0"/>
                      </a:moveTo>
                      <a:lnTo>
                        <a:pt x="134" y="84"/>
                      </a:lnTo>
                      <a:lnTo>
                        <a:pt x="288" y="142"/>
                      </a:lnTo>
                      <a:lnTo>
                        <a:pt x="425" y="188"/>
                      </a:lnTo>
                      <a:lnTo>
                        <a:pt x="587" y="230"/>
                      </a:lnTo>
                      <a:lnTo>
                        <a:pt x="752" y="247"/>
                      </a:lnTo>
                      <a:lnTo>
                        <a:pt x="583" y="247"/>
                      </a:lnTo>
                      <a:lnTo>
                        <a:pt x="627" y="276"/>
                      </a:lnTo>
                      <a:lnTo>
                        <a:pt x="542" y="238"/>
                      </a:lnTo>
                      <a:lnTo>
                        <a:pt x="441" y="214"/>
                      </a:lnTo>
                      <a:lnTo>
                        <a:pt x="522" y="263"/>
                      </a:lnTo>
                      <a:lnTo>
                        <a:pt x="441" y="234"/>
                      </a:lnTo>
                      <a:lnTo>
                        <a:pt x="369" y="192"/>
                      </a:lnTo>
                      <a:lnTo>
                        <a:pt x="385" y="256"/>
                      </a:lnTo>
                      <a:lnTo>
                        <a:pt x="457" y="309"/>
                      </a:lnTo>
                      <a:lnTo>
                        <a:pt x="348" y="247"/>
                      </a:lnTo>
                      <a:lnTo>
                        <a:pt x="316" y="188"/>
                      </a:lnTo>
                      <a:lnTo>
                        <a:pt x="183" y="1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82"/>
              <p:cNvGrpSpPr/>
              <p:nvPr/>
            </p:nvGrpSpPr>
            <p:grpSpPr>
              <a:xfrm>
                <a:off x="0" y="4812480"/>
                <a:ext cx="1290240" cy="1824120"/>
                <a:chOff x="0" y="4812480"/>
                <a:chExt cx="1290240" cy="1824120"/>
              </a:xfrm>
            </p:grpSpPr>
            <p:sp>
              <p:nvSpPr>
                <p:cNvPr id="417" name="Freeform 83"/>
                <p:cNvSpPr/>
                <p:nvPr/>
              </p:nvSpPr>
              <p:spPr>
                <a:xfrm>
                  <a:off x="667080" y="4812480"/>
                  <a:ext cx="623160" cy="495720"/>
                </a:xfrm>
                <a:custGeom>
                  <a:avLst/>
                  <a:gdLst>
                    <a:gd name="textAreaLeft" fmla="*/ 0 w 623160"/>
                    <a:gd name="textAreaRight" fmla="*/ 623160 w 623160"/>
                    <a:gd name="textAreaTop" fmla="*/ 0 h 495720"/>
                    <a:gd name="textAreaBottom" fmla="*/ 496080 h 495720"/>
                  </a:gdLst>
                  <a:ahLst/>
                  <a:rect l="textAreaLeft" t="textAreaTop" r="textAreaRight" b="textAreaBottom"/>
                  <a:pathLst>
                    <a:path w="712" h="705">
                      <a:moveTo>
                        <a:pt x="571" y="108"/>
                      </a:moveTo>
                      <a:lnTo>
                        <a:pt x="519" y="201"/>
                      </a:lnTo>
                      <a:lnTo>
                        <a:pt x="458" y="285"/>
                      </a:lnTo>
                      <a:lnTo>
                        <a:pt x="361" y="368"/>
                      </a:lnTo>
                      <a:lnTo>
                        <a:pt x="263" y="437"/>
                      </a:lnTo>
                      <a:lnTo>
                        <a:pt x="128" y="503"/>
                      </a:lnTo>
                      <a:lnTo>
                        <a:pt x="0" y="528"/>
                      </a:lnTo>
                      <a:lnTo>
                        <a:pt x="8" y="545"/>
                      </a:lnTo>
                      <a:lnTo>
                        <a:pt x="120" y="536"/>
                      </a:lnTo>
                      <a:lnTo>
                        <a:pt x="76" y="587"/>
                      </a:lnTo>
                      <a:lnTo>
                        <a:pt x="30" y="621"/>
                      </a:lnTo>
                      <a:lnTo>
                        <a:pt x="90" y="605"/>
                      </a:lnTo>
                      <a:lnTo>
                        <a:pt x="150" y="545"/>
                      </a:lnTo>
                      <a:lnTo>
                        <a:pt x="143" y="594"/>
                      </a:lnTo>
                      <a:lnTo>
                        <a:pt x="97" y="647"/>
                      </a:lnTo>
                      <a:lnTo>
                        <a:pt x="45" y="696"/>
                      </a:lnTo>
                      <a:lnTo>
                        <a:pt x="76" y="696"/>
                      </a:lnTo>
                      <a:lnTo>
                        <a:pt x="150" y="630"/>
                      </a:lnTo>
                      <a:lnTo>
                        <a:pt x="187" y="570"/>
                      </a:lnTo>
                      <a:lnTo>
                        <a:pt x="166" y="647"/>
                      </a:lnTo>
                      <a:lnTo>
                        <a:pt x="113" y="705"/>
                      </a:lnTo>
                      <a:lnTo>
                        <a:pt x="187" y="654"/>
                      </a:lnTo>
                      <a:lnTo>
                        <a:pt x="225" y="594"/>
                      </a:lnTo>
                      <a:lnTo>
                        <a:pt x="233" y="621"/>
                      </a:lnTo>
                      <a:lnTo>
                        <a:pt x="225" y="672"/>
                      </a:lnTo>
                      <a:lnTo>
                        <a:pt x="248" y="672"/>
                      </a:lnTo>
                      <a:lnTo>
                        <a:pt x="278" y="614"/>
                      </a:lnTo>
                      <a:lnTo>
                        <a:pt x="300" y="605"/>
                      </a:lnTo>
                      <a:lnTo>
                        <a:pt x="292" y="654"/>
                      </a:lnTo>
                      <a:lnTo>
                        <a:pt x="278" y="680"/>
                      </a:lnTo>
                      <a:lnTo>
                        <a:pt x="309" y="680"/>
                      </a:lnTo>
                      <a:lnTo>
                        <a:pt x="338" y="621"/>
                      </a:lnTo>
                      <a:lnTo>
                        <a:pt x="368" y="570"/>
                      </a:lnTo>
                      <a:lnTo>
                        <a:pt x="361" y="621"/>
                      </a:lnTo>
                      <a:lnTo>
                        <a:pt x="338" y="654"/>
                      </a:lnTo>
                      <a:lnTo>
                        <a:pt x="383" y="630"/>
                      </a:lnTo>
                      <a:lnTo>
                        <a:pt x="420" y="512"/>
                      </a:lnTo>
                      <a:lnTo>
                        <a:pt x="428" y="554"/>
                      </a:lnTo>
                      <a:lnTo>
                        <a:pt x="414" y="605"/>
                      </a:lnTo>
                      <a:lnTo>
                        <a:pt x="397" y="638"/>
                      </a:lnTo>
                      <a:lnTo>
                        <a:pt x="420" y="654"/>
                      </a:lnTo>
                      <a:lnTo>
                        <a:pt x="450" y="605"/>
                      </a:lnTo>
                      <a:lnTo>
                        <a:pt x="466" y="554"/>
                      </a:lnTo>
                      <a:lnTo>
                        <a:pt x="473" y="594"/>
                      </a:lnTo>
                      <a:lnTo>
                        <a:pt x="458" y="621"/>
                      </a:lnTo>
                      <a:lnTo>
                        <a:pt x="473" y="638"/>
                      </a:lnTo>
                      <a:lnTo>
                        <a:pt x="488" y="594"/>
                      </a:lnTo>
                      <a:lnTo>
                        <a:pt x="510" y="554"/>
                      </a:lnTo>
                      <a:lnTo>
                        <a:pt x="548" y="470"/>
                      </a:lnTo>
                      <a:lnTo>
                        <a:pt x="555" y="495"/>
                      </a:lnTo>
                      <a:lnTo>
                        <a:pt x="548" y="554"/>
                      </a:lnTo>
                      <a:lnTo>
                        <a:pt x="533" y="614"/>
                      </a:lnTo>
                      <a:lnTo>
                        <a:pt x="555" y="614"/>
                      </a:lnTo>
                      <a:lnTo>
                        <a:pt x="571" y="545"/>
                      </a:lnTo>
                      <a:lnTo>
                        <a:pt x="586" y="461"/>
                      </a:lnTo>
                      <a:lnTo>
                        <a:pt x="601" y="519"/>
                      </a:lnTo>
                      <a:lnTo>
                        <a:pt x="601" y="561"/>
                      </a:lnTo>
                      <a:lnTo>
                        <a:pt x="624" y="519"/>
                      </a:lnTo>
                      <a:lnTo>
                        <a:pt x="615" y="453"/>
                      </a:lnTo>
                      <a:lnTo>
                        <a:pt x="630" y="393"/>
                      </a:lnTo>
                      <a:lnTo>
                        <a:pt x="645" y="486"/>
                      </a:lnTo>
                      <a:lnTo>
                        <a:pt x="645" y="536"/>
                      </a:lnTo>
                      <a:lnTo>
                        <a:pt x="660" y="512"/>
                      </a:lnTo>
                      <a:lnTo>
                        <a:pt x="668" y="437"/>
                      </a:lnTo>
                      <a:lnTo>
                        <a:pt x="668" y="344"/>
                      </a:lnTo>
                      <a:lnTo>
                        <a:pt x="668" y="276"/>
                      </a:lnTo>
                      <a:lnTo>
                        <a:pt x="691" y="335"/>
                      </a:lnTo>
                      <a:lnTo>
                        <a:pt x="683" y="393"/>
                      </a:lnTo>
                      <a:lnTo>
                        <a:pt x="706" y="403"/>
                      </a:lnTo>
                      <a:lnTo>
                        <a:pt x="712" y="344"/>
                      </a:lnTo>
                      <a:lnTo>
                        <a:pt x="706" y="243"/>
                      </a:lnTo>
                      <a:lnTo>
                        <a:pt x="676" y="150"/>
                      </a:lnTo>
                      <a:lnTo>
                        <a:pt x="668" y="91"/>
                      </a:lnTo>
                      <a:lnTo>
                        <a:pt x="668" y="0"/>
                      </a:lnTo>
                      <a:lnTo>
                        <a:pt x="571" y="108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84"/>
                <p:cNvSpPr/>
                <p:nvPr/>
              </p:nvSpPr>
              <p:spPr>
                <a:xfrm>
                  <a:off x="541080" y="5037120"/>
                  <a:ext cx="695880" cy="507240"/>
                </a:xfrm>
                <a:custGeom>
                  <a:avLst/>
                  <a:gdLst>
                    <a:gd name="textAreaLeft" fmla="*/ 0 w 695880"/>
                    <a:gd name="textAreaRight" fmla="*/ 696240 w 695880"/>
                    <a:gd name="textAreaTop" fmla="*/ 0 h 507240"/>
                    <a:gd name="textAreaBottom" fmla="*/ 507600 h 507240"/>
                  </a:gdLst>
                  <a:ahLst/>
                  <a:rect l="textAreaLeft" t="textAreaTop" r="textAreaRight" b="textAreaBottom"/>
                  <a:pathLst>
                    <a:path w="796" h="722">
                      <a:moveTo>
                        <a:pt x="637" y="111"/>
                      </a:moveTo>
                      <a:lnTo>
                        <a:pt x="578" y="206"/>
                      </a:lnTo>
                      <a:lnTo>
                        <a:pt x="512" y="292"/>
                      </a:lnTo>
                      <a:lnTo>
                        <a:pt x="403" y="378"/>
                      </a:lnTo>
                      <a:lnTo>
                        <a:pt x="294" y="447"/>
                      </a:lnTo>
                      <a:lnTo>
                        <a:pt x="143" y="516"/>
                      </a:lnTo>
                      <a:lnTo>
                        <a:pt x="0" y="541"/>
                      </a:lnTo>
                      <a:lnTo>
                        <a:pt x="8" y="559"/>
                      </a:lnTo>
                      <a:lnTo>
                        <a:pt x="136" y="552"/>
                      </a:lnTo>
                      <a:lnTo>
                        <a:pt x="82" y="601"/>
                      </a:lnTo>
                      <a:lnTo>
                        <a:pt x="33" y="636"/>
                      </a:lnTo>
                      <a:lnTo>
                        <a:pt x="100" y="619"/>
                      </a:lnTo>
                      <a:lnTo>
                        <a:pt x="168" y="559"/>
                      </a:lnTo>
                      <a:lnTo>
                        <a:pt x="160" y="611"/>
                      </a:lnTo>
                      <a:lnTo>
                        <a:pt x="109" y="661"/>
                      </a:lnTo>
                      <a:lnTo>
                        <a:pt x="50" y="715"/>
                      </a:lnTo>
                      <a:lnTo>
                        <a:pt x="82" y="715"/>
                      </a:lnTo>
                      <a:lnTo>
                        <a:pt x="168" y="645"/>
                      </a:lnTo>
                      <a:lnTo>
                        <a:pt x="210" y="585"/>
                      </a:lnTo>
                      <a:lnTo>
                        <a:pt x="186" y="661"/>
                      </a:lnTo>
                      <a:lnTo>
                        <a:pt x="127" y="722"/>
                      </a:lnTo>
                      <a:lnTo>
                        <a:pt x="210" y="671"/>
                      </a:lnTo>
                      <a:lnTo>
                        <a:pt x="252" y="611"/>
                      </a:lnTo>
                      <a:lnTo>
                        <a:pt x="260" y="636"/>
                      </a:lnTo>
                      <a:lnTo>
                        <a:pt x="252" y="689"/>
                      </a:lnTo>
                      <a:lnTo>
                        <a:pt x="276" y="689"/>
                      </a:lnTo>
                      <a:lnTo>
                        <a:pt x="311" y="628"/>
                      </a:lnTo>
                      <a:lnTo>
                        <a:pt x="335" y="619"/>
                      </a:lnTo>
                      <a:lnTo>
                        <a:pt x="329" y="671"/>
                      </a:lnTo>
                      <a:lnTo>
                        <a:pt x="311" y="698"/>
                      </a:lnTo>
                      <a:lnTo>
                        <a:pt x="345" y="698"/>
                      </a:lnTo>
                      <a:lnTo>
                        <a:pt x="378" y="636"/>
                      </a:lnTo>
                      <a:lnTo>
                        <a:pt x="412" y="585"/>
                      </a:lnTo>
                      <a:lnTo>
                        <a:pt x="403" y="636"/>
                      </a:lnTo>
                      <a:lnTo>
                        <a:pt x="378" y="671"/>
                      </a:lnTo>
                      <a:lnTo>
                        <a:pt x="428" y="645"/>
                      </a:lnTo>
                      <a:lnTo>
                        <a:pt x="470" y="525"/>
                      </a:lnTo>
                      <a:lnTo>
                        <a:pt x="478" y="568"/>
                      </a:lnTo>
                      <a:lnTo>
                        <a:pt x="462" y="619"/>
                      </a:lnTo>
                      <a:lnTo>
                        <a:pt x="444" y="653"/>
                      </a:lnTo>
                      <a:lnTo>
                        <a:pt x="470" y="671"/>
                      </a:lnTo>
                      <a:lnTo>
                        <a:pt x="504" y="619"/>
                      </a:lnTo>
                      <a:lnTo>
                        <a:pt x="521" y="568"/>
                      </a:lnTo>
                      <a:lnTo>
                        <a:pt x="528" y="611"/>
                      </a:lnTo>
                      <a:lnTo>
                        <a:pt x="512" y="636"/>
                      </a:lnTo>
                      <a:lnTo>
                        <a:pt x="528" y="653"/>
                      </a:lnTo>
                      <a:lnTo>
                        <a:pt x="545" y="611"/>
                      </a:lnTo>
                      <a:lnTo>
                        <a:pt x="571" y="568"/>
                      </a:lnTo>
                      <a:lnTo>
                        <a:pt x="611" y="480"/>
                      </a:lnTo>
                      <a:lnTo>
                        <a:pt x="621" y="508"/>
                      </a:lnTo>
                      <a:lnTo>
                        <a:pt x="611" y="568"/>
                      </a:lnTo>
                      <a:lnTo>
                        <a:pt x="595" y="628"/>
                      </a:lnTo>
                      <a:lnTo>
                        <a:pt x="621" y="628"/>
                      </a:lnTo>
                      <a:lnTo>
                        <a:pt x="637" y="559"/>
                      </a:lnTo>
                      <a:lnTo>
                        <a:pt x="654" y="471"/>
                      </a:lnTo>
                      <a:lnTo>
                        <a:pt x="671" y="534"/>
                      </a:lnTo>
                      <a:lnTo>
                        <a:pt x="671" y="576"/>
                      </a:lnTo>
                      <a:lnTo>
                        <a:pt x="696" y="534"/>
                      </a:lnTo>
                      <a:lnTo>
                        <a:pt x="687" y="464"/>
                      </a:lnTo>
                      <a:lnTo>
                        <a:pt x="704" y="404"/>
                      </a:lnTo>
                      <a:lnTo>
                        <a:pt x="720" y="499"/>
                      </a:lnTo>
                      <a:lnTo>
                        <a:pt x="720" y="552"/>
                      </a:lnTo>
                      <a:lnTo>
                        <a:pt x="738" y="525"/>
                      </a:lnTo>
                      <a:lnTo>
                        <a:pt x="746" y="447"/>
                      </a:lnTo>
                      <a:lnTo>
                        <a:pt x="746" y="352"/>
                      </a:lnTo>
                      <a:lnTo>
                        <a:pt x="746" y="284"/>
                      </a:lnTo>
                      <a:lnTo>
                        <a:pt x="770" y="344"/>
                      </a:lnTo>
                      <a:lnTo>
                        <a:pt x="764" y="404"/>
                      </a:lnTo>
                      <a:lnTo>
                        <a:pt x="788" y="411"/>
                      </a:lnTo>
                      <a:lnTo>
                        <a:pt x="796" y="352"/>
                      </a:lnTo>
                      <a:lnTo>
                        <a:pt x="788" y="250"/>
                      </a:lnTo>
                      <a:lnTo>
                        <a:pt x="754" y="154"/>
                      </a:lnTo>
                      <a:lnTo>
                        <a:pt x="746" y="94"/>
                      </a:lnTo>
                      <a:lnTo>
                        <a:pt x="746" y="0"/>
                      </a:lnTo>
                      <a:lnTo>
                        <a:pt x="637" y="111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85"/>
                <p:cNvSpPr/>
                <p:nvPr/>
              </p:nvSpPr>
              <p:spPr>
                <a:xfrm>
                  <a:off x="334440" y="5273280"/>
                  <a:ext cx="889560" cy="556560"/>
                </a:xfrm>
                <a:custGeom>
                  <a:avLst/>
                  <a:gdLst>
                    <a:gd name="textAreaLeft" fmla="*/ 0 w 889560"/>
                    <a:gd name="textAreaRight" fmla="*/ 889920 w 889560"/>
                    <a:gd name="textAreaTop" fmla="*/ 0 h 556560"/>
                    <a:gd name="textAreaBottom" fmla="*/ 556920 h 556560"/>
                  </a:gdLst>
                  <a:ahLst/>
                  <a:rect l="textAreaLeft" t="textAreaTop" r="textAreaRight" b="textAreaBottom"/>
                  <a:pathLst>
                    <a:path w="1020" h="792">
                      <a:moveTo>
                        <a:pt x="815" y="120"/>
                      </a:moveTo>
                      <a:lnTo>
                        <a:pt x="740" y="227"/>
                      </a:lnTo>
                      <a:lnTo>
                        <a:pt x="655" y="320"/>
                      </a:lnTo>
                      <a:lnTo>
                        <a:pt x="515" y="415"/>
                      </a:lnTo>
                      <a:lnTo>
                        <a:pt x="375" y="489"/>
                      </a:lnTo>
                      <a:lnTo>
                        <a:pt x="180" y="566"/>
                      </a:lnTo>
                      <a:lnTo>
                        <a:pt x="0" y="594"/>
                      </a:lnTo>
                      <a:lnTo>
                        <a:pt x="8" y="613"/>
                      </a:lnTo>
                      <a:lnTo>
                        <a:pt x="171" y="605"/>
                      </a:lnTo>
                      <a:lnTo>
                        <a:pt x="105" y="660"/>
                      </a:lnTo>
                      <a:lnTo>
                        <a:pt x="40" y="698"/>
                      </a:lnTo>
                      <a:lnTo>
                        <a:pt x="127" y="679"/>
                      </a:lnTo>
                      <a:lnTo>
                        <a:pt x="212" y="613"/>
                      </a:lnTo>
                      <a:lnTo>
                        <a:pt x="203" y="670"/>
                      </a:lnTo>
                      <a:lnTo>
                        <a:pt x="138" y="725"/>
                      </a:lnTo>
                      <a:lnTo>
                        <a:pt x="63" y="784"/>
                      </a:lnTo>
                      <a:lnTo>
                        <a:pt x="105" y="784"/>
                      </a:lnTo>
                      <a:lnTo>
                        <a:pt x="212" y="707"/>
                      </a:lnTo>
                      <a:lnTo>
                        <a:pt x="267" y="641"/>
                      </a:lnTo>
                      <a:lnTo>
                        <a:pt x="234" y="725"/>
                      </a:lnTo>
                      <a:lnTo>
                        <a:pt x="160" y="792"/>
                      </a:lnTo>
                      <a:lnTo>
                        <a:pt x="267" y="736"/>
                      </a:lnTo>
                      <a:lnTo>
                        <a:pt x="320" y="670"/>
                      </a:lnTo>
                      <a:lnTo>
                        <a:pt x="331" y="698"/>
                      </a:lnTo>
                      <a:lnTo>
                        <a:pt x="320" y="756"/>
                      </a:lnTo>
                      <a:lnTo>
                        <a:pt x="352" y="756"/>
                      </a:lnTo>
                      <a:lnTo>
                        <a:pt x="397" y="688"/>
                      </a:lnTo>
                      <a:lnTo>
                        <a:pt x="428" y="679"/>
                      </a:lnTo>
                      <a:lnTo>
                        <a:pt x="420" y="736"/>
                      </a:lnTo>
                      <a:lnTo>
                        <a:pt x="397" y="766"/>
                      </a:lnTo>
                      <a:lnTo>
                        <a:pt x="440" y="766"/>
                      </a:lnTo>
                      <a:lnTo>
                        <a:pt x="483" y="698"/>
                      </a:lnTo>
                      <a:lnTo>
                        <a:pt x="527" y="641"/>
                      </a:lnTo>
                      <a:lnTo>
                        <a:pt x="515" y="698"/>
                      </a:lnTo>
                      <a:lnTo>
                        <a:pt x="483" y="736"/>
                      </a:lnTo>
                      <a:lnTo>
                        <a:pt x="547" y="707"/>
                      </a:lnTo>
                      <a:lnTo>
                        <a:pt x="601" y="576"/>
                      </a:lnTo>
                      <a:lnTo>
                        <a:pt x="612" y="623"/>
                      </a:lnTo>
                      <a:lnTo>
                        <a:pt x="591" y="679"/>
                      </a:lnTo>
                      <a:lnTo>
                        <a:pt x="568" y="716"/>
                      </a:lnTo>
                      <a:lnTo>
                        <a:pt x="601" y="736"/>
                      </a:lnTo>
                      <a:lnTo>
                        <a:pt x="643" y="679"/>
                      </a:lnTo>
                      <a:lnTo>
                        <a:pt x="666" y="623"/>
                      </a:lnTo>
                      <a:lnTo>
                        <a:pt x="675" y="670"/>
                      </a:lnTo>
                      <a:lnTo>
                        <a:pt x="655" y="698"/>
                      </a:lnTo>
                      <a:lnTo>
                        <a:pt x="675" y="716"/>
                      </a:lnTo>
                      <a:lnTo>
                        <a:pt x="698" y="670"/>
                      </a:lnTo>
                      <a:lnTo>
                        <a:pt x="731" y="623"/>
                      </a:lnTo>
                      <a:lnTo>
                        <a:pt x="783" y="528"/>
                      </a:lnTo>
                      <a:lnTo>
                        <a:pt x="795" y="558"/>
                      </a:lnTo>
                      <a:lnTo>
                        <a:pt x="783" y="623"/>
                      </a:lnTo>
                      <a:lnTo>
                        <a:pt x="762" y="688"/>
                      </a:lnTo>
                      <a:lnTo>
                        <a:pt x="795" y="688"/>
                      </a:lnTo>
                      <a:lnTo>
                        <a:pt x="815" y="613"/>
                      </a:lnTo>
                      <a:lnTo>
                        <a:pt x="838" y="517"/>
                      </a:lnTo>
                      <a:lnTo>
                        <a:pt x="858" y="584"/>
                      </a:lnTo>
                      <a:lnTo>
                        <a:pt x="858" y="632"/>
                      </a:lnTo>
                      <a:lnTo>
                        <a:pt x="891" y="584"/>
                      </a:lnTo>
                      <a:lnTo>
                        <a:pt x="880" y="508"/>
                      </a:lnTo>
                      <a:lnTo>
                        <a:pt x="903" y="442"/>
                      </a:lnTo>
                      <a:lnTo>
                        <a:pt x="923" y="548"/>
                      </a:lnTo>
                      <a:lnTo>
                        <a:pt x="923" y="605"/>
                      </a:lnTo>
                      <a:lnTo>
                        <a:pt x="946" y="576"/>
                      </a:lnTo>
                      <a:lnTo>
                        <a:pt x="955" y="489"/>
                      </a:lnTo>
                      <a:lnTo>
                        <a:pt x="955" y="386"/>
                      </a:lnTo>
                      <a:lnTo>
                        <a:pt x="955" y="310"/>
                      </a:lnTo>
                      <a:lnTo>
                        <a:pt x="988" y="377"/>
                      </a:lnTo>
                      <a:lnTo>
                        <a:pt x="977" y="442"/>
                      </a:lnTo>
                      <a:lnTo>
                        <a:pt x="1009" y="452"/>
                      </a:lnTo>
                      <a:lnTo>
                        <a:pt x="1020" y="386"/>
                      </a:lnTo>
                      <a:lnTo>
                        <a:pt x="1009" y="274"/>
                      </a:lnTo>
                      <a:lnTo>
                        <a:pt x="966" y="170"/>
                      </a:lnTo>
                      <a:lnTo>
                        <a:pt x="955" y="102"/>
                      </a:lnTo>
                      <a:lnTo>
                        <a:pt x="955" y="0"/>
                      </a:lnTo>
                      <a:lnTo>
                        <a:pt x="815" y="12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86"/>
                <p:cNvSpPr/>
                <p:nvPr/>
              </p:nvSpPr>
              <p:spPr>
                <a:xfrm>
                  <a:off x="151200" y="5538960"/>
                  <a:ext cx="1046880" cy="632520"/>
                </a:xfrm>
                <a:custGeom>
                  <a:avLst/>
                  <a:gdLst>
                    <a:gd name="textAreaLeft" fmla="*/ 0 w 1046880"/>
                    <a:gd name="textAreaRight" fmla="*/ 1047240 w 1046880"/>
                    <a:gd name="textAreaTop" fmla="*/ 0 h 632520"/>
                    <a:gd name="textAreaBottom" fmla="*/ 632880 h 632520"/>
                  </a:gdLst>
                  <a:ahLst/>
                  <a:rect l="textAreaLeft" t="textAreaTop" r="textAreaRight" b="textAreaBottom"/>
                  <a:pathLst>
                    <a:path w="1200" h="899">
                      <a:moveTo>
                        <a:pt x="1095" y="66"/>
                      </a:moveTo>
                      <a:lnTo>
                        <a:pt x="938" y="235"/>
                      </a:lnTo>
                      <a:lnTo>
                        <a:pt x="675" y="387"/>
                      </a:lnTo>
                      <a:lnTo>
                        <a:pt x="495" y="446"/>
                      </a:lnTo>
                      <a:lnTo>
                        <a:pt x="352" y="479"/>
                      </a:lnTo>
                      <a:lnTo>
                        <a:pt x="126" y="521"/>
                      </a:lnTo>
                      <a:lnTo>
                        <a:pt x="59" y="545"/>
                      </a:lnTo>
                      <a:lnTo>
                        <a:pt x="74" y="554"/>
                      </a:lnTo>
                      <a:lnTo>
                        <a:pt x="201" y="545"/>
                      </a:lnTo>
                      <a:lnTo>
                        <a:pt x="164" y="605"/>
                      </a:lnTo>
                      <a:lnTo>
                        <a:pt x="96" y="672"/>
                      </a:lnTo>
                      <a:lnTo>
                        <a:pt x="0" y="705"/>
                      </a:lnTo>
                      <a:lnTo>
                        <a:pt x="67" y="705"/>
                      </a:lnTo>
                      <a:lnTo>
                        <a:pt x="187" y="647"/>
                      </a:lnTo>
                      <a:lnTo>
                        <a:pt x="149" y="705"/>
                      </a:lnTo>
                      <a:lnTo>
                        <a:pt x="105" y="755"/>
                      </a:lnTo>
                      <a:lnTo>
                        <a:pt x="37" y="807"/>
                      </a:lnTo>
                      <a:lnTo>
                        <a:pt x="82" y="815"/>
                      </a:lnTo>
                      <a:lnTo>
                        <a:pt x="210" y="705"/>
                      </a:lnTo>
                      <a:lnTo>
                        <a:pt x="262" y="647"/>
                      </a:lnTo>
                      <a:lnTo>
                        <a:pt x="216" y="774"/>
                      </a:lnTo>
                      <a:lnTo>
                        <a:pt x="179" y="849"/>
                      </a:lnTo>
                      <a:lnTo>
                        <a:pt x="142" y="899"/>
                      </a:lnTo>
                      <a:lnTo>
                        <a:pt x="179" y="899"/>
                      </a:lnTo>
                      <a:lnTo>
                        <a:pt x="231" y="791"/>
                      </a:lnTo>
                      <a:lnTo>
                        <a:pt x="321" y="656"/>
                      </a:lnTo>
                      <a:lnTo>
                        <a:pt x="337" y="738"/>
                      </a:lnTo>
                      <a:lnTo>
                        <a:pt x="321" y="807"/>
                      </a:lnTo>
                      <a:lnTo>
                        <a:pt x="300" y="873"/>
                      </a:lnTo>
                      <a:lnTo>
                        <a:pt x="352" y="824"/>
                      </a:lnTo>
                      <a:lnTo>
                        <a:pt x="367" y="747"/>
                      </a:lnTo>
                      <a:lnTo>
                        <a:pt x="374" y="639"/>
                      </a:lnTo>
                      <a:lnTo>
                        <a:pt x="405" y="696"/>
                      </a:lnTo>
                      <a:lnTo>
                        <a:pt x="397" y="824"/>
                      </a:lnTo>
                      <a:lnTo>
                        <a:pt x="382" y="890"/>
                      </a:lnTo>
                      <a:lnTo>
                        <a:pt x="426" y="833"/>
                      </a:lnTo>
                      <a:lnTo>
                        <a:pt x="434" y="755"/>
                      </a:lnTo>
                      <a:lnTo>
                        <a:pt x="449" y="849"/>
                      </a:lnTo>
                      <a:lnTo>
                        <a:pt x="472" y="755"/>
                      </a:lnTo>
                      <a:lnTo>
                        <a:pt x="517" y="639"/>
                      </a:lnTo>
                      <a:lnTo>
                        <a:pt x="531" y="696"/>
                      </a:lnTo>
                      <a:lnTo>
                        <a:pt x="517" y="807"/>
                      </a:lnTo>
                      <a:lnTo>
                        <a:pt x="479" y="866"/>
                      </a:lnTo>
                      <a:lnTo>
                        <a:pt x="554" y="798"/>
                      </a:lnTo>
                      <a:lnTo>
                        <a:pt x="562" y="696"/>
                      </a:lnTo>
                      <a:lnTo>
                        <a:pt x="593" y="572"/>
                      </a:lnTo>
                      <a:lnTo>
                        <a:pt x="601" y="663"/>
                      </a:lnTo>
                      <a:lnTo>
                        <a:pt x="593" y="807"/>
                      </a:lnTo>
                      <a:lnTo>
                        <a:pt x="554" y="873"/>
                      </a:lnTo>
                      <a:lnTo>
                        <a:pt x="623" y="824"/>
                      </a:lnTo>
                      <a:lnTo>
                        <a:pt x="661" y="672"/>
                      </a:lnTo>
                      <a:lnTo>
                        <a:pt x="661" y="738"/>
                      </a:lnTo>
                      <a:lnTo>
                        <a:pt x="654" y="798"/>
                      </a:lnTo>
                      <a:lnTo>
                        <a:pt x="698" y="764"/>
                      </a:lnTo>
                      <a:lnTo>
                        <a:pt x="698" y="731"/>
                      </a:lnTo>
                      <a:lnTo>
                        <a:pt x="766" y="614"/>
                      </a:lnTo>
                      <a:lnTo>
                        <a:pt x="856" y="537"/>
                      </a:lnTo>
                      <a:lnTo>
                        <a:pt x="833" y="614"/>
                      </a:lnTo>
                      <a:lnTo>
                        <a:pt x="811" y="647"/>
                      </a:lnTo>
                      <a:lnTo>
                        <a:pt x="856" y="647"/>
                      </a:lnTo>
                      <a:lnTo>
                        <a:pt x="879" y="561"/>
                      </a:lnTo>
                      <a:lnTo>
                        <a:pt x="908" y="521"/>
                      </a:lnTo>
                      <a:lnTo>
                        <a:pt x="984" y="411"/>
                      </a:lnTo>
                      <a:lnTo>
                        <a:pt x="954" y="495"/>
                      </a:lnTo>
                      <a:lnTo>
                        <a:pt x="946" y="554"/>
                      </a:lnTo>
                      <a:lnTo>
                        <a:pt x="908" y="597"/>
                      </a:lnTo>
                      <a:lnTo>
                        <a:pt x="946" y="605"/>
                      </a:lnTo>
                      <a:lnTo>
                        <a:pt x="998" y="504"/>
                      </a:lnTo>
                      <a:lnTo>
                        <a:pt x="1036" y="420"/>
                      </a:lnTo>
                      <a:lnTo>
                        <a:pt x="1081" y="344"/>
                      </a:lnTo>
                      <a:lnTo>
                        <a:pt x="1066" y="437"/>
                      </a:lnTo>
                      <a:lnTo>
                        <a:pt x="1043" y="495"/>
                      </a:lnTo>
                      <a:lnTo>
                        <a:pt x="1095" y="470"/>
                      </a:lnTo>
                      <a:lnTo>
                        <a:pt x="1112" y="327"/>
                      </a:lnTo>
                      <a:lnTo>
                        <a:pt x="1133" y="420"/>
                      </a:lnTo>
                      <a:lnTo>
                        <a:pt x="1164" y="269"/>
                      </a:lnTo>
                      <a:lnTo>
                        <a:pt x="1200" y="260"/>
                      </a:lnTo>
                      <a:lnTo>
                        <a:pt x="1148" y="201"/>
                      </a:lnTo>
                      <a:lnTo>
                        <a:pt x="1186" y="0"/>
                      </a:lnTo>
                      <a:lnTo>
                        <a:pt x="1095" y="66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87"/>
                <p:cNvSpPr/>
                <p:nvPr/>
              </p:nvSpPr>
              <p:spPr>
                <a:xfrm>
                  <a:off x="70560" y="5769720"/>
                  <a:ext cx="1093680" cy="662040"/>
                </a:xfrm>
                <a:custGeom>
                  <a:avLst/>
                  <a:gdLst>
                    <a:gd name="textAreaLeft" fmla="*/ 0 w 1093680"/>
                    <a:gd name="textAreaRight" fmla="*/ 1094040 w 1093680"/>
                    <a:gd name="textAreaTop" fmla="*/ 0 h 662040"/>
                    <a:gd name="textAreaBottom" fmla="*/ 662400 h 662040"/>
                  </a:gdLst>
                  <a:ahLst/>
                  <a:rect l="textAreaLeft" t="textAreaTop" r="textAreaRight" b="textAreaBottom"/>
                  <a:pathLst>
                    <a:path w="1254" h="941">
                      <a:moveTo>
                        <a:pt x="1145" y="70"/>
                      </a:moveTo>
                      <a:lnTo>
                        <a:pt x="979" y="246"/>
                      </a:lnTo>
                      <a:lnTo>
                        <a:pt x="706" y="404"/>
                      </a:lnTo>
                      <a:lnTo>
                        <a:pt x="516" y="466"/>
                      </a:lnTo>
                      <a:lnTo>
                        <a:pt x="368" y="501"/>
                      </a:lnTo>
                      <a:lnTo>
                        <a:pt x="132" y="545"/>
                      </a:lnTo>
                      <a:lnTo>
                        <a:pt x="62" y="572"/>
                      </a:lnTo>
                      <a:lnTo>
                        <a:pt x="77" y="581"/>
                      </a:lnTo>
                      <a:lnTo>
                        <a:pt x="212" y="572"/>
                      </a:lnTo>
                      <a:lnTo>
                        <a:pt x="171" y="633"/>
                      </a:lnTo>
                      <a:lnTo>
                        <a:pt x="101" y="704"/>
                      </a:lnTo>
                      <a:lnTo>
                        <a:pt x="0" y="739"/>
                      </a:lnTo>
                      <a:lnTo>
                        <a:pt x="70" y="739"/>
                      </a:lnTo>
                      <a:lnTo>
                        <a:pt x="196" y="678"/>
                      </a:lnTo>
                      <a:lnTo>
                        <a:pt x="157" y="739"/>
                      </a:lnTo>
                      <a:lnTo>
                        <a:pt x="109" y="792"/>
                      </a:lnTo>
                      <a:lnTo>
                        <a:pt x="39" y="844"/>
                      </a:lnTo>
                      <a:lnTo>
                        <a:pt x="85" y="855"/>
                      </a:lnTo>
                      <a:lnTo>
                        <a:pt x="218" y="739"/>
                      </a:lnTo>
                      <a:lnTo>
                        <a:pt x="274" y="678"/>
                      </a:lnTo>
                      <a:lnTo>
                        <a:pt x="227" y="809"/>
                      </a:lnTo>
                      <a:lnTo>
                        <a:pt x="187" y="889"/>
                      </a:lnTo>
                      <a:lnTo>
                        <a:pt x="147" y="941"/>
                      </a:lnTo>
                      <a:lnTo>
                        <a:pt x="187" y="941"/>
                      </a:lnTo>
                      <a:lnTo>
                        <a:pt x="243" y="827"/>
                      </a:lnTo>
                      <a:lnTo>
                        <a:pt x="337" y="687"/>
                      </a:lnTo>
                      <a:lnTo>
                        <a:pt x="352" y="774"/>
                      </a:lnTo>
                      <a:lnTo>
                        <a:pt x="337" y="844"/>
                      </a:lnTo>
                      <a:lnTo>
                        <a:pt x="313" y="916"/>
                      </a:lnTo>
                      <a:lnTo>
                        <a:pt x="368" y="864"/>
                      </a:lnTo>
                      <a:lnTo>
                        <a:pt x="383" y="782"/>
                      </a:lnTo>
                      <a:lnTo>
                        <a:pt x="392" y="670"/>
                      </a:lnTo>
                      <a:lnTo>
                        <a:pt x="423" y="731"/>
                      </a:lnTo>
                      <a:lnTo>
                        <a:pt x="414" y="864"/>
                      </a:lnTo>
                      <a:lnTo>
                        <a:pt x="399" y="932"/>
                      </a:lnTo>
                      <a:lnTo>
                        <a:pt x="446" y="871"/>
                      </a:lnTo>
                      <a:lnTo>
                        <a:pt x="454" y="792"/>
                      </a:lnTo>
                      <a:lnTo>
                        <a:pt x="469" y="889"/>
                      </a:lnTo>
                      <a:lnTo>
                        <a:pt x="493" y="792"/>
                      </a:lnTo>
                      <a:lnTo>
                        <a:pt x="540" y="670"/>
                      </a:lnTo>
                      <a:lnTo>
                        <a:pt x="555" y="731"/>
                      </a:lnTo>
                      <a:lnTo>
                        <a:pt x="540" y="844"/>
                      </a:lnTo>
                      <a:lnTo>
                        <a:pt x="500" y="906"/>
                      </a:lnTo>
                      <a:lnTo>
                        <a:pt x="579" y="836"/>
                      </a:lnTo>
                      <a:lnTo>
                        <a:pt x="586" y="731"/>
                      </a:lnTo>
                      <a:lnTo>
                        <a:pt x="618" y="599"/>
                      </a:lnTo>
                      <a:lnTo>
                        <a:pt x="625" y="695"/>
                      </a:lnTo>
                      <a:lnTo>
                        <a:pt x="618" y="844"/>
                      </a:lnTo>
                      <a:lnTo>
                        <a:pt x="579" y="916"/>
                      </a:lnTo>
                      <a:lnTo>
                        <a:pt x="649" y="864"/>
                      </a:lnTo>
                      <a:lnTo>
                        <a:pt x="691" y="704"/>
                      </a:lnTo>
                      <a:lnTo>
                        <a:pt x="691" y="774"/>
                      </a:lnTo>
                      <a:lnTo>
                        <a:pt x="682" y="836"/>
                      </a:lnTo>
                      <a:lnTo>
                        <a:pt x="729" y="800"/>
                      </a:lnTo>
                      <a:lnTo>
                        <a:pt x="729" y="766"/>
                      </a:lnTo>
                      <a:lnTo>
                        <a:pt x="799" y="643"/>
                      </a:lnTo>
                      <a:lnTo>
                        <a:pt x="893" y="562"/>
                      </a:lnTo>
                      <a:lnTo>
                        <a:pt x="870" y="643"/>
                      </a:lnTo>
                      <a:lnTo>
                        <a:pt x="847" y="678"/>
                      </a:lnTo>
                      <a:lnTo>
                        <a:pt x="893" y="678"/>
                      </a:lnTo>
                      <a:lnTo>
                        <a:pt x="917" y="588"/>
                      </a:lnTo>
                      <a:lnTo>
                        <a:pt x="948" y="545"/>
                      </a:lnTo>
                      <a:lnTo>
                        <a:pt x="1028" y="431"/>
                      </a:lnTo>
                      <a:lnTo>
                        <a:pt x="995" y="518"/>
                      </a:lnTo>
                      <a:lnTo>
                        <a:pt x="989" y="581"/>
                      </a:lnTo>
                      <a:lnTo>
                        <a:pt x="948" y="623"/>
                      </a:lnTo>
                      <a:lnTo>
                        <a:pt x="989" y="633"/>
                      </a:lnTo>
                      <a:lnTo>
                        <a:pt x="1042" y="527"/>
                      </a:lnTo>
                      <a:lnTo>
                        <a:pt x="1081" y="441"/>
                      </a:lnTo>
                      <a:lnTo>
                        <a:pt x="1129" y="361"/>
                      </a:lnTo>
                      <a:lnTo>
                        <a:pt x="1114" y="457"/>
                      </a:lnTo>
                      <a:lnTo>
                        <a:pt x="1089" y="518"/>
                      </a:lnTo>
                      <a:lnTo>
                        <a:pt x="1145" y="493"/>
                      </a:lnTo>
                      <a:lnTo>
                        <a:pt x="1159" y="343"/>
                      </a:lnTo>
                      <a:lnTo>
                        <a:pt x="1184" y="441"/>
                      </a:lnTo>
                      <a:lnTo>
                        <a:pt x="1215" y="282"/>
                      </a:lnTo>
                      <a:lnTo>
                        <a:pt x="1254" y="273"/>
                      </a:lnTo>
                      <a:lnTo>
                        <a:pt x="1200" y="210"/>
                      </a:lnTo>
                      <a:lnTo>
                        <a:pt x="1239" y="0"/>
                      </a:lnTo>
                      <a:lnTo>
                        <a:pt x="1145" y="7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88"/>
                <p:cNvSpPr/>
                <p:nvPr/>
              </p:nvSpPr>
              <p:spPr>
                <a:xfrm>
                  <a:off x="0" y="6012720"/>
                  <a:ext cx="1164240" cy="623880"/>
                </a:xfrm>
                <a:custGeom>
                  <a:avLst/>
                  <a:gdLst>
                    <a:gd name="textAreaLeft" fmla="*/ 0 w 1164240"/>
                    <a:gd name="textAreaRight" fmla="*/ 1164600 w 1164240"/>
                    <a:gd name="textAreaTop" fmla="*/ 0 h 623880"/>
                    <a:gd name="textAreaBottom" fmla="*/ 624240 h 623880"/>
                  </a:gdLst>
                  <a:ahLst/>
                  <a:rect l="textAreaLeft" t="textAreaTop" r="textAreaRight" b="textAreaBottom"/>
                  <a:pathLst>
                    <a:path w="1334" h="889">
                      <a:moveTo>
                        <a:pt x="1068" y="137"/>
                      </a:moveTo>
                      <a:lnTo>
                        <a:pt x="968" y="254"/>
                      </a:lnTo>
                      <a:lnTo>
                        <a:pt x="858" y="359"/>
                      </a:lnTo>
                      <a:lnTo>
                        <a:pt x="673" y="466"/>
                      </a:lnTo>
                      <a:lnTo>
                        <a:pt x="492" y="552"/>
                      </a:lnTo>
                      <a:lnTo>
                        <a:pt x="236" y="636"/>
                      </a:lnTo>
                      <a:lnTo>
                        <a:pt x="0" y="666"/>
                      </a:lnTo>
                      <a:lnTo>
                        <a:pt x="12" y="689"/>
                      </a:lnTo>
                      <a:lnTo>
                        <a:pt x="224" y="679"/>
                      </a:lnTo>
                      <a:lnTo>
                        <a:pt x="138" y="743"/>
                      </a:lnTo>
                      <a:lnTo>
                        <a:pt x="53" y="785"/>
                      </a:lnTo>
                      <a:lnTo>
                        <a:pt x="167" y="764"/>
                      </a:lnTo>
                      <a:lnTo>
                        <a:pt x="279" y="689"/>
                      </a:lnTo>
                      <a:lnTo>
                        <a:pt x="265" y="754"/>
                      </a:lnTo>
                      <a:lnTo>
                        <a:pt x="182" y="815"/>
                      </a:lnTo>
                      <a:lnTo>
                        <a:pt x="84" y="880"/>
                      </a:lnTo>
                      <a:lnTo>
                        <a:pt x="138" y="880"/>
                      </a:lnTo>
                      <a:lnTo>
                        <a:pt x="279" y="796"/>
                      </a:lnTo>
                      <a:lnTo>
                        <a:pt x="350" y="721"/>
                      </a:lnTo>
                      <a:lnTo>
                        <a:pt x="309" y="815"/>
                      </a:lnTo>
                      <a:lnTo>
                        <a:pt x="210" y="889"/>
                      </a:lnTo>
                      <a:lnTo>
                        <a:pt x="350" y="828"/>
                      </a:lnTo>
                      <a:lnTo>
                        <a:pt x="420" y="754"/>
                      </a:lnTo>
                      <a:lnTo>
                        <a:pt x="434" y="785"/>
                      </a:lnTo>
                      <a:lnTo>
                        <a:pt x="420" y="850"/>
                      </a:lnTo>
                      <a:lnTo>
                        <a:pt x="461" y="850"/>
                      </a:lnTo>
                      <a:lnTo>
                        <a:pt x="519" y="776"/>
                      </a:lnTo>
                      <a:lnTo>
                        <a:pt x="560" y="764"/>
                      </a:lnTo>
                      <a:lnTo>
                        <a:pt x="547" y="828"/>
                      </a:lnTo>
                      <a:lnTo>
                        <a:pt x="519" y="859"/>
                      </a:lnTo>
                      <a:lnTo>
                        <a:pt x="575" y="859"/>
                      </a:lnTo>
                      <a:lnTo>
                        <a:pt x="632" y="785"/>
                      </a:lnTo>
                      <a:lnTo>
                        <a:pt x="688" y="721"/>
                      </a:lnTo>
                      <a:lnTo>
                        <a:pt x="673" y="785"/>
                      </a:lnTo>
                      <a:lnTo>
                        <a:pt x="632" y="828"/>
                      </a:lnTo>
                      <a:lnTo>
                        <a:pt x="715" y="796"/>
                      </a:lnTo>
                      <a:lnTo>
                        <a:pt x="786" y="646"/>
                      </a:lnTo>
                      <a:lnTo>
                        <a:pt x="801" y="702"/>
                      </a:lnTo>
                      <a:lnTo>
                        <a:pt x="774" y="764"/>
                      </a:lnTo>
                      <a:lnTo>
                        <a:pt x="743" y="806"/>
                      </a:lnTo>
                      <a:lnTo>
                        <a:pt x="786" y="828"/>
                      </a:lnTo>
                      <a:lnTo>
                        <a:pt x="843" y="764"/>
                      </a:lnTo>
                      <a:lnTo>
                        <a:pt x="873" y="702"/>
                      </a:lnTo>
                      <a:lnTo>
                        <a:pt x="885" y="754"/>
                      </a:lnTo>
                      <a:lnTo>
                        <a:pt x="858" y="785"/>
                      </a:lnTo>
                      <a:lnTo>
                        <a:pt x="885" y="806"/>
                      </a:lnTo>
                      <a:lnTo>
                        <a:pt x="914" y="754"/>
                      </a:lnTo>
                      <a:lnTo>
                        <a:pt x="956" y="702"/>
                      </a:lnTo>
                      <a:lnTo>
                        <a:pt x="1025" y="594"/>
                      </a:lnTo>
                      <a:lnTo>
                        <a:pt x="1040" y="627"/>
                      </a:lnTo>
                      <a:lnTo>
                        <a:pt x="1025" y="702"/>
                      </a:lnTo>
                      <a:lnTo>
                        <a:pt x="999" y="776"/>
                      </a:lnTo>
                      <a:lnTo>
                        <a:pt x="1040" y="776"/>
                      </a:lnTo>
                      <a:lnTo>
                        <a:pt x="1068" y="689"/>
                      </a:lnTo>
                      <a:lnTo>
                        <a:pt x="1097" y="584"/>
                      </a:lnTo>
                      <a:lnTo>
                        <a:pt x="1124" y="657"/>
                      </a:lnTo>
                      <a:lnTo>
                        <a:pt x="1124" y="711"/>
                      </a:lnTo>
                      <a:lnTo>
                        <a:pt x="1166" y="657"/>
                      </a:lnTo>
                      <a:lnTo>
                        <a:pt x="1151" y="572"/>
                      </a:lnTo>
                      <a:lnTo>
                        <a:pt x="1181" y="498"/>
                      </a:lnTo>
                      <a:lnTo>
                        <a:pt x="1209" y="615"/>
                      </a:lnTo>
                      <a:lnTo>
                        <a:pt x="1209" y="679"/>
                      </a:lnTo>
                      <a:lnTo>
                        <a:pt x="1237" y="646"/>
                      </a:lnTo>
                      <a:lnTo>
                        <a:pt x="1251" y="552"/>
                      </a:lnTo>
                      <a:lnTo>
                        <a:pt x="1251" y="433"/>
                      </a:lnTo>
                      <a:lnTo>
                        <a:pt x="1251" y="349"/>
                      </a:lnTo>
                      <a:lnTo>
                        <a:pt x="1293" y="423"/>
                      </a:lnTo>
                      <a:lnTo>
                        <a:pt x="1281" y="498"/>
                      </a:lnTo>
                      <a:lnTo>
                        <a:pt x="1321" y="510"/>
                      </a:lnTo>
                      <a:lnTo>
                        <a:pt x="1334" y="433"/>
                      </a:lnTo>
                      <a:lnTo>
                        <a:pt x="1321" y="307"/>
                      </a:lnTo>
                      <a:lnTo>
                        <a:pt x="1266" y="190"/>
                      </a:lnTo>
                      <a:lnTo>
                        <a:pt x="1251" y="116"/>
                      </a:lnTo>
                      <a:lnTo>
                        <a:pt x="1251" y="0"/>
                      </a:lnTo>
                      <a:lnTo>
                        <a:pt x="1068" y="13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89"/>
                <p:cNvSpPr/>
                <p:nvPr/>
              </p:nvSpPr>
              <p:spPr>
                <a:xfrm>
                  <a:off x="808200" y="4850280"/>
                  <a:ext cx="408240" cy="336960"/>
                </a:xfrm>
                <a:custGeom>
                  <a:avLst/>
                  <a:gdLst>
                    <a:gd name="textAreaLeft" fmla="*/ 0 w 408240"/>
                    <a:gd name="textAreaRight" fmla="*/ 408600 w 408240"/>
                    <a:gd name="textAreaTop" fmla="*/ 0 h 336960"/>
                    <a:gd name="textAreaBottom" fmla="*/ 337320 h 336960"/>
                  </a:gdLst>
                  <a:ahLst/>
                  <a:rect l="textAreaLeft" t="textAreaTop" r="textAreaRight" b="textAreaBottom"/>
                  <a:pathLst>
                    <a:path w="468" h="479">
                      <a:moveTo>
                        <a:pt x="468" y="0"/>
                      </a:moveTo>
                      <a:lnTo>
                        <a:pt x="420" y="63"/>
                      </a:lnTo>
                      <a:lnTo>
                        <a:pt x="378" y="157"/>
                      </a:lnTo>
                      <a:lnTo>
                        <a:pt x="277" y="282"/>
                      </a:lnTo>
                      <a:lnTo>
                        <a:pt x="180" y="340"/>
                      </a:lnTo>
                      <a:lnTo>
                        <a:pt x="71" y="429"/>
                      </a:lnTo>
                      <a:lnTo>
                        <a:pt x="0" y="455"/>
                      </a:lnTo>
                      <a:lnTo>
                        <a:pt x="40" y="455"/>
                      </a:lnTo>
                      <a:lnTo>
                        <a:pt x="138" y="413"/>
                      </a:lnTo>
                      <a:lnTo>
                        <a:pt x="112" y="479"/>
                      </a:lnTo>
                      <a:lnTo>
                        <a:pt x="172" y="378"/>
                      </a:lnTo>
                      <a:lnTo>
                        <a:pt x="206" y="367"/>
                      </a:lnTo>
                      <a:lnTo>
                        <a:pt x="191" y="420"/>
                      </a:lnTo>
                      <a:lnTo>
                        <a:pt x="243" y="336"/>
                      </a:lnTo>
                      <a:lnTo>
                        <a:pt x="319" y="261"/>
                      </a:lnTo>
                      <a:lnTo>
                        <a:pt x="307" y="319"/>
                      </a:lnTo>
                      <a:lnTo>
                        <a:pt x="359" y="210"/>
                      </a:lnTo>
                      <a:lnTo>
                        <a:pt x="363" y="252"/>
                      </a:lnTo>
                      <a:lnTo>
                        <a:pt x="386" y="173"/>
                      </a:lnTo>
                      <a:lnTo>
                        <a:pt x="439" y="88"/>
                      </a:lnTo>
                      <a:lnTo>
                        <a:pt x="468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90"/>
                <p:cNvSpPr/>
                <p:nvPr/>
              </p:nvSpPr>
              <p:spPr>
                <a:xfrm>
                  <a:off x="677520" y="5225400"/>
                  <a:ext cx="355320" cy="214920"/>
                </a:xfrm>
                <a:custGeom>
                  <a:avLst/>
                  <a:gdLst>
                    <a:gd name="textAreaLeft" fmla="*/ 0 w 355320"/>
                    <a:gd name="textAreaRight" fmla="*/ 355320 w 355320"/>
                    <a:gd name="textAreaTop" fmla="*/ 0 h 214920"/>
                    <a:gd name="textAreaBottom" fmla="*/ 215280 h 214920"/>
                  </a:gdLst>
                  <a:ahLst/>
                  <a:rect l="textAreaLeft" t="textAreaTop" r="textAreaRight" b="textAreaBottom"/>
                  <a:pathLst>
                    <a:path w="409" h="307">
                      <a:moveTo>
                        <a:pt x="409" y="0"/>
                      </a:moveTo>
                      <a:lnTo>
                        <a:pt x="331" y="76"/>
                      </a:lnTo>
                      <a:lnTo>
                        <a:pt x="241" y="142"/>
                      </a:lnTo>
                      <a:lnTo>
                        <a:pt x="151" y="190"/>
                      </a:lnTo>
                      <a:lnTo>
                        <a:pt x="53" y="244"/>
                      </a:lnTo>
                      <a:lnTo>
                        <a:pt x="0" y="261"/>
                      </a:lnTo>
                      <a:lnTo>
                        <a:pt x="42" y="261"/>
                      </a:lnTo>
                      <a:lnTo>
                        <a:pt x="23" y="307"/>
                      </a:lnTo>
                      <a:lnTo>
                        <a:pt x="79" y="257"/>
                      </a:lnTo>
                      <a:lnTo>
                        <a:pt x="86" y="290"/>
                      </a:lnTo>
                      <a:lnTo>
                        <a:pt x="139" y="224"/>
                      </a:lnTo>
                      <a:lnTo>
                        <a:pt x="139" y="274"/>
                      </a:lnTo>
                      <a:lnTo>
                        <a:pt x="195" y="190"/>
                      </a:lnTo>
                      <a:lnTo>
                        <a:pt x="241" y="168"/>
                      </a:lnTo>
                      <a:lnTo>
                        <a:pt x="267" y="168"/>
                      </a:lnTo>
                      <a:lnTo>
                        <a:pt x="237" y="237"/>
                      </a:lnTo>
                      <a:lnTo>
                        <a:pt x="281" y="181"/>
                      </a:lnTo>
                      <a:lnTo>
                        <a:pt x="289" y="131"/>
                      </a:lnTo>
                      <a:lnTo>
                        <a:pt x="338" y="93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91"/>
                <p:cNvSpPr/>
                <p:nvPr/>
              </p:nvSpPr>
              <p:spPr>
                <a:xfrm>
                  <a:off x="491760" y="5502600"/>
                  <a:ext cx="418320" cy="216360"/>
                </a:xfrm>
                <a:custGeom>
                  <a:avLst/>
                  <a:gdLst>
                    <a:gd name="textAreaLeft" fmla="*/ 0 w 418320"/>
                    <a:gd name="textAreaRight" fmla="*/ 418680 w 41832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481" h="308">
                      <a:moveTo>
                        <a:pt x="481" y="0"/>
                      </a:moveTo>
                      <a:lnTo>
                        <a:pt x="388" y="85"/>
                      </a:lnTo>
                      <a:lnTo>
                        <a:pt x="300" y="135"/>
                      </a:lnTo>
                      <a:lnTo>
                        <a:pt x="180" y="186"/>
                      </a:lnTo>
                      <a:lnTo>
                        <a:pt x="112" y="220"/>
                      </a:lnTo>
                      <a:lnTo>
                        <a:pt x="0" y="249"/>
                      </a:lnTo>
                      <a:lnTo>
                        <a:pt x="63" y="253"/>
                      </a:lnTo>
                      <a:lnTo>
                        <a:pt x="59" y="299"/>
                      </a:lnTo>
                      <a:lnTo>
                        <a:pt x="93" y="233"/>
                      </a:lnTo>
                      <a:lnTo>
                        <a:pt x="112" y="308"/>
                      </a:lnTo>
                      <a:lnTo>
                        <a:pt x="131" y="233"/>
                      </a:lnTo>
                      <a:lnTo>
                        <a:pt x="252" y="177"/>
                      </a:lnTo>
                      <a:lnTo>
                        <a:pt x="252" y="253"/>
                      </a:lnTo>
                      <a:lnTo>
                        <a:pt x="283" y="173"/>
                      </a:lnTo>
                      <a:lnTo>
                        <a:pt x="384" y="114"/>
                      </a:lnTo>
                      <a:lnTo>
                        <a:pt x="481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92"/>
                <p:cNvSpPr/>
                <p:nvPr/>
              </p:nvSpPr>
              <p:spPr>
                <a:xfrm>
                  <a:off x="303120" y="5814720"/>
                  <a:ext cx="486360" cy="158760"/>
                </a:xfrm>
                <a:custGeom>
                  <a:avLst/>
                  <a:gdLst>
                    <a:gd name="textAreaLeft" fmla="*/ 0 w 486360"/>
                    <a:gd name="textAreaRight" fmla="*/ 486720 w 48636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56" h="226">
                      <a:moveTo>
                        <a:pt x="0" y="134"/>
                      </a:moveTo>
                      <a:lnTo>
                        <a:pt x="176" y="117"/>
                      </a:lnTo>
                      <a:lnTo>
                        <a:pt x="292" y="84"/>
                      </a:lnTo>
                      <a:lnTo>
                        <a:pt x="462" y="20"/>
                      </a:lnTo>
                      <a:lnTo>
                        <a:pt x="556" y="0"/>
                      </a:lnTo>
                      <a:lnTo>
                        <a:pt x="466" y="38"/>
                      </a:lnTo>
                      <a:lnTo>
                        <a:pt x="374" y="71"/>
                      </a:lnTo>
                      <a:lnTo>
                        <a:pt x="363" y="154"/>
                      </a:lnTo>
                      <a:lnTo>
                        <a:pt x="359" y="66"/>
                      </a:lnTo>
                      <a:lnTo>
                        <a:pt x="273" y="108"/>
                      </a:lnTo>
                      <a:lnTo>
                        <a:pt x="254" y="226"/>
                      </a:lnTo>
                      <a:lnTo>
                        <a:pt x="254" y="117"/>
                      </a:lnTo>
                      <a:lnTo>
                        <a:pt x="153" y="137"/>
                      </a:lnTo>
                      <a:lnTo>
                        <a:pt x="112" y="193"/>
                      </a:lnTo>
                      <a:lnTo>
                        <a:pt x="126" y="137"/>
                      </a:lnTo>
                      <a:lnTo>
                        <a:pt x="48" y="197"/>
                      </a:lnTo>
                      <a:lnTo>
                        <a:pt x="82" y="137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93"/>
                <p:cNvSpPr/>
                <p:nvPr/>
              </p:nvSpPr>
              <p:spPr>
                <a:xfrm>
                  <a:off x="230040" y="6032520"/>
                  <a:ext cx="541800" cy="202320"/>
                </a:xfrm>
                <a:custGeom>
                  <a:avLst/>
                  <a:gdLst>
                    <a:gd name="textAreaLeft" fmla="*/ 0 w 541800"/>
                    <a:gd name="textAreaRight" fmla="*/ 542160 w 54180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623" h="286">
                      <a:moveTo>
                        <a:pt x="0" y="177"/>
                      </a:moveTo>
                      <a:lnTo>
                        <a:pt x="126" y="160"/>
                      </a:lnTo>
                      <a:lnTo>
                        <a:pt x="281" y="131"/>
                      </a:lnTo>
                      <a:lnTo>
                        <a:pt x="484" y="72"/>
                      </a:lnTo>
                      <a:lnTo>
                        <a:pt x="623" y="0"/>
                      </a:lnTo>
                      <a:lnTo>
                        <a:pt x="468" y="105"/>
                      </a:lnTo>
                      <a:lnTo>
                        <a:pt x="397" y="180"/>
                      </a:lnTo>
                      <a:lnTo>
                        <a:pt x="336" y="256"/>
                      </a:lnTo>
                      <a:lnTo>
                        <a:pt x="382" y="164"/>
                      </a:lnTo>
                      <a:lnTo>
                        <a:pt x="412" y="122"/>
                      </a:lnTo>
                      <a:lnTo>
                        <a:pt x="303" y="171"/>
                      </a:lnTo>
                      <a:lnTo>
                        <a:pt x="281" y="222"/>
                      </a:lnTo>
                      <a:lnTo>
                        <a:pt x="250" y="277"/>
                      </a:lnTo>
                      <a:lnTo>
                        <a:pt x="281" y="171"/>
                      </a:lnTo>
                      <a:lnTo>
                        <a:pt x="235" y="180"/>
                      </a:lnTo>
                      <a:lnTo>
                        <a:pt x="212" y="226"/>
                      </a:lnTo>
                      <a:lnTo>
                        <a:pt x="194" y="273"/>
                      </a:lnTo>
                      <a:lnTo>
                        <a:pt x="221" y="171"/>
                      </a:lnTo>
                      <a:lnTo>
                        <a:pt x="93" y="184"/>
                      </a:lnTo>
                      <a:lnTo>
                        <a:pt x="52" y="286"/>
                      </a:lnTo>
                      <a:lnTo>
                        <a:pt x="82" y="197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94"/>
                <p:cNvSpPr/>
                <p:nvPr/>
              </p:nvSpPr>
              <p:spPr>
                <a:xfrm>
                  <a:off x="91080" y="6300720"/>
                  <a:ext cx="609480" cy="219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699" h="312">
                      <a:moveTo>
                        <a:pt x="699" y="0"/>
                      </a:moveTo>
                      <a:lnTo>
                        <a:pt x="574" y="85"/>
                      </a:lnTo>
                      <a:lnTo>
                        <a:pt x="431" y="143"/>
                      </a:lnTo>
                      <a:lnTo>
                        <a:pt x="303" y="189"/>
                      </a:lnTo>
                      <a:lnTo>
                        <a:pt x="154" y="231"/>
                      </a:lnTo>
                      <a:lnTo>
                        <a:pt x="0" y="248"/>
                      </a:lnTo>
                      <a:lnTo>
                        <a:pt x="158" y="248"/>
                      </a:lnTo>
                      <a:lnTo>
                        <a:pt x="116" y="277"/>
                      </a:lnTo>
                      <a:lnTo>
                        <a:pt x="194" y="239"/>
                      </a:lnTo>
                      <a:lnTo>
                        <a:pt x="288" y="215"/>
                      </a:lnTo>
                      <a:lnTo>
                        <a:pt x="213" y="264"/>
                      </a:lnTo>
                      <a:lnTo>
                        <a:pt x="288" y="235"/>
                      </a:lnTo>
                      <a:lnTo>
                        <a:pt x="356" y="193"/>
                      </a:lnTo>
                      <a:lnTo>
                        <a:pt x="341" y="257"/>
                      </a:lnTo>
                      <a:lnTo>
                        <a:pt x="274" y="312"/>
                      </a:lnTo>
                      <a:lnTo>
                        <a:pt x="374" y="248"/>
                      </a:lnTo>
                      <a:lnTo>
                        <a:pt x="405" y="189"/>
                      </a:lnTo>
                      <a:lnTo>
                        <a:pt x="528" y="123"/>
                      </a:lnTo>
                      <a:lnTo>
                        <a:pt x="699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Freeform 95"/>
            <p:cNvSpPr/>
            <p:nvPr/>
          </p:nvSpPr>
          <p:spPr>
            <a:xfrm>
              <a:off x="976320" y="5047200"/>
              <a:ext cx="515880" cy="159696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591" h="2272">
                  <a:moveTo>
                    <a:pt x="105" y="1704"/>
                  </a:moveTo>
                  <a:lnTo>
                    <a:pt x="8" y="1972"/>
                  </a:lnTo>
                  <a:lnTo>
                    <a:pt x="105" y="1930"/>
                  </a:lnTo>
                  <a:lnTo>
                    <a:pt x="25" y="2131"/>
                  </a:lnTo>
                  <a:lnTo>
                    <a:pt x="113" y="1997"/>
                  </a:lnTo>
                  <a:lnTo>
                    <a:pt x="89" y="2188"/>
                  </a:lnTo>
                  <a:lnTo>
                    <a:pt x="146" y="2047"/>
                  </a:lnTo>
                  <a:lnTo>
                    <a:pt x="162" y="2223"/>
                  </a:lnTo>
                  <a:lnTo>
                    <a:pt x="218" y="1963"/>
                  </a:lnTo>
                  <a:lnTo>
                    <a:pt x="259" y="2272"/>
                  </a:lnTo>
                  <a:lnTo>
                    <a:pt x="275" y="1963"/>
                  </a:lnTo>
                  <a:lnTo>
                    <a:pt x="381" y="2139"/>
                  </a:lnTo>
                  <a:lnTo>
                    <a:pt x="315" y="1888"/>
                  </a:lnTo>
                  <a:lnTo>
                    <a:pt x="438" y="2030"/>
                  </a:lnTo>
                  <a:lnTo>
                    <a:pt x="348" y="1822"/>
                  </a:lnTo>
                  <a:lnTo>
                    <a:pt x="511" y="1922"/>
                  </a:lnTo>
                  <a:lnTo>
                    <a:pt x="454" y="1737"/>
                  </a:lnTo>
                  <a:lnTo>
                    <a:pt x="591" y="1713"/>
                  </a:lnTo>
                  <a:lnTo>
                    <a:pt x="470" y="8"/>
                  </a:lnTo>
                  <a:lnTo>
                    <a:pt x="226" y="0"/>
                  </a:lnTo>
                  <a:lnTo>
                    <a:pt x="0" y="1754"/>
                  </a:lnTo>
                  <a:lnTo>
                    <a:pt x="105" y="1704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Group 15"/>
            <p:cNvGrpSpPr/>
            <p:nvPr/>
          </p:nvGrpSpPr>
          <p:grpSpPr>
            <a:xfrm>
              <a:off x="2133720" y="4648320"/>
              <a:ext cx="7008480" cy="2209680"/>
              <a:chOff x="2133720" y="4648320"/>
              <a:chExt cx="7008480" cy="2209680"/>
            </a:xfrm>
          </p:grpSpPr>
          <p:grpSp>
            <p:nvGrpSpPr>
              <p:cNvPr id="431" name="Group 3"/>
              <p:cNvGrpSpPr/>
              <p:nvPr/>
            </p:nvGrpSpPr>
            <p:grpSpPr>
              <a:xfrm>
                <a:off x="2133720" y="5050080"/>
                <a:ext cx="2818080" cy="1807200"/>
                <a:chOff x="2133720" y="5050080"/>
                <a:chExt cx="2818080" cy="1807200"/>
              </a:xfrm>
            </p:grpSpPr>
            <p:grpSp>
              <p:nvGrpSpPr>
                <p:cNvPr id="432" name="Group 4"/>
                <p:cNvGrpSpPr/>
                <p:nvPr/>
              </p:nvGrpSpPr>
              <p:grpSpPr>
                <a:xfrm>
                  <a:off x="3413880" y="5256360"/>
                  <a:ext cx="293760" cy="1600920"/>
                  <a:chOff x="3413880" y="5256360"/>
                  <a:chExt cx="293760" cy="1600920"/>
                </a:xfrm>
              </p:grpSpPr>
              <p:sp>
                <p:nvSpPr>
                  <p:cNvPr id="433" name="Freeform 5"/>
                  <p:cNvSpPr/>
                  <p:nvPr/>
                </p:nvSpPr>
                <p:spPr>
                  <a:xfrm>
                    <a:off x="3413880" y="5256360"/>
                    <a:ext cx="293760" cy="1600920"/>
                  </a:xfrm>
                  <a:custGeom>
                    <a:avLst/>
                    <a:gdLst>
                      <a:gd name="textAreaLeft" fmla="*/ 0 w 293760"/>
                      <a:gd name="textAreaRight" fmla="*/ 294120 w 293760"/>
                      <a:gd name="textAreaTop" fmla="*/ 0 h 1600920"/>
                      <a:gd name="textAreaBottom" fmla="*/ 1601280 h 1600920"/>
                    </a:gdLst>
                    <a:ahLst/>
                    <a:rect l="textAreaLeft" t="textAreaTop" r="textAreaRight" b="textAreaBottom"/>
                    <a:pathLst>
                      <a:path w="296" h="2278">
                        <a:moveTo>
                          <a:pt x="111" y="0"/>
                        </a:moveTo>
                        <a:lnTo>
                          <a:pt x="35" y="1152"/>
                        </a:lnTo>
                        <a:lnTo>
                          <a:pt x="43" y="1448"/>
                        </a:lnTo>
                        <a:lnTo>
                          <a:pt x="41" y="1673"/>
                        </a:lnTo>
                        <a:lnTo>
                          <a:pt x="43" y="1736"/>
                        </a:lnTo>
                        <a:lnTo>
                          <a:pt x="45" y="1833"/>
                        </a:lnTo>
                        <a:lnTo>
                          <a:pt x="35" y="1928"/>
                        </a:lnTo>
                        <a:lnTo>
                          <a:pt x="37" y="2050"/>
                        </a:lnTo>
                        <a:lnTo>
                          <a:pt x="27" y="2157"/>
                        </a:lnTo>
                        <a:lnTo>
                          <a:pt x="0" y="2249"/>
                        </a:lnTo>
                        <a:lnTo>
                          <a:pt x="68" y="2257"/>
                        </a:lnTo>
                        <a:lnTo>
                          <a:pt x="122" y="2278"/>
                        </a:lnTo>
                        <a:lnTo>
                          <a:pt x="199" y="2272"/>
                        </a:lnTo>
                        <a:lnTo>
                          <a:pt x="257" y="2272"/>
                        </a:lnTo>
                        <a:lnTo>
                          <a:pt x="296" y="2245"/>
                        </a:lnTo>
                        <a:lnTo>
                          <a:pt x="286" y="2153"/>
                        </a:lnTo>
                        <a:lnTo>
                          <a:pt x="272" y="2050"/>
                        </a:lnTo>
                        <a:lnTo>
                          <a:pt x="273" y="1862"/>
                        </a:lnTo>
                        <a:lnTo>
                          <a:pt x="272" y="1806"/>
                        </a:lnTo>
                        <a:lnTo>
                          <a:pt x="272" y="1673"/>
                        </a:lnTo>
                        <a:lnTo>
                          <a:pt x="272" y="1555"/>
                        </a:lnTo>
                        <a:lnTo>
                          <a:pt x="258" y="1440"/>
                        </a:lnTo>
                        <a:lnTo>
                          <a:pt x="265" y="946"/>
                        </a:lnTo>
                        <a:lnTo>
                          <a:pt x="265" y="326"/>
                        </a:lnTo>
                        <a:lnTo>
                          <a:pt x="242" y="81"/>
                        </a:lnTo>
                        <a:lnTo>
                          <a:pt x="111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Freeform 6"/>
                  <p:cNvSpPr/>
                  <p:nvPr/>
                </p:nvSpPr>
                <p:spPr>
                  <a:xfrm>
                    <a:off x="3518280" y="6276600"/>
                    <a:ext cx="180000" cy="561960"/>
                  </a:xfrm>
                  <a:custGeom>
                    <a:avLst/>
                    <a:gdLst>
                      <a:gd name="textAreaLeft" fmla="*/ 0 w 180000"/>
                      <a:gd name="textAreaRight" fmla="*/ 180360 w 180000"/>
                      <a:gd name="textAreaTop" fmla="*/ 0 h 561960"/>
                      <a:gd name="textAreaBottom" fmla="*/ 562320 h 561960"/>
                    </a:gdLst>
                    <a:ahLst/>
                    <a:rect l="textAreaLeft" t="textAreaTop" r="textAreaRight" b="textAreaBottom"/>
                    <a:pathLst>
                      <a:path w="180" h="801">
                        <a:moveTo>
                          <a:pt x="124" y="0"/>
                        </a:moveTo>
                        <a:lnTo>
                          <a:pt x="66" y="40"/>
                        </a:lnTo>
                        <a:lnTo>
                          <a:pt x="0" y="66"/>
                        </a:lnTo>
                        <a:lnTo>
                          <a:pt x="43" y="70"/>
                        </a:lnTo>
                        <a:lnTo>
                          <a:pt x="108" y="58"/>
                        </a:lnTo>
                        <a:lnTo>
                          <a:pt x="81" y="103"/>
                        </a:lnTo>
                        <a:lnTo>
                          <a:pt x="20" y="140"/>
                        </a:lnTo>
                        <a:lnTo>
                          <a:pt x="93" y="144"/>
                        </a:lnTo>
                        <a:lnTo>
                          <a:pt x="120" y="165"/>
                        </a:lnTo>
                        <a:lnTo>
                          <a:pt x="89" y="202"/>
                        </a:lnTo>
                        <a:lnTo>
                          <a:pt x="35" y="233"/>
                        </a:lnTo>
                        <a:lnTo>
                          <a:pt x="124" y="239"/>
                        </a:lnTo>
                        <a:lnTo>
                          <a:pt x="131" y="274"/>
                        </a:lnTo>
                        <a:lnTo>
                          <a:pt x="124" y="307"/>
                        </a:lnTo>
                        <a:lnTo>
                          <a:pt x="58" y="350"/>
                        </a:lnTo>
                        <a:lnTo>
                          <a:pt x="20" y="350"/>
                        </a:lnTo>
                        <a:lnTo>
                          <a:pt x="85" y="369"/>
                        </a:lnTo>
                        <a:lnTo>
                          <a:pt x="128" y="373"/>
                        </a:lnTo>
                        <a:lnTo>
                          <a:pt x="101" y="410"/>
                        </a:lnTo>
                        <a:lnTo>
                          <a:pt x="54" y="447"/>
                        </a:lnTo>
                        <a:lnTo>
                          <a:pt x="128" y="484"/>
                        </a:lnTo>
                        <a:lnTo>
                          <a:pt x="128" y="572"/>
                        </a:lnTo>
                        <a:lnTo>
                          <a:pt x="93" y="665"/>
                        </a:lnTo>
                        <a:lnTo>
                          <a:pt x="135" y="690"/>
                        </a:lnTo>
                        <a:lnTo>
                          <a:pt x="58" y="709"/>
                        </a:lnTo>
                        <a:lnTo>
                          <a:pt x="143" y="719"/>
                        </a:lnTo>
                        <a:lnTo>
                          <a:pt x="43" y="750"/>
                        </a:lnTo>
                        <a:lnTo>
                          <a:pt x="147" y="760"/>
                        </a:lnTo>
                        <a:lnTo>
                          <a:pt x="77" y="783"/>
                        </a:lnTo>
                        <a:lnTo>
                          <a:pt x="43" y="801"/>
                        </a:lnTo>
                        <a:lnTo>
                          <a:pt x="116" y="801"/>
                        </a:lnTo>
                        <a:lnTo>
                          <a:pt x="180" y="793"/>
                        </a:lnTo>
                        <a:lnTo>
                          <a:pt x="166" y="713"/>
                        </a:lnTo>
                        <a:lnTo>
                          <a:pt x="151" y="645"/>
                        </a:lnTo>
                        <a:lnTo>
                          <a:pt x="155" y="546"/>
                        </a:lnTo>
                        <a:lnTo>
                          <a:pt x="151" y="414"/>
                        </a:lnTo>
                        <a:lnTo>
                          <a:pt x="157" y="310"/>
                        </a:lnTo>
                        <a:lnTo>
                          <a:pt x="151" y="181"/>
                        </a:lnTo>
                        <a:lnTo>
                          <a:pt x="139" y="122"/>
                        </a:lnTo>
                        <a:lnTo>
                          <a:pt x="139" y="58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Group 7"/>
                <p:cNvGrpSpPr/>
                <p:nvPr/>
              </p:nvGrpSpPr>
              <p:grpSpPr>
                <a:xfrm>
                  <a:off x="2133720" y="5050080"/>
                  <a:ext cx="1513800" cy="1601640"/>
                  <a:chOff x="2133720" y="5050080"/>
                  <a:chExt cx="1513800" cy="1601640"/>
                </a:xfrm>
              </p:grpSpPr>
              <p:sp>
                <p:nvSpPr>
                  <p:cNvPr id="436" name="Freeform 8"/>
                  <p:cNvSpPr/>
                  <p:nvPr/>
                </p:nvSpPr>
                <p:spPr>
                  <a:xfrm>
                    <a:off x="2914920" y="5050080"/>
                    <a:ext cx="732600" cy="435600"/>
                  </a:xfrm>
                  <a:custGeom>
                    <a:avLst/>
                    <a:gdLst>
                      <a:gd name="textAreaLeft" fmla="*/ 0 w 732600"/>
                      <a:gd name="textAreaRight" fmla="*/ 732960 w 732600"/>
                      <a:gd name="textAreaTop" fmla="*/ 0 h 435600"/>
                      <a:gd name="textAreaBottom" fmla="*/ 435960 h 435600"/>
                    </a:gdLst>
                    <a:ahLst/>
                    <a:rect l="textAreaLeft" t="textAreaTop" r="textAreaRight" b="textAreaBottom"/>
                    <a:pathLst>
                      <a:path w="730" h="620">
                        <a:moveTo>
                          <a:pt x="584" y="95"/>
                        </a:moveTo>
                        <a:lnTo>
                          <a:pt x="531" y="177"/>
                        </a:lnTo>
                        <a:lnTo>
                          <a:pt x="470" y="251"/>
                        </a:lnTo>
                        <a:lnTo>
                          <a:pt x="369" y="325"/>
                        </a:lnTo>
                        <a:lnTo>
                          <a:pt x="269" y="383"/>
                        </a:lnTo>
                        <a:lnTo>
                          <a:pt x="131" y="442"/>
                        </a:lnTo>
                        <a:lnTo>
                          <a:pt x="0" y="465"/>
                        </a:lnTo>
                        <a:lnTo>
                          <a:pt x="8" y="479"/>
                        </a:lnTo>
                        <a:lnTo>
                          <a:pt x="124" y="472"/>
                        </a:lnTo>
                        <a:lnTo>
                          <a:pt x="78" y="516"/>
                        </a:lnTo>
                        <a:lnTo>
                          <a:pt x="31" y="546"/>
                        </a:lnTo>
                        <a:lnTo>
                          <a:pt x="93" y="531"/>
                        </a:lnTo>
                        <a:lnTo>
                          <a:pt x="155" y="479"/>
                        </a:lnTo>
                        <a:lnTo>
                          <a:pt x="147" y="523"/>
                        </a:lnTo>
                        <a:lnTo>
                          <a:pt x="101" y="568"/>
                        </a:lnTo>
                        <a:lnTo>
                          <a:pt x="47" y="612"/>
                        </a:lnTo>
                        <a:lnTo>
                          <a:pt x="78" y="612"/>
                        </a:lnTo>
                        <a:lnTo>
                          <a:pt x="155" y="552"/>
                        </a:lnTo>
                        <a:lnTo>
                          <a:pt x="193" y="502"/>
                        </a:lnTo>
                        <a:lnTo>
                          <a:pt x="170" y="568"/>
                        </a:lnTo>
                        <a:lnTo>
                          <a:pt x="116" y="620"/>
                        </a:lnTo>
                        <a:lnTo>
                          <a:pt x="193" y="575"/>
                        </a:lnTo>
                        <a:lnTo>
                          <a:pt x="232" y="523"/>
                        </a:lnTo>
                        <a:lnTo>
                          <a:pt x="238" y="546"/>
                        </a:lnTo>
                        <a:lnTo>
                          <a:pt x="232" y="589"/>
                        </a:lnTo>
                        <a:lnTo>
                          <a:pt x="255" y="589"/>
                        </a:lnTo>
                        <a:lnTo>
                          <a:pt x="286" y="538"/>
                        </a:lnTo>
                        <a:lnTo>
                          <a:pt x="308" y="531"/>
                        </a:lnTo>
                        <a:lnTo>
                          <a:pt x="300" y="575"/>
                        </a:lnTo>
                        <a:lnTo>
                          <a:pt x="286" y="597"/>
                        </a:lnTo>
                        <a:lnTo>
                          <a:pt x="315" y="597"/>
                        </a:lnTo>
                        <a:lnTo>
                          <a:pt x="346" y="546"/>
                        </a:lnTo>
                        <a:lnTo>
                          <a:pt x="377" y="502"/>
                        </a:lnTo>
                        <a:lnTo>
                          <a:pt x="369" y="546"/>
                        </a:lnTo>
                        <a:lnTo>
                          <a:pt x="346" y="575"/>
                        </a:lnTo>
                        <a:lnTo>
                          <a:pt x="392" y="552"/>
                        </a:lnTo>
                        <a:lnTo>
                          <a:pt x="431" y="449"/>
                        </a:lnTo>
                        <a:lnTo>
                          <a:pt x="439" y="486"/>
                        </a:lnTo>
                        <a:lnTo>
                          <a:pt x="423" y="531"/>
                        </a:lnTo>
                        <a:lnTo>
                          <a:pt x="408" y="560"/>
                        </a:lnTo>
                        <a:lnTo>
                          <a:pt x="431" y="575"/>
                        </a:lnTo>
                        <a:lnTo>
                          <a:pt x="462" y="531"/>
                        </a:lnTo>
                        <a:lnTo>
                          <a:pt x="477" y="486"/>
                        </a:lnTo>
                        <a:lnTo>
                          <a:pt x="485" y="523"/>
                        </a:lnTo>
                        <a:lnTo>
                          <a:pt x="470" y="546"/>
                        </a:lnTo>
                        <a:lnTo>
                          <a:pt x="485" y="560"/>
                        </a:lnTo>
                        <a:lnTo>
                          <a:pt x="500" y="523"/>
                        </a:lnTo>
                        <a:lnTo>
                          <a:pt x="523" y="486"/>
                        </a:lnTo>
                        <a:lnTo>
                          <a:pt x="562" y="412"/>
                        </a:lnTo>
                        <a:lnTo>
                          <a:pt x="570" y="435"/>
                        </a:lnTo>
                        <a:lnTo>
                          <a:pt x="562" y="486"/>
                        </a:lnTo>
                        <a:lnTo>
                          <a:pt x="547" y="538"/>
                        </a:lnTo>
                        <a:lnTo>
                          <a:pt x="570" y="538"/>
                        </a:lnTo>
                        <a:lnTo>
                          <a:pt x="584" y="479"/>
                        </a:lnTo>
                        <a:lnTo>
                          <a:pt x="601" y="405"/>
                        </a:lnTo>
                        <a:lnTo>
                          <a:pt x="615" y="457"/>
                        </a:lnTo>
                        <a:lnTo>
                          <a:pt x="615" y="494"/>
                        </a:lnTo>
                        <a:lnTo>
                          <a:pt x="638" y="457"/>
                        </a:lnTo>
                        <a:lnTo>
                          <a:pt x="630" y="398"/>
                        </a:lnTo>
                        <a:lnTo>
                          <a:pt x="646" y="346"/>
                        </a:lnTo>
                        <a:lnTo>
                          <a:pt x="661" y="428"/>
                        </a:lnTo>
                        <a:lnTo>
                          <a:pt x="661" y="472"/>
                        </a:lnTo>
                        <a:lnTo>
                          <a:pt x="677" y="449"/>
                        </a:lnTo>
                        <a:lnTo>
                          <a:pt x="684" y="383"/>
                        </a:lnTo>
                        <a:lnTo>
                          <a:pt x="684" y="302"/>
                        </a:lnTo>
                        <a:lnTo>
                          <a:pt x="684" y="243"/>
                        </a:lnTo>
                        <a:lnTo>
                          <a:pt x="707" y="294"/>
                        </a:lnTo>
                        <a:lnTo>
                          <a:pt x="700" y="346"/>
                        </a:lnTo>
                        <a:lnTo>
                          <a:pt x="723" y="354"/>
                        </a:lnTo>
                        <a:lnTo>
                          <a:pt x="730" y="302"/>
                        </a:lnTo>
                        <a:lnTo>
                          <a:pt x="723" y="214"/>
                        </a:lnTo>
                        <a:lnTo>
                          <a:pt x="692" y="132"/>
                        </a:lnTo>
                        <a:lnTo>
                          <a:pt x="684" y="80"/>
                        </a:lnTo>
                        <a:lnTo>
                          <a:pt x="684" y="0"/>
                        </a:lnTo>
                        <a:lnTo>
                          <a:pt x="584" y="9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Freeform 9"/>
                  <p:cNvSpPr/>
                  <p:nvPr/>
                </p:nvSpPr>
                <p:spPr>
                  <a:xfrm>
                    <a:off x="2770560" y="5246640"/>
                    <a:ext cx="813960" cy="445320"/>
                  </a:xfrm>
                  <a:custGeom>
                    <a:avLst/>
                    <a:gdLst>
                      <a:gd name="textAreaLeft" fmla="*/ 0 w 813960"/>
                      <a:gd name="textAreaRight" fmla="*/ 814320 w 813960"/>
                      <a:gd name="textAreaTop" fmla="*/ 0 h 445320"/>
                      <a:gd name="textAreaBottom" fmla="*/ 445680 h 445320"/>
                    </a:gdLst>
                    <a:ahLst/>
                    <a:rect l="textAreaLeft" t="textAreaTop" r="textAreaRight" b="textAreaBottom"/>
                    <a:pathLst>
                      <a:path w="813" h="634">
                        <a:moveTo>
                          <a:pt x="650" y="97"/>
                        </a:moveTo>
                        <a:lnTo>
                          <a:pt x="589" y="181"/>
                        </a:lnTo>
                        <a:lnTo>
                          <a:pt x="522" y="256"/>
                        </a:lnTo>
                        <a:lnTo>
                          <a:pt x="410" y="332"/>
                        </a:lnTo>
                        <a:lnTo>
                          <a:pt x="300" y="392"/>
                        </a:lnTo>
                        <a:lnTo>
                          <a:pt x="145" y="453"/>
                        </a:lnTo>
                        <a:lnTo>
                          <a:pt x="0" y="475"/>
                        </a:lnTo>
                        <a:lnTo>
                          <a:pt x="8" y="492"/>
                        </a:lnTo>
                        <a:lnTo>
                          <a:pt x="137" y="484"/>
                        </a:lnTo>
                        <a:lnTo>
                          <a:pt x="85" y="528"/>
                        </a:lnTo>
                        <a:lnTo>
                          <a:pt x="33" y="559"/>
                        </a:lnTo>
                        <a:lnTo>
                          <a:pt x="102" y="544"/>
                        </a:lnTo>
                        <a:lnTo>
                          <a:pt x="171" y="492"/>
                        </a:lnTo>
                        <a:lnTo>
                          <a:pt x="163" y="536"/>
                        </a:lnTo>
                        <a:lnTo>
                          <a:pt x="111" y="581"/>
                        </a:lnTo>
                        <a:lnTo>
                          <a:pt x="51" y="626"/>
                        </a:lnTo>
                        <a:lnTo>
                          <a:pt x="85" y="626"/>
                        </a:lnTo>
                        <a:lnTo>
                          <a:pt x="171" y="565"/>
                        </a:lnTo>
                        <a:lnTo>
                          <a:pt x="214" y="513"/>
                        </a:lnTo>
                        <a:lnTo>
                          <a:pt x="188" y="581"/>
                        </a:lnTo>
                        <a:lnTo>
                          <a:pt x="128" y="634"/>
                        </a:lnTo>
                        <a:lnTo>
                          <a:pt x="214" y="590"/>
                        </a:lnTo>
                        <a:lnTo>
                          <a:pt x="256" y="536"/>
                        </a:lnTo>
                        <a:lnTo>
                          <a:pt x="265" y="559"/>
                        </a:lnTo>
                        <a:lnTo>
                          <a:pt x="256" y="604"/>
                        </a:lnTo>
                        <a:lnTo>
                          <a:pt x="281" y="604"/>
                        </a:lnTo>
                        <a:lnTo>
                          <a:pt x="316" y="551"/>
                        </a:lnTo>
                        <a:lnTo>
                          <a:pt x="342" y="544"/>
                        </a:lnTo>
                        <a:lnTo>
                          <a:pt x="334" y="590"/>
                        </a:lnTo>
                        <a:lnTo>
                          <a:pt x="316" y="611"/>
                        </a:lnTo>
                        <a:lnTo>
                          <a:pt x="351" y="611"/>
                        </a:lnTo>
                        <a:lnTo>
                          <a:pt x="385" y="559"/>
                        </a:lnTo>
                        <a:lnTo>
                          <a:pt x="420" y="513"/>
                        </a:lnTo>
                        <a:lnTo>
                          <a:pt x="410" y="559"/>
                        </a:lnTo>
                        <a:lnTo>
                          <a:pt x="385" y="590"/>
                        </a:lnTo>
                        <a:lnTo>
                          <a:pt x="436" y="565"/>
                        </a:lnTo>
                        <a:lnTo>
                          <a:pt x="479" y="460"/>
                        </a:lnTo>
                        <a:lnTo>
                          <a:pt x="487" y="498"/>
                        </a:lnTo>
                        <a:lnTo>
                          <a:pt x="471" y="544"/>
                        </a:lnTo>
                        <a:lnTo>
                          <a:pt x="453" y="573"/>
                        </a:lnTo>
                        <a:lnTo>
                          <a:pt x="479" y="590"/>
                        </a:lnTo>
                        <a:lnTo>
                          <a:pt x="513" y="544"/>
                        </a:lnTo>
                        <a:lnTo>
                          <a:pt x="532" y="498"/>
                        </a:lnTo>
                        <a:lnTo>
                          <a:pt x="538" y="536"/>
                        </a:lnTo>
                        <a:lnTo>
                          <a:pt x="522" y="559"/>
                        </a:lnTo>
                        <a:lnTo>
                          <a:pt x="538" y="573"/>
                        </a:lnTo>
                        <a:lnTo>
                          <a:pt x="557" y="536"/>
                        </a:lnTo>
                        <a:lnTo>
                          <a:pt x="583" y="498"/>
                        </a:lnTo>
                        <a:lnTo>
                          <a:pt x="624" y="421"/>
                        </a:lnTo>
                        <a:lnTo>
                          <a:pt x="634" y="446"/>
                        </a:lnTo>
                        <a:lnTo>
                          <a:pt x="624" y="498"/>
                        </a:lnTo>
                        <a:lnTo>
                          <a:pt x="608" y="551"/>
                        </a:lnTo>
                        <a:lnTo>
                          <a:pt x="634" y="551"/>
                        </a:lnTo>
                        <a:lnTo>
                          <a:pt x="650" y="492"/>
                        </a:lnTo>
                        <a:lnTo>
                          <a:pt x="668" y="415"/>
                        </a:lnTo>
                        <a:lnTo>
                          <a:pt x="685" y="467"/>
                        </a:lnTo>
                        <a:lnTo>
                          <a:pt x="685" y="506"/>
                        </a:lnTo>
                        <a:lnTo>
                          <a:pt x="711" y="467"/>
                        </a:lnTo>
                        <a:lnTo>
                          <a:pt x="701" y="407"/>
                        </a:lnTo>
                        <a:lnTo>
                          <a:pt x="719" y="354"/>
                        </a:lnTo>
                        <a:lnTo>
                          <a:pt x="736" y="438"/>
                        </a:lnTo>
                        <a:lnTo>
                          <a:pt x="736" y="484"/>
                        </a:lnTo>
                        <a:lnTo>
                          <a:pt x="754" y="460"/>
                        </a:lnTo>
                        <a:lnTo>
                          <a:pt x="762" y="392"/>
                        </a:lnTo>
                        <a:lnTo>
                          <a:pt x="762" y="308"/>
                        </a:lnTo>
                        <a:lnTo>
                          <a:pt x="762" y="248"/>
                        </a:lnTo>
                        <a:lnTo>
                          <a:pt x="787" y="302"/>
                        </a:lnTo>
                        <a:lnTo>
                          <a:pt x="779" y="354"/>
                        </a:lnTo>
                        <a:lnTo>
                          <a:pt x="805" y="362"/>
                        </a:lnTo>
                        <a:lnTo>
                          <a:pt x="813" y="308"/>
                        </a:lnTo>
                        <a:lnTo>
                          <a:pt x="805" y="219"/>
                        </a:lnTo>
                        <a:lnTo>
                          <a:pt x="771" y="135"/>
                        </a:lnTo>
                        <a:lnTo>
                          <a:pt x="762" y="83"/>
                        </a:lnTo>
                        <a:lnTo>
                          <a:pt x="762" y="0"/>
                        </a:lnTo>
                        <a:lnTo>
                          <a:pt x="650" y="9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10"/>
                  <p:cNvSpPr/>
                  <p:nvPr/>
                </p:nvSpPr>
                <p:spPr>
                  <a:xfrm>
                    <a:off x="2524680" y="5454720"/>
                    <a:ext cx="1044720" cy="487440"/>
                  </a:xfrm>
                  <a:custGeom>
                    <a:avLst/>
                    <a:gdLst>
                      <a:gd name="textAreaLeft" fmla="*/ 0 w 1044720"/>
                      <a:gd name="textAreaRight" fmla="*/ 1045080 w 1044720"/>
                      <a:gd name="textAreaTop" fmla="*/ 0 h 487440"/>
                      <a:gd name="textAreaBottom" fmla="*/ 487800 h 487440"/>
                    </a:gdLst>
                    <a:ahLst/>
                    <a:rect l="textAreaLeft" t="textAreaTop" r="textAreaRight" b="textAreaBottom"/>
                    <a:pathLst>
                      <a:path w="1044" h="696">
                        <a:moveTo>
                          <a:pt x="835" y="106"/>
                        </a:moveTo>
                        <a:lnTo>
                          <a:pt x="757" y="198"/>
                        </a:lnTo>
                        <a:lnTo>
                          <a:pt x="671" y="281"/>
                        </a:lnTo>
                        <a:lnTo>
                          <a:pt x="528" y="365"/>
                        </a:lnTo>
                        <a:lnTo>
                          <a:pt x="385" y="430"/>
                        </a:lnTo>
                        <a:lnTo>
                          <a:pt x="186" y="496"/>
                        </a:lnTo>
                        <a:lnTo>
                          <a:pt x="0" y="521"/>
                        </a:lnTo>
                        <a:lnTo>
                          <a:pt x="10" y="538"/>
                        </a:lnTo>
                        <a:lnTo>
                          <a:pt x="177" y="530"/>
                        </a:lnTo>
                        <a:lnTo>
                          <a:pt x="108" y="579"/>
                        </a:lnTo>
                        <a:lnTo>
                          <a:pt x="43" y="613"/>
                        </a:lnTo>
                        <a:lnTo>
                          <a:pt x="131" y="596"/>
                        </a:lnTo>
                        <a:lnTo>
                          <a:pt x="218" y="538"/>
                        </a:lnTo>
                        <a:lnTo>
                          <a:pt x="209" y="589"/>
                        </a:lnTo>
                        <a:lnTo>
                          <a:pt x="143" y="637"/>
                        </a:lnTo>
                        <a:lnTo>
                          <a:pt x="66" y="687"/>
                        </a:lnTo>
                        <a:lnTo>
                          <a:pt x="108" y="687"/>
                        </a:lnTo>
                        <a:lnTo>
                          <a:pt x="218" y="621"/>
                        </a:lnTo>
                        <a:lnTo>
                          <a:pt x="275" y="563"/>
                        </a:lnTo>
                        <a:lnTo>
                          <a:pt x="241" y="637"/>
                        </a:lnTo>
                        <a:lnTo>
                          <a:pt x="165" y="696"/>
                        </a:lnTo>
                        <a:lnTo>
                          <a:pt x="275" y="646"/>
                        </a:lnTo>
                        <a:lnTo>
                          <a:pt x="329" y="589"/>
                        </a:lnTo>
                        <a:lnTo>
                          <a:pt x="340" y="613"/>
                        </a:lnTo>
                        <a:lnTo>
                          <a:pt x="329" y="663"/>
                        </a:lnTo>
                        <a:lnTo>
                          <a:pt x="363" y="663"/>
                        </a:lnTo>
                        <a:lnTo>
                          <a:pt x="407" y="604"/>
                        </a:lnTo>
                        <a:lnTo>
                          <a:pt x="439" y="596"/>
                        </a:lnTo>
                        <a:lnTo>
                          <a:pt x="430" y="646"/>
                        </a:lnTo>
                        <a:lnTo>
                          <a:pt x="407" y="672"/>
                        </a:lnTo>
                        <a:lnTo>
                          <a:pt x="450" y="672"/>
                        </a:lnTo>
                        <a:lnTo>
                          <a:pt x="496" y="613"/>
                        </a:lnTo>
                        <a:lnTo>
                          <a:pt x="540" y="563"/>
                        </a:lnTo>
                        <a:lnTo>
                          <a:pt x="528" y="613"/>
                        </a:lnTo>
                        <a:lnTo>
                          <a:pt x="496" y="646"/>
                        </a:lnTo>
                        <a:lnTo>
                          <a:pt x="560" y="621"/>
                        </a:lnTo>
                        <a:lnTo>
                          <a:pt x="616" y="505"/>
                        </a:lnTo>
                        <a:lnTo>
                          <a:pt x="626" y="547"/>
                        </a:lnTo>
                        <a:lnTo>
                          <a:pt x="605" y="596"/>
                        </a:lnTo>
                        <a:lnTo>
                          <a:pt x="582" y="629"/>
                        </a:lnTo>
                        <a:lnTo>
                          <a:pt x="616" y="646"/>
                        </a:lnTo>
                        <a:lnTo>
                          <a:pt x="659" y="596"/>
                        </a:lnTo>
                        <a:lnTo>
                          <a:pt x="682" y="547"/>
                        </a:lnTo>
                        <a:lnTo>
                          <a:pt x="692" y="589"/>
                        </a:lnTo>
                        <a:lnTo>
                          <a:pt x="671" y="613"/>
                        </a:lnTo>
                        <a:lnTo>
                          <a:pt x="692" y="629"/>
                        </a:lnTo>
                        <a:lnTo>
                          <a:pt x="715" y="589"/>
                        </a:lnTo>
                        <a:lnTo>
                          <a:pt x="749" y="547"/>
                        </a:lnTo>
                        <a:lnTo>
                          <a:pt x="803" y="463"/>
                        </a:lnTo>
                        <a:lnTo>
                          <a:pt x="814" y="489"/>
                        </a:lnTo>
                        <a:lnTo>
                          <a:pt x="803" y="547"/>
                        </a:lnTo>
                        <a:lnTo>
                          <a:pt x="781" y="604"/>
                        </a:lnTo>
                        <a:lnTo>
                          <a:pt x="814" y="604"/>
                        </a:lnTo>
                        <a:lnTo>
                          <a:pt x="835" y="538"/>
                        </a:lnTo>
                        <a:lnTo>
                          <a:pt x="859" y="454"/>
                        </a:lnTo>
                        <a:lnTo>
                          <a:pt x="880" y="512"/>
                        </a:lnTo>
                        <a:lnTo>
                          <a:pt x="880" y="554"/>
                        </a:lnTo>
                        <a:lnTo>
                          <a:pt x="913" y="512"/>
                        </a:lnTo>
                        <a:lnTo>
                          <a:pt x="901" y="447"/>
                        </a:lnTo>
                        <a:lnTo>
                          <a:pt x="924" y="388"/>
                        </a:lnTo>
                        <a:lnTo>
                          <a:pt x="945" y="480"/>
                        </a:lnTo>
                        <a:lnTo>
                          <a:pt x="945" y="530"/>
                        </a:lnTo>
                        <a:lnTo>
                          <a:pt x="968" y="505"/>
                        </a:lnTo>
                        <a:lnTo>
                          <a:pt x="978" y="430"/>
                        </a:lnTo>
                        <a:lnTo>
                          <a:pt x="978" y="339"/>
                        </a:lnTo>
                        <a:lnTo>
                          <a:pt x="978" y="272"/>
                        </a:lnTo>
                        <a:lnTo>
                          <a:pt x="1011" y="330"/>
                        </a:lnTo>
                        <a:lnTo>
                          <a:pt x="1001" y="388"/>
                        </a:lnTo>
                        <a:lnTo>
                          <a:pt x="1034" y="396"/>
                        </a:lnTo>
                        <a:lnTo>
                          <a:pt x="1044" y="339"/>
                        </a:lnTo>
                        <a:lnTo>
                          <a:pt x="1034" y="240"/>
                        </a:lnTo>
                        <a:lnTo>
                          <a:pt x="990" y="148"/>
                        </a:lnTo>
                        <a:lnTo>
                          <a:pt x="978" y="90"/>
                        </a:lnTo>
                        <a:lnTo>
                          <a:pt x="978" y="0"/>
                        </a:lnTo>
                        <a:lnTo>
                          <a:pt x="835" y="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Freeform 11"/>
                  <p:cNvSpPr/>
                  <p:nvPr/>
                </p:nvSpPr>
                <p:spPr>
                  <a:xfrm>
                    <a:off x="2307960" y="5688000"/>
                    <a:ext cx="1231200" cy="555120"/>
                  </a:xfrm>
                  <a:custGeom>
                    <a:avLst/>
                    <a:gdLst>
                      <a:gd name="textAreaLeft" fmla="*/ 0 w 1231200"/>
                      <a:gd name="textAreaRight" fmla="*/ 1231560 w 1231200"/>
                      <a:gd name="textAreaTop" fmla="*/ 0 h 555120"/>
                      <a:gd name="textAreaBottom" fmla="*/ 555480 h 555120"/>
                    </a:gdLst>
                    <a:ahLst/>
                    <a:rect l="textAreaLeft" t="textAreaTop" r="textAreaRight" b="textAreaBottom"/>
                    <a:pathLst>
                      <a:path w="1229" h="789">
                        <a:moveTo>
                          <a:pt x="1122" y="58"/>
                        </a:moveTo>
                        <a:lnTo>
                          <a:pt x="960" y="206"/>
                        </a:lnTo>
                        <a:lnTo>
                          <a:pt x="691" y="340"/>
                        </a:lnTo>
                        <a:lnTo>
                          <a:pt x="507" y="391"/>
                        </a:lnTo>
                        <a:lnTo>
                          <a:pt x="361" y="420"/>
                        </a:lnTo>
                        <a:lnTo>
                          <a:pt x="131" y="457"/>
                        </a:lnTo>
                        <a:lnTo>
                          <a:pt x="61" y="480"/>
                        </a:lnTo>
                        <a:lnTo>
                          <a:pt x="77" y="488"/>
                        </a:lnTo>
                        <a:lnTo>
                          <a:pt x="208" y="480"/>
                        </a:lnTo>
                        <a:lnTo>
                          <a:pt x="169" y="531"/>
                        </a:lnTo>
                        <a:lnTo>
                          <a:pt x="100" y="591"/>
                        </a:lnTo>
                        <a:lnTo>
                          <a:pt x="0" y="620"/>
                        </a:lnTo>
                        <a:lnTo>
                          <a:pt x="69" y="620"/>
                        </a:lnTo>
                        <a:lnTo>
                          <a:pt x="192" y="568"/>
                        </a:lnTo>
                        <a:lnTo>
                          <a:pt x="154" y="620"/>
                        </a:lnTo>
                        <a:lnTo>
                          <a:pt x="108" y="665"/>
                        </a:lnTo>
                        <a:lnTo>
                          <a:pt x="38" y="709"/>
                        </a:lnTo>
                        <a:lnTo>
                          <a:pt x="84" y="715"/>
                        </a:lnTo>
                        <a:lnTo>
                          <a:pt x="214" y="620"/>
                        </a:lnTo>
                        <a:lnTo>
                          <a:pt x="268" y="568"/>
                        </a:lnTo>
                        <a:lnTo>
                          <a:pt x="222" y="679"/>
                        </a:lnTo>
                        <a:lnTo>
                          <a:pt x="185" y="746"/>
                        </a:lnTo>
                        <a:lnTo>
                          <a:pt x="146" y="789"/>
                        </a:lnTo>
                        <a:lnTo>
                          <a:pt x="185" y="789"/>
                        </a:lnTo>
                        <a:lnTo>
                          <a:pt x="239" y="694"/>
                        </a:lnTo>
                        <a:lnTo>
                          <a:pt x="330" y="575"/>
                        </a:lnTo>
                        <a:lnTo>
                          <a:pt x="345" y="649"/>
                        </a:lnTo>
                        <a:lnTo>
                          <a:pt x="330" y="709"/>
                        </a:lnTo>
                        <a:lnTo>
                          <a:pt x="307" y="768"/>
                        </a:lnTo>
                        <a:lnTo>
                          <a:pt x="361" y="723"/>
                        </a:lnTo>
                        <a:lnTo>
                          <a:pt x="376" y="657"/>
                        </a:lnTo>
                        <a:lnTo>
                          <a:pt x="384" y="561"/>
                        </a:lnTo>
                        <a:lnTo>
                          <a:pt x="415" y="612"/>
                        </a:lnTo>
                        <a:lnTo>
                          <a:pt x="407" y="723"/>
                        </a:lnTo>
                        <a:lnTo>
                          <a:pt x="392" y="783"/>
                        </a:lnTo>
                        <a:lnTo>
                          <a:pt x="438" y="731"/>
                        </a:lnTo>
                        <a:lnTo>
                          <a:pt x="446" y="665"/>
                        </a:lnTo>
                        <a:lnTo>
                          <a:pt x="461" y="746"/>
                        </a:lnTo>
                        <a:lnTo>
                          <a:pt x="484" y="665"/>
                        </a:lnTo>
                        <a:lnTo>
                          <a:pt x="529" y="561"/>
                        </a:lnTo>
                        <a:lnTo>
                          <a:pt x="546" y="612"/>
                        </a:lnTo>
                        <a:lnTo>
                          <a:pt x="529" y="709"/>
                        </a:lnTo>
                        <a:lnTo>
                          <a:pt x="492" y="760"/>
                        </a:lnTo>
                        <a:lnTo>
                          <a:pt x="568" y="701"/>
                        </a:lnTo>
                        <a:lnTo>
                          <a:pt x="577" y="612"/>
                        </a:lnTo>
                        <a:lnTo>
                          <a:pt x="606" y="502"/>
                        </a:lnTo>
                        <a:lnTo>
                          <a:pt x="614" y="583"/>
                        </a:lnTo>
                        <a:lnTo>
                          <a:pt x="606" y="709"/>
                        </a:lnTo>
                        <a:lnTo>
                          <a:pt x="568" y="768"/>
                        </a:lnTo>
                        <a:lnTo>
                          <a:pt x="637" y="723"/>
                        </a:lnTo>
                        <a:lnTo>
                          <a:pt x="676" y="591"/>
                        </a:lnTo>
                        <a:lnTo>
                          <a:pt x="676" y="649"/>
                        </a:lnTo>
                        <a:lnTo>
                          <a:pt x="668" y="701"/>
                        </a:lnTo>
                        <a:lnTo>
                          <a:pt x="714" y="672"/>
                        </a:lnTo>
                        <a:lnTo>
                          <a:pt x="714" y="642"/>
                        </a:lnTo>
                        <a:lnTo>
                          <a:pt x="784" y="538"/>
                        </a:lnTo>
                        <a:lnTo>
                          <a:pt x="875" y="472"/>
                        </a:lnTo>
                        <a:lnTo>
                          <a:pt x="853" y="538"/>
                        </a:lnTo>
                        <a:lnTo>
                          <a:pt x="830" y="568"/>
                        </a:lnTo>
                        <a:lnTo>
                          <a:pt x="875" y="568"/>
                        </a:lnTo>
                        <a:lnTo>
                          <a:pt x="898" y="494"/>
                        </a:lnTo>
                        <a:lnTo>
                          <a:pt x="929" y="457"/>
                        </a:lnTo>
                        <a:lnTo>
                          <a:pt x="1006" y="361"/>
                        </a:lnTo>
                        <a:lnTo>
                          <a:pt x="975" y="435"/>
                        </a:lnTo>
                        <a:lnTo>
                          <a:pt x="968" y="488"/>
                        </a:lnTo>
                        <a:lnTo>
                          <a:pt x="929" y="524"/>
                        </a:lnTo>
                        <a:lnTo>
                          <a:pt x="968" y="531"/>
                        </a:lnTo>
                        <a:lnTo>
                          <a:pt x="1022" y="443"/>
                        </a:lnTo>
                        <a:lnTo>
                          <a:pt x="1060" y="369"/>
                        </a:lnTo>
                        <a:lnTo>
                          <a:pt x="1106" y="303"/>
                        </a:lnTo>
                        <a:lnTo>
                          <a:pt x="1091" y="383"/>
                        </a:lnTo>
                        <a:lnTo>
                          <a:pt x="1068" y="435"/>
                        </a:lnTo>
                        <a:lnTo>
                          <a:pt x="1122" y="414"/>
                        </a:lnTo>
                        <a:lnTo>
                          <a:pt x="1137" y="288"/>
                        </a:lnTo>
                        <a:lnTo>
                          <a:pt x="1159" y="369"/>
                        </a:lnTo>
                        <a:lnTo>
                          <a:pt x="1190" y="235"/>
                        </a:lnTo>
                        <a:lnTo>
                          <a:pt x="1229" y="229"/>
                        </a:lnTo>
                        <a:lnTo>
                          <a:pt x="1176" y="177"/>
                        </a:lnTo>
                        <a:lnTo>
                          <a:pt x="1213" y="0"/>
                        </a:lnTo>
                        <a:lnTo>
                          <a:pt x="1122" y="5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Freeform 12"/>
                  <p:cNvSpPr/>
                  <p:nvPr/>
                </p:nvSpPr>
                <p:spPr>
                  <a:xfrm>
                    <a:off x="2214720" y="5890320"/>
                    <a:ext cx="1285920" cy="57888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578880"/>
                      <a:gd name="textAreaBottom" fmla="*/ 579240 h 578880"/>
                    </a:gdLst>
                    <a:ahLst/>
                    <a:rect l="textAreaLeft" t="textAreaTop" r="textAreaRight" b="textAreaBottom"/>
                    <a:pathLst>
                      <a:path w="1282" h="825">
                        <a:moveTo>
                          <a:pt x="1170" y="61"/>
                        </a:moveTo>
                        <a:lnTo>
                          <a:pt x="1002" y="215"/>
                        </a:lnTo>
                        <a:lnTo>
                          <a:pt x="722" y="354"/>
                        </a:lnTo>
                        <a:lnTo>
                          <a:pt x="530" y="408"/>
                        </a:lnTo>
                        <a:lnTo>
                          <a:pt x="377" y="439"/>
                        </a:lnTo>
                        <a:lnTo>
                          <a:pt x="136" y="478"/>
                        </a:lnTo>
                        <a:lnTo>
                          <a:pt x="65" y="501"/>
                        </a:lnTo>
                        <a:lnTo>
                          <a:pt x="80" y="509"/>
                        </a:lnTo>
                        <a:lnTo>
                          <a:pt x="217" y="501"/>
                        </a:lnTo>
                        <a:lnTo>
                          <a:pt x="177" y="556"/>
                        </a:lnTo>
                        <a:lnTo>
                          <a:pt x="104" y="617"/>
                        </a:lnTo>
                        <a:lnTo>
                          <a:pt x="0" y="648"/>
                        </a:lnTo>
                        <a:lnTo>
                          <a:pt x="73" y="648"/>
                        </a:lnTo>
                        <a:lnTo>
                          <a:pt x="201" y="594"/>
                        </a:lnTo>
                        <a:lnTo>
                          <a:pt x="161" y="648"/>
                        </a:lnTo>
                        <a:lnTo>
                          <a:pt x="112" y="695"/>
                        </a:lnTo>
                        <a:lnTo>
                          <a:pt x="41" y="741"/>
                        </a:lnTo>
                        <a:lnTo>
                          <a:pt x="88" y="750"/>
                        </a:lnTo>
                        <a:lnTo>
                          <a:pt x="225" y="648"/>
                        </a:lnTo>
                        <a:lnTo>
                          <a:pt x="282" y="594"/>
                        </a:lnTo>
                        <a:lnTo>
                          <a:pt x="232" y="710"/>
                        </a:lnTo>
                        <a:lnTo>
                          <a:pt x="193" y="780"/>
                        </a:lnTo>
                        <a:lnTo>
                          <a:pt x="151" y="825"/>
                        </a:lnTo>
                        <a:lnTo>
                          <a:pt x="193" y="825"/>
                        </a:lnTo>
                        <a:lnTo>
                          <a:pt x="249" y="725"/>
                        </a:lnTo>
                        <a:lnTo>
                          <a:pt x="345" y="602"/>
                        </a:lnTo>
                        <a:lnTo>
                          <a:pt x="360" y="678"/>
                        </a:lnTo>
                        <a:lnTo>
                          <a:pt x="345" y="741"/>
                        </a:lnTo>
                        <a:lnTo>
                          <a:pt x="321" y="803"/>
                        </a:lnTo>
                        <a:lnTo>
                          <a:pt x="377" y="756"/>
                        </a:lnTo>
                        <a:lnTo>
                          <a:pt x="392" y="686"/>
                        </a:lnTo>
                        <a:lnTo>
                          <a:pt x="402" y="587"/>
                        </a:lnTo>
                        <a:lnTo>
                          <a:pt x="434" y="641"/>
                        </a:lnTo>
                        <a:lnTo>
                          <a:pt x="425" y="756"/>
                        </a:lnTo>
                        <a:lnTo>
                          <a:pt x="410" y="818"/>
                        </a:lnTo>
                        <a:lnTo>
                          <a:pt x="457" y="764"/>
                        </a:lnTo>
                        <a:lnTo>
                          <a:pt x="465" y="695"/>
                        </a:lnTo>
                        <a:lnTo>
                          <a:pt x="481" y="780"/>
                        </a:lnTo>
                        <a:lnTo>
                          <a:pt x="505" y="695"/>
                        </a:lnTo>
                        <a:lnTo>
                          <a:pt x="554" y="587"/>
                        </a:lnTo>
                        <a:lnTo>
                          <a:pt x="569" y="641"/>
                        </a:lnTo>
                        <a:lnTo>
                          <a:pt x="554" y="741"/>
                        </a:lnTo>
                        <a:lnTo>
                          <a:pt x="513" y="794"/>
                        </a:lnTo>
                        <a:lnTo>
                          <a:pt x="594" y="733"/>
                        </a:lnTo>
                        <a:lnTo>
                          <a:pt x="601" y="641"/>
                        </a:lnTo>
                        <a:lnTo>
                          <a:pt x="633" y="526"/>
                        </a:lnTo>
                        <a:lnTo>
                          <a:pt x="641" y="610"/>
                        </a:lnTo>
                        <a:lnTo>
                          <a:pt x="633" y="741"/>
                        </a:lnTo>
                        <a:lnTo>
                          <a:pt x="594" y="803"/>
                        </a:lnTo>
                        <a:lnTo>
                          <a:pt x="665" y="756"/>
                        </a:lnTo>
                        <a:lnTo>
                          <a:pt x="706" y="617"/>
                        </a:lnTo>
                        <a:lnTo>
                          <a:pt x="706" y="678"/>
                        </a:lnTo>
                        <a:lnTo>
                          <a:pt x="698" y="733"/>
                        </a:lnTo>
                        <a:lnTo>
                          <a:pt x="746" y="703"/>
                        </a:lnTo>
                        <a:lnTo>
                          <a:pt x="746" y="672"/>
                        </a:lnTo>
                        <a:lnTo>
                          <a:pt x="818" y="564"/>
                        </a:lnTo>
                        <a:lnTo>
                          <a:pt x="913" y="494"/>
                        </a:lnTo>
                        <a:lnTo>
                          <a:pt x="890" y="564"/>
                        </a:lnTo>
                        <a:lnTo>
                          <a:pt x="866" y="594"/>
                        </a:lnTo>
                        <a:lnTo>
                          <a:pt x="913" y="594"/>
                        </a:lnTo>
                        <a:lnTo>
                          <a:pt x="937" y="517"/>
                        </a:lnTo>
                        <a:lnTo>
                          <a:pt x="970" y="478"/>
                        </a:lnTo>
                        <a:lnTo>
                          <a:pt x="1051" y="378"/>
                        </a:lnTo>
                        <a:lnTo>
                          <a:pt x="1018" y="455"/>
                        </a:lnTo>
                        <a:lnTo>
                          <a:pt x="1011" y="509"/>
                        </a:lnTo>
                        <a:lnTo>
                          <a:pt x="970" y="547"/>
                        </a:lnTo>
                        <a:lnTo>
                          <a:pt x="1011" y="556"/>
                        </a:lnTo>
                        <a:lnTo>
                          <a:pt x="1065" y="462"/>
                        </a:lnTo>
                        <a:lnTo>
                          <a:pt x="1107" y="385"/>
                        </a:lnTo>
                        <a:lnTo>
                          <a:pt x="1154" y="315"/>
                        </a:lnTo>
                        <a:lnTo>
                          <a:pt x="1139" y="401"/>
                        </a:lnTo>
                        <a:lnTo>
                          <a:pt x="1115" y="455"/>
                        </a:lnTo>
                        <a:lnTo>
                          <a:pt x="1170" y="431"/>
                        </a:lnTo>
                        <a:lnTo>
                          <a:pt x="1187" y="300"/>
                        </a:lnTo>
                        <a:lnTo>
                          <a:pt x="1211" y="385"/>
                        </a:lnTo>
                        <a:lnTo>
                          <a:pt x="1243" y="245"/>
                        </a:lnTo>
                        <a:lnTo>
                          <a:pt x="1282" y="238"/>
                        </a:lnTo>
                        <a:lnTo>
                          <a:pt x="1227" y="184"/>
                        </a:lnTo>
                        <a:lnTo>
                          <a:pt x="1267" y="0"/>
                        </a:lnTo>
                        <a:lnTo>
                          <a:pt x="1170" y="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Freeform 13"/>
                  <p:cNvSpPr/>
                  <p:nvPr/>
                </p:nvSpPr>
                <p:spPr>
                  <a:xfrm>
                    <a:off x="2133720" y="6102360"/>
                    <a:ext cx="1363320" cy="549360"/>
                  </a:xfrm>
                  <a:custGeom>
                    <a:avLst/>
                    <a:gdLst>
                      <a:gd name="textAreaLeft" fmla="*/ 0 w 1363320"/>
                      <a:gd name="textAreaRight" fmla="*/ 1363680 w 1363320"/>
                      <a:gd name="textAreaTop" fmla="*/ 0 h 549360"/>
                      <a:gd name="textAreaBottom" fmla="*/ 549720 h 549360"/>
                    </a:gdLst>
                    <a:ahLst/>
                    <a:rect l="textAreaLeft" t="textAreaTop" r="textAreaRight" b="textAreaBottom"/>
                    <a:pathLst>
                      <a:path w="1364" h="780">
                        <a:moveTo>
                          <a:pt x="1092" y="118"/>
                        </a:moveTo>
                        <a:lnTo>
                          <a:pt x="991" y="223"/>
                        </a:lnTo>
                        <a:lnTo>
                          <a:pt x="876" y="314"/>
                        </a:lnTo>
                        <a:lnTo>
                          <a:pt x="689" y="410"/>
                        </a:lnTo>
                        <a:lnTo>
                          <a:pt x="502" y="484"/>
                        </a:lnTo>
                        <a:lnTo>
                          <a:pt x="241" y="559"/>
                        </a:lnTo>
                        <a:lnTo>
                          <a:pt x="0" y="585"/>
                        </a:lnTo>
                        <a:lnTo>
                          <a:pt x="12" y="605"/>
                        </a:lnTo>
                        <a:lnTo>
                          <a:pt x="229" y="596"/>
                        </a:lnTo>
                        <a:lnTo>
                          <a:pt x="140" y="650"/>
                        </a:lnTo>
                        <a:lnTo>
                          <a:pt x="54" y="689"/>
                        </a:lnTo>
                        <a:lnTo>
                          <a:pt x="171" y="670"/>
                        </a:lnTo>
                        <a:lnTo>
                          <a:pt x="285" y="605"/>
                        </a:lnTo>
                        <a:lnTo>
                          <a:pt x="272" y="662"/>
                        </a:lnTo>
                        <a:lnTo>
                          <a:pt x="186" y="715"/>
                        </a:lnTo>
                        <a:lnTo>
                          <a:pt x="85" y="773"/>
                        </a:lnTo>
                        <a:lnTo>
                          <a:pt x="140" y="773"/>
                        </a:lnTo>
                        <a:lnTo>
                          <a:pt x="285" y="699"/>
                        </a:lnTo>
                        <a:lnTo>
                          <a:pt x="358" y="633"/>
                        </a:lnTo>
                        <a:lnTo>
                          <a:pt x="315" y="715"/>
                        </a:lnTo>
                        <a:lnTo>
                          <a:pt x="214" y="780"/>
                        </a:lnTo>
                        <a:lnTo>
                          <a:pt x="358" y="727"/>
                        </a:lnTo>
                        <a:lnTo>
                          <a:pt x="429" y="662"/>
                        </a:lnTo>
                        <a:lnTo>
                          <a:pt x="443" y="689"/>
                        </a:lnTo>
                        <a:lnTo>
                          <a:pt x="429" y="745"/>
                        </a:lnTo>
                        <a:lnTo>
                          <a:pt x="471" y="745"/>
                        </a:lnTo>
                        <a:lnTo>
                          <a:pt x="530" y="680"/>
                        </a:lnTo>
                        <a:lnTo>
                          <a:pt x="573" y="670"/>
                        </a:lnTo>
                        <a:lnTo>
                          <a:pt x="560" y="727"/>
                        </a:lnTo>
                        <a:lnTo>
                          <a:pt x="530" y="754"/>
                        </a:lnTo>
                        <a:lnTo>
                          <a:pt x="588" y="754"/>
                        </a:lnTo>
                        <a:lnTo>
                          <a:pt x="646" y="689"/>
                        </a:lnTo>
                        <a:lnTo>
                          <a:pt x="704" y="633"/>
                        </a:lnTo>
                        <a:lnTo>
                          <a:pt x="689" y="689"/>
                        </a:lnTo>
                        <a:lnTo>
                          <a:pt x="646" y="727"/>
                        </a:lnTo>
                        <a:lnTo>
                          <a:pt x="731" y="699"/>
                        </a:lnTo>
                        <a:lnTo>
                          <a:pt x="804" y="566"/>
                        </a:lnTo>
                        <a:lnTo>
                          <a:pt x="819" y="615"/>
                        </a:lnTo>
                        <a:lnTo>
                          <a:pt x="790" y="670"/>
                        </a:lnTo>
                        <a:lnTo>
                          <a:pt x="759" y="706"/>
                        </a:lnTo>
                        <a:lnTo>
                          <a:pt x="804" y="727"/>
                        </a:lnTo>
                        <a:lnTo>
                          <a:pt x="860" y="670"/>
                        </a:lnTo>
                        <a:lnTo>
                          <a:pt x="891" y="615"/>
                        </a:lnTo>
                        <a:lnTo>
                          <a:pt x="905" y="662"/>
                        </a:lnTo>
                        <a:lnTo>
                          <a:pt x="876" y="689"/>
                        </a:lnTo>
                        <a:lnTo>
                          <a:pt x="905" y="706"/>
                        </a:lnTo>
                        <a:lnTo>
                          <a:pt x="934" y="662"/>
                        </a:lnTo>
                        <a:lnTo>
                          <a:pt x="977" y="615"/>
                        </a:lnTo>
                        <a:lnTo>
                          <a:pt x="1047" y="521"/>
                        </a:lnTo>
                        <a:lnTo>
                          <a:pt x="1064" y="550"/>
                        </a:lnTo>
                        <a:lnTo>
                          <a:pt x="1047" y="615"/>
                        </a:lnTo>
                        <a:lnTo>
                          <a:pt x="1020" y="680"/>
                        </a:lnTo>
                        <a:lnTo>
                          <a:pt x="1064" y="680"/>
                        </a:lnTo>
                        <a:lnTo>
                          <a:pt x="1092" y="605"/>
                        </a:lnTo>
                        <a:lnTo>
                          <a:pt x="1121" y="512"/>
                        </a:lnTo>
                        <a:lnTo>
                          <a:pt x="1148" y="577"/>
                        </a:lnTo>
                        <a:lnTo>
                          <a:pt x="1148" y="624"/>
                        </a:lnTo>
                        <a:lnTo>
                          <a:pt x="1193" y="577"/>
                        </a:lnTo>
                        <a:lnTo>
                          <a:pt x="1177" y="501"/>
                        </a:lnTo>
                        <a:lnTo>
                          <a:pt x="1208" y="436"/>
                        </a:lnTo>
                        <a:lnTo>
                          <a:pt x="1236" y="540"/>
                        </a:lnTo>
                        <a:lnTo>
                          <a:pt x="1236" y="596"/>
                        </a:lnTo>
                        <a:lnTo>
                          <a:pt x="1265" y="566"/>
                        </a:lnTo>
                        <a:lnTo>
                          <a:pt x="1278" y="484"/>
                        </a:lnTo>
                        <a:lnTo>
                          <a:pt x="1278" y="379"/>
                        </a:lnTo>
                        <a:lnTo>
                          <a:pt x="1278" y="305"/>
                        </a:lnTo>
                        <a:lnTo>
                          <a:pt x="1322" y="372"/>
                        </a:lnTo>
                        <a:lnTo>
                          <a:pt x="1309" y="436"/>
                        </a:lnTo>
                        <a:lnTo>
                          <a:pt x="1352" y="447"/>
                        </a:lnTo>
                        <a:lnTo>
                          <a:pt x="1364" y="379"/>
                        </a:lnTo>
                        <a:lnTo>
                          <a:pt x="1352" y="268"/>
                        </a:lnTo>
                        <a:lnTo>
                          <a:pt x="1294" y="165"/>
                        </a:lnTo>
                        <a:lnTo>
                          <a:pt x="1278" y="100"/>
                        </a:lnTo>
                        <a:lnTo>
                          <a:pt x="1278" y="0"/>
                        </a:lnTo>
                        <a:lnTo>
                          <a:pt x="1092" y="11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Freeform 14"/>
                  <p:cNvSpPr/>
                  <p:nvPr/>
                </p:nvSpPr>
                <p:spPr>
                  <a:xfrm>
                    <a:off x="3083040" y="5082480"/>
                    <a:ext cx="479880" cy="296280"/>
                  </a:xfrm>
                  <a:custGeom>
                    <a:avLst/>
                    <a:gdLst>
                      <a:gd name="textAreaLeft" fmla="*/ 0 w 479880"/>
                      <a:gd name="textAreaRight" fmla="*/ 480240 w 479880"/>
                      <a:gd name="textAreaTop" fmla="*/ 0 h 296280"/>
                      <a:gd name="textAreaBottom" fmla="*/ 296640 h 296280"/>
                    </a:gdLst>
                    <a:ahLst/>
                    <a:rect l="textAreaLeft" t="textAreaTop" r="textAreaRight" b="textAreaBottom"/>
                    <a:pathLst>
                      <a:path w="480" h="421">
                        <a:moveTo>
                          <a:pt x="480" y="0"/>
                        </a:moveTo>
                        <a:lnTo>
                          <a:pt x="431" y="56"/>
                        </a:lnTo>
                        <a:lnTo>
                          <a:pt x="387" y="136"/>
                        </a:lnTo>
                        <a:lnTo>
                          <a:pt x="284" y="247"/>
                        </a:lnTo>
                        <a:lnTo>
                          <a:pt x="184" y="299"/>
                        </a:lnTo>
                        <a:lnTo>
                          <a:pt x="72" y="377"/>
                        </a:lnTo>
                        <a:lnTo>
                          <a:pt x="0" y="398"/>
                        </a:lnTo>
                        <a:lnTo>
                          <a:pt x="43" y="398"/>
                        </a:lnTo>
                        <a:lnTo>
                          <a:pt x="142" y="362"/>
                        </a:lnTo>
                        <a:lnTo>
                          <a:pt x="116" y="421"/>
                        </a:lnTo>
                        <a:lnTo>
                          <a:pt x="176" y="332"/>
                        </a:lnTo>
                        <a:lnTo>
                          <a:pt x="211" y="321"/>
                        </a:lnTo>
                        <a:lnTo>
                          <a:pt x="196" y="369"/>
                        </a:lnTo>
                        <a:lnTo>
                          <a:pt x="250" y="295"/>
                        </a:lnTo>
                        <a:lnTo>
                          <a:pt x="327" y="229"/>
                        </a:lnTo>
                        <a:lnTo>
                          <a:pt x="315" y="281"/>
                        </a:lnTo>
                        <a:lnTo>
                          <a:pt x="369" y="185"/>
                        </a:lnTo>
                        <a:lnTo>
                          <a:pt x="373" y="221"/>
                        </a:lnTo>
                        <a:lnTo>
                          <a:pt x="396" y="151"/>
                        </a:lnTo>
                        <a:lnTo>
                          <a:pt x="449" y="78"/>
                        </a:lnTo>
                        <a:lnTo>
                          <a:pt x="48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15"/>
                  <p:cNvSpPr/>
                  <p:nvPr/>
                </p:nvSpPr>
                <p:spPr>
                  <a:xfrm>
                    <a:off x="2927160" y="5412600"/>
                    <a:ext cx="420120" cy="189360"/>
                  </a:xfrm>
                  <a:custGeom>
                    <a:avLst/>
                    <a:gdLst>
                      <a:gd name="textAreaLeft" fmla="*/ 0 w 420120"/>
                      <a:gd name="textAreaRight" fmla="*/ 420480 w 420120"/>
                      <a:gd name="textAreaTop" fmla="*/ 0 h 189360"/>
                      <a:gd name="textAreaBottom" fmla="*/ 189720 h 189360"/>
                    </a:gdLst>
                    <a:ahLst/>
                    <a:rect l="textAreaLeft" t="textAreaTop" r="textAreaRight" b="textAreaBottom"/>
                    <a:pathLst>
                      <a:path w="419" h="270">
                        <a:moveTo>
                          <a:pt x="419" y="0"/>
                        </a:moveTo>
                        <a:lnTo>
                          <a:pt x="338" y="67"/>
                        </a:lnTo>
                        <a:lnTo>
                          <a:pt x="247" y="126"/>
                        </a:lnTo>
                        <a:lnTo>
                          <a:pt x="154" y="166"/>
                        </a:lnTo>
                        <a:lnTo>
                          <a:pt x="54" y="215"/>
                        </a:lnTo>
                        <a:lnTo>
                          <a:pt x="0" y="229"/>
                        </a:lnTo>
                        <a:lnTo>
                          <a:pt x="42" y="229"/>
                        </a:lnTo>
                        <a:lnTo>
                          <a:pt x="23" y="270"/>
                        </a:lnTo>
                        <a:lnTo>
                          <a:pt x="81" y="225"/>
                        </a:lnTo>
                        <a:lnTo>
                          <a:pt x="89" y="256"/>
                        </a:lnTo>
                        <a:lnTo>
                          <a:pt x="143" y="196"/>
                        </a:lnTo>
                        <a:lnTo>
                          <a:pt x="143" y="240"/>
                        </a:lnTo>
                        <a:lnTo>
                          <a:pt x="200" y="166"/>
                        </a:lnTo>
                        <a:lnTo>
                          <a:pt x="247" y="147"/>
                        </a:lnTo>
                        <a:lnTo>
                          <a:pt x="274" y="147"/>
                        </a:lnTo>
                        <a:lnTo>
                          <a:pt x="243" y="207"/>
                        </a:lnTo>
                        <a:lnTo>
                          <a:pt x="288" y="159"/>
                        </a:lnTo>
                        <a:lnTo>
                          <a:pt x="296" y="114"/>
                        </a:lnTo>
                        <a:lnTo>
                          <a:pt x="346" y="81"/>
                        </a:lnTo>
                        <a:lnTo>
                          <a:pt x="41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Freeform 16"/>
                  <p:cNvSpPr/>
                  <p:nvPr/>
                </p:nvSpPr>
                <p:spPr>
                  <a:xfrm>
                    <a:off x="2707920" y="5657040"/>
                    <a:ext cx="495000" cy="189360"/>
                  </a:xfrm>
                  <a:custGeom>
                    <a:avLst/>
                    <a:gdLst>
                      <a:gd name="textAreaLeft" fmla="*/ 0 w 495000"/>
                      <a:gd name="textAreaRight" fmla="*/ 495360 w 495000"/>
                      <a:gd name="textAreaTop" fmla="*/ 0 h 189360"/>
                      <a:gd name="textAreaBottom" fmla="*/ 189720 h 189360"/>
                    </a:gdLst>
                    <a:ahLst/>
                    <a:rect l="textAreaLeft" t="textAreaTop" r="textAreaRight" b="textAreaBottom"/>
                    <a:pathLst>
                      <a:path w="493" h="270">
                        <a:moveTo>
                          <a:pt x="493" y="0"/>
                        </a:moveTo>
                        <a:lnTo>
                          <a:pt x="396" y="74"/>
                        </a:lnTo>
                        <a:lnTo>
                          <a:pt x="308" y="119"/>
                        </a:lnTo>
                        <a:lnTo>
                          <a:pt x="184" y="163"/>
                        </a:lnTo>
                        <a:lnTo>
                          <a:pt x="116" y="192"/>
                        </a:lnTo>
                        <a:lnTo>
                          <a:pt x="0" y="218"/>
                        </a:lnTo>
                        <a:lnTo>
                          <a:pt x="66" y="222"/>
                        </a:lnTo>
                        <a:lnTo>
                          <a:pt x="62" y="263"/>
                        </a:lnTo>
                        <a:lnTo>
                          <a:pt x="97" y="203"/>
                        </a:lnTo>
                        <a:lnTo>
                          <a:pt x="116" y="270"/>
                        </a:lnTo>
                        <a:lnTo>
                          <a:pt x="134" y="203"/>
                        </a:lnTo>
                        <a:lnTo>
                          <a:pt x="258" y="156"/>
                        </a:lnTo>
                        <a:lnTo>
                          <a:pt x="258" y="222"/>
                        </a:lnTo>
                        <a:lnTo>
                          <a:pt x="288" y="152"/>
                        </a:lnTo>
                        <a:lnTo>
                          <a:pt x="392" y="100"/>
                        </a:lnTo>
                        <a:lnTo>
                          <a:pt x="49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Freeform 17"/>
                  <p:cNvSpPr/>
                  <p:nvPr/>
                </p:nvSpPr>
                <p:spPr>
                  <a:xfrm>
                    <a:off x="2491200" y="5928120"/>
                    <a:ext cx="568080" cy="140400"/>
                  </a:xfrm>
                  <a:custGeom>
                    <a:avLst/>
                    <a:gdLst>
                      <a:gd name="textAreaLeft" fmla="*/ 0 w 568080"/>
                      <a:gd name="textAreaRight" fmla="*/ 568080 w 568080"/>
                      <a:gd name="textAreaTop" fmla="*/ 0 h 140400"/>
                      <a:gd name="textAreaBottom" fmla="*/ 140760 h 140400"/>
                    </a:gdLst>
                    <a:ahLst/>
                    <a:rect l="textAreaLeft" t="textAreaTop" r="textAreaRight" b="textAreaBottom"/>
                    <a:pathLst>
                      <a:path w="568" h="200">
                        <a:moveTo>
                          <a:pt x="0" y="119"/>
                        </a:moveTo>
                        <a:lnTo>
                          <a:pt x="180" y="105"/>
                        </a:lnTo>
                        <a:lnTo>
                          <a:pt x="299" y="74"/>
                        </a:lnTo>
                        <a:lnTo>
                          <a:pt x="472" y="19"/>
                        </a:lnTo>
                        <a:lnTo>
                          <a:pt x="568" y="0"/>
                        </a:lnTo>
                        <a:lnTo>
                          <a:pt x="476" y="35"/>
                        </a:lnTo>
                        <a:lnTo>
                          <a:pt x="383" y="64"/>
                        </a:lnTo>
                        <a:lnTo>
                          <a:pt x="373" y="138"/>
                        </a:lnTo>
                        <a:lnTo>
                          <a:pt x="369" y="60"/>
                        </a:lnTo>
                        <a:lnTo>
                          <a:pt x="280" y="97"/>
                        </a:lnTo>
                        <a:lnTo>
                          <a:pt x="261" y="200"/>
                        </a:lnTo>
                        <a:lnTo>
                          <a:pt x="261" y="105"/>
                        </a:lnTo>
                        <a:lnTo>
                          <a:pt x="157" y="123"/>
                        </a:lnTo>
                        <a:lnTo>
                          <a:pt x="114" y="171"/>
                        </a:lnTo>
                        <a:lnTo>
                          <a:pt x="130" y="123"/>
                        </a:lnTo>
                        <a:lnTo>
                          <a:pt x="50" y="175"/>
                        </a:lnTo>
                        <a:lnTo>
                          <a:pt x="85" y="123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Freeform 18"/>
                  <p:cNvSpPr/>
                  <p:nvPr/>
                </p:nvSpPr>
                <p:spPr>
                  <a:xfrm>
                    <a:off x="2401200" y="6120720"/>
                    <a:ext cx="639360" cy="177120"/>
                  </a:xfrm>
                  <a:custGeom>
                    <a:avLst/>
                    <a:gdLst>
                      <a:gd name="textAreaLeft" fmla="*/ 0 w 639360"/>
                      <a:gd name="textAreaRight" fmla="*/ 639720 w 639360"/>
                      <a:gd name="textAreaTop" fmla="*/ 0 h 177120"/>
                      <a:gd name="textAreaBottom" fmla="*/ 177480 h 177120"/>
                    </a:gdLst>
                    <a:ahLst/>
                    <a:rect l="textAreaLeft" t="textAreaTop" r="textAreaRight" b="textAreaBottom"/>
                    <a:pathLst>
                      <a:path w="638" h="251">
                        <a:moveTo>
                          <a:pt x="0" y="156"/>
                        </a:moveTo>
                        <a:lnTo>
                          <a:pt x="130" y="140"/>
                        </a:lnTo>
                        <a:lnTo>
                          <a:pt x="288" y="115"/>
                        </a:lnTo>
                        <a:lnTo>
                          <a:pt x="495" y="63"/>
                        </a:lnTo>
                        <a:lnTo>
                          <a:pt x="638" y="0"/>
                        </a:lnTo>
                        <a:lnTo>
                          <a:pt x="480" y="93"/>
                        </a:lnTo>
                        <a:lnTo>
                          <a:pt x="408" y="159"/>
                        </a:lnTo>
                        <a:lnTo>
                          <a:pt x="346" y="226"/>
                        </a:lnTo>
                        <a:lnTo>
                          <a:pt x="392" y="144"/>
                        </a:lnTo>
                        <a:lnTo>
                          <a:pt x="423" y="107"/>
                        </a:lnTo>
                        <a:lnTo>
                          <a:pt x="311" y="152"/>
                        </a:lnTo>
                        <a:lnTo>
                          <a:pt x="288" y="196"/>
                        </a:lnTo>
                        <a:lnTo>
                          <a:pt x="257" y="243"/>
                        </a:lnTo>
                        <a:lnTo>
                          <a:pt x="288" y="152"/>
                        </a:lnTo>
                        <a:lnTo>
                          <a:pt x="242" y="159"/>
                        </a:lnTo>
                        <a:lnTo>
                          <a:pt x="219" y="200"/>
                        </a:lnTo>
                        <a:lnTo>
                          <a:pt x="200" y="240"/>
                        </a:lnTo>
                        <a:lnTo>
                          <a:pt x="227" y="152"/>
                        </a:lnTo>
                        <a:lnTo>
                          <a:pt x="97" y="163"/>
                        </a:lnTo>
                        <a:lnTo>
                          <a:pt x="54" y="251"/>
                        </a:lnTo>
                        <a:lnTo>
                          <a:pt x="85" y="173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Freeform 19"/>
                  <p:cNvSpPr/>
                  <p:nvPr/>
                </p:nvSpPr>
                <p:spPr>
                  <a:xfrm>
                    <a:off x="2239200" y="6356880"/>
                    <a:ext cx="714240" cy="191160"/>
                  </a:xfrm>
                  <a:custGeom>
                    <a:avLst/>
                    <a:gdLst>
                      <a:gd name="textAreaLeft" fmla="*/ 0 w 714240"/>
                      <a:gd name="textAreaRight" fmla="*/ 714600 w 71424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715" h="273">
                        <a:moveTo>
                          <a:pt x="715" y="0"/>
                        </a:moveTo>
                        <a:lnTo>
                          <a:pt x="589" y="74"/>
                        </a:lnTo>
                        <a:lnTo>
                          <a:pt x="442" y="125"/>
                        </a:lnTo>
                        <a:lnTo>
                          <a:pt x="311" y="166"/>
                        </a:lnTo>
                        <a:lnTo>
                          <a:pt x="158" y="203"/>
                        </a:lnTo>
                        <a:lnTo>
                          <a:pt x="0" y="218"/>
                        </a:lnTo>
                        <a:lnTo>
                          <a:pt x="162" y="218"/>
                        </a:lnTo>
                        <a:lnTo>
                          <a:pt x="120" y="244"/>
                        </a:lnTo>
                        <a:lnTo>
                          <a:pt x="201" y="210"/>
                        </a:lnTo>
                        <a:lnTo>
                          <a:pt x="297" y="189"/>
                        </a:lnTo>
                        <a:lnTo>
                          <a:pt x="220" y="233"/>
                        </a:lnTo>
                        <a:lnTo>
                          <a:pt x="297" y="207"/>
                        </a:lnTo>
                        <a:lnTo>
                          <a:pt x="365" y="170"/>
                        </a:lnTo>
                        <a:lnTo>
                          <a:pt x="350" y="226"/>
                        </a:lnTo>
                        <a:lnTo>
                          <a:pt x="282" y="273"/>
                        </a:lnTo>
                        <a:lnTo>
                          <a:pt x="385" y="218"/>
                        </a:lnTo>
                        <a:lnTo>
                          <a:pt x="415" y="166"/>
                        </a:lnTo>
                        <a:lnTo>
                          <a:pt x="543" y="107"/>
                        </a:lnTo>
                        <a:lnTo>
                          <a:pt x="715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Group 20"/>
                <p:cNvGrpSpPr/>
                <p:nvPr/>
              </p:nvGrpSpPr>
              <p:grpSpPr>
                <a:xfrm>
                  <a:off x="3546000" y="5050080"/>
                  <a:ext cx="1405800" cy="1611720"/>
                  <a:chOff x="3546000" y="5050080"/>
                  <a:chExt cx="1405800" cy="1611720"/>
                </a:xfrm>
              </p:grpSpPr>
              <p:sp>
                <p:nvSpPr>
                  <p:cNvPr id="449" name="Freeform 21"/>
                  <p:cNvSpPr/>
                  <p:nvPr/>
                </p:nvSpPr>
                <p:spPr>
                  <a:xfrm>
                    <a:off x="3546000" y="5050080"/>
                    <a:ext cx="678960" cy="438480"/>
                  </a:xfrm>
                  <a:custGeom>
                    <a:avLst/>
                    <a:gdLst>
                      <a:gd name="textAreaLeft" fmla="*/ 0 w 678960"/>
                      <a:gd name="textAreaRight" fmla="*/ 679320 w 678960"/>
                      <a:gd name="textAreaTop" fmla="*/ 0 h 438480"/>
                      <a:gd name="textAreaBottom" fmla="*/ 438840 h 438480"/>
                    </a:gdLst>
                    <a:ahLst/>
                    <a:rect l="textAreaLeft" t="textAreaTop" r="textAreaRight" b="textAreaBottom"/>
                    <a:pathLst>
                      <a:path w="677" h="624">
                        <a:moveTo>
                          <a:pt x="135" y="95"/>
                        </a:moveTo>
                        <a:lnTo>
                          <a:pt x="185" y="178"/>
                        </a:lnTo>
                        <a:lnTo>
                          <a:pt x="243" y="252"/>
                        </a:lnTo>
                        <a:lnTo>
                          <a:pt x="335" y="326"/>
                        </a:lnTo>
                        <a:lnTo>
                          <a:pt x="428" y="386"/>
                        </a:lnTo>
                        <a:lnTo>
                          <a:pt x="556" y="444"/>
                        </a:lnTo>
                        <a:lnTo>
                          <a:pt x="677" y="467"/>
                        </a:lnTo>
                        <a:lnTo>
                          <a:pt x="671" y="481"/>
                        </a:lnTo>
                        <a:lnTo>
                          <a:pt x="564" y="475"/>
                        </a:lnTo>
                        <a:lnTo>
                          <a:pt x="606" y="518"/>
                        </a:lnTo>
                        <a:lnTo>
                          <a:pt x="649" y="550"/>
                        </a:lnTo>
                        <a:lnTo>
                          <a:pt x="593" y="535"/>
                        </a:lnTo>
                        <a:lnTo>
                          <a:pt x="536" y="481"/>
                        </a:lnTo>
                        <a:lnTo>
                          <a:pt x="543" y="526"/>
                        </a:lnTo>
                        <a:lnTo>
                          <a:pt x="586" y="572"/>
                        </a:lnTo>
                        <a:lnTo>
                          <a:pt x="636" y="616"/>
                        </a:lnTo>
                        <a:lnTo>
                          <a:pt x="606" y="616"/>
                        </a:lnTo>
                        <a:lnTo>
                          <a:pt x="536" y="556"/>
                        </a:lnTo>
                        <a:lnTo>
                          <a:pt x="500" y="504"/>
                        </a:lnTo>
                        <a:lnTo>
                          <a:pt x="520" y="572"/>
                        </a:lnTo>
                        <a:lnTo>
                          <a:pt x="570" y="624"/>
                        </a:lnTo>
                        <a:lnTo>
                          <a:pt x="500" y="579"/>
                        </a:lnTo>
                        <a:lnTo>
                          <a:pt x="465" y="526"/>
                        </a:lnTo>
                        <a:lnTo>
                          <a:pt x="457" y="550"/>
                        </a:lnTo>
                        <a:lnTo>
                          <a:pt x="465" y="593"/>
                        </a:lnTo>
                        <a:lnTo>
                          <a:pt x="442" y="593"/>
                        </a:lnTo>
                        <a:lnTo>
                          <a:pt x="414" y="542"/>
                        </a:lnTo>
                        <a:lnTo>
                          <a:pt x="392" y="535"/>
                        </a:lnTo>
                        <a:lnTo>
                          <a:pt x="400" y="579"/>
                        </a:lnTo>
                        <a:lnTo>
                          <a:pt x="414" y="601"/>
                        </a:lnTo>
                        <a:lnTo>
                          <a:pt x="385" y="601"/>
                        </a:lnTo>
                        <a:lnTo>
                          <a:pt x="357" y="550"/>
                        </a:lnTo>
                        <a:lnTo>
                          <a:pt x="329" y="504"/>
                        </a:lnTo>
                        <a:lnTo>
                          <a:pt x="335" y="550"/>
                        </a:lnTo>
                        <a:lnTo>
                          <a:pt x="357" y="579"/>
                        </a:lnTo>
                        <a:lnTo>
                          <a:pt x="314" y="556"/>
                        </a:lnTo>
                        <a:lnTo>
                          <a:pt x="279" y="452"/>
                        </a:lnTo>
                        <a:lnTo>
                          <a:pt x="271" y="489"/>
                        </a:lnTo>
                        <a:lnTo>
                          <a:pt x="284" y="535"/>
                        </a:lnTo>
                        <a:lnTo>
                          <a:pt x="300" y="564"/>
                        </a:lnTo>
                        <a:lnTo>
                          <a:pt x="279" y="579"/>
                        </a:lnTo>
                        <a:lnTo>
                          <a:pt x="251" y="535"/>
                        </a:lnTo>
                        <a:lnTo>
                          <a:pt x="234" y="489"/>
                        </a:lnTo>
                        <a:lnTo>
                          <a:pt x="229" y="526"/>
                        </a:lnTo>
                        <a:lnTo>
                          <a:pt x="243" y="550"/>
                        </a:lnTo>
                        <a:lnTo>
                          <a:pt x="229" y="564"/>
                        </a:lnTo>
                        <a:lnTo>
                          <a:pt x="214" y="526"/>
                        </a:lnTo>
                        <a:lnTo>
                          <a:pt x="193" y="489"/>
                        </a:lnTo>
                        <a:lnTo>
                          <a:pt x="156" y="415"/>
                        </a:lnTo>
                        <a:lnTo>
                          <a:pt x="151" y="438"/>
                        </a:lnTo>
                        <a:lnTo>
                          <a:pt x="156" y="489"/>
                        </a:lnTo>
                        <a:lnTo>
                          <a:pt x="171" y="542"/>
                        </a:lnTo>
                        <a:lnTo>
                          <a:pt x="151" y="542"/>
                        </a:lnTo>
                        <a:lnTo>
                          <a:pt x="135" y="481"/>
                        </a:lnTo>
                        <a:lnTo>
                          <a:pt x="121" y="407"/>
                        </a:lnTo>
                        <a:lnTo>
                          <a:pt x="107" y="459"/>
                        </a:lnTo>
                        <a:lnTo>
                          <a:pt x="107" y="496"/>
                        </a:lnTo>
                        <a:lnTo>
                          <a:pt x="85" y="459"/>
                        </a:lnTo>
                        <a:lnTo>
                          <a:pt x="93" y="401"/>
                        </a:lnTo>
                        <a:lnTo>
                          <a:pt x="78" y="347"/>
                        </a:lnTo>
                        <a:lnTo>
                          <a:pt x="65" y="430"/>
                        </a:lnTo>
                        <a:lnTo>
                          <a:pt x="65" y="475"/>
                        </a:lnTo>
                        <a:lnTo>
                          <a:pt x="50" y="452"/>
                        </a:lnTo>
                        <a:lnTo>
                          <a:pt x="43" y="386"/>
                        </a:lnTo>
                        <a:lnTo>
                          <a:pt x="43" y="303"/>
                        </a:lnTo>
                        <a:lnTo>
                          <a:pt x="43" y="244"/>
                        </a:lnTo>
                        <a:lnTo>
                          <a:pt x="22" y="295"/>
                        </a:lnTo>
                        <a:lnTo>
                          <a:pt x="28" y="347"/>
                        </a:lnTo>
                        <a:lnTo>
                          <a:pt x="7" y="356"/>
                        </a:lnTo>
                        <a:lnTo>
                          <a:pt x="0" y="303"/>
                        </a:lnTo>
                        <a:lnTo>
                          <a:pt x="7" y="215"/>
                        </a:lnTo>
                        <a:lnTo>
                          <a:pt x="35" y="132"/>
                        </a:lnTo>
                        <a:lnTo>
                          <a:pt x="43" y="80"/>
                        </a:lnTo>
                        <a:lnTo>
                          <a:pt x="43" y="0"/>
                        </a:lnTo>
                        <a:lnTo>
                          <a:pt x="135" y="9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22"/>
                  <p:cNvSpPr/>
                  <p:nvPr/>
                </p:nvSpPr>
                <p:spPr>
                  <a:xfrm>
                    <a:off x="3605760" y="5248080"/>
                    <a:ext cx="753840" cy="44820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448200"/>
                      <a:gd name="textAreaBottom" fmla="*/ 448560 h 448200"/>
                    </a:gdLst>
                    <a:ahLst/>
                    <a:rect l="textAreaLeft" t="textAreaTop" r="textAreaRight" b="textAreaBottom"/>
                    <a:pathLst>
                      <a:path w="755" h="638">
                        <a:moveTo>
                          <a:pt x="151" y="98"/>
                        </a:moveTo>
                        <a:lnTo>
                          <a:pt x="207" y="182"/>
                        </a:lnTo>
                        <a:lnTo>
                          <a:pt x="271" y="259"/>
                        </a:lnTo>
                        <a:lnTo>
                          <a:pt x="374" y="335"/>
                        </a:lnTo>
                        <a:lnTo>
                          <a:pt x="478" y="395"/>
                        </a:lnTo>
                        <a:lnTo>
                          <a:pt x="621" y="456"/>
                        </a:lnTo>
                        <a:lnTo>
                          <a:pt x="755" y="479"/>
                        </a:lnTo>
                        <a:lnTo>
                          <a:pt x="747" y="494"/>
                        </a:lnTo>
                        <a:lnTo>
                          <a:pt x="627" y="488"/>
                        </a:lnTo>
                        <a:lnTo>
                          <a:pt x="677" y="531"/>
                        </a:lnTo>
                        <a:lnTo>
                          <a:pt x="724" y="563"/>
                        </a:lnTo>
                        <a:lnTo>
                          <a:pt x="661" y="548"/>
                        </a:lnTo>
                        <a:lnTo>
                          <a:pt x="596" y="494"/>
                        </a:lnTo>
                        <a:lnTo>
                          <a:pt x="605" y="540"/>
                        </a:lnTo>
                        <a:lnTo>
                          <a:pt x="652" y="585"/>
                        </a:lnTo>
                        <a:lnTo>
                          <a:pt x="708" y="632"/>
                        </a:lnTo>
                        <a:lnTo>
                          <a:pt x="677" y="632"/>
                        </a:lnTo>
                        <a:lnTo>
                          <a:pt x="596" y="569"/>
                        </a:lnTo>
                        <a:lnTo>
                          <a:pt x="557" y="517"/>
                        </a:lnTo>
                        <a:lnTo>
                          <a:pt x="580" y="585"/>
                        </a:lnTo>
                        <a:lnTo>
                          <a:pt x="637" y="638"/>
                        </a:lnTo>
                        <a:lnTo>
                          <a:pt x="557" y="594"/>
                        </a:lnTo>
                        <a:lnTo>
                          <a:pt x="517" y="540"/>
                        </a:lnTo>
                        <a:lnTo>
                          <a:pt x="510" y="563"/>
                        </a:lnTo>
                        <a:lnTo>
                          <a:pt x="517" y="609"/>
                        </a:lnTo>
                        <a:lnTo>
                          <a:pt x="494" y="609"/>
                        </a:lnTo>
                        <a:lnTo>
                          <a:pt x="461" y="555"/>
                        </a:lnTo>
                        <a:lnTo>
                          <a:pt x="438" y="548"/>
                        </a:lnTo>
                        <a:lnTo>
                          <a:pt x="444" y="594"/>
                        </a:lnTo>
                        <a:lnTo>
                          <a:pt x="461" y="617"/>
                        </a:lnTo>
                        <a:lnTo>
                          <a:pt x="430" y="617"/>
                        </a:lnTo>
                        <a:lnTo>
                          <a:pt x="397" y="563"/>
                        </a:lnTo>
                        <a:lnTo>
                          <a:pt x="365" y="517"/>
                        </a:lnTo>
                        <a:lnTo>
                          <a:pt x="374" y="563"/>
                        </a:lnTo>
                        <a:lnTo>
                          <a:pt x="397" y="594"/>
                        </a:lnTo>
                        <a:lnTo>
                          <a:pt x="350" y="569"/>
                        </a:lnTo>
                        <a:lnTo>
                          <a:pt x="310" y="464"/>
                        </a:lnTo>
                        <a:lnTo>
                          <a:pt x="303" y="502"/>
                        </a:lnTo>
                        <a:lnTo>
                          <a:pt x="318" y="548"/>
                        </a:lnTo>
                        <a:lnTo>
                          <a:pt x="334" y="577"/>
                        </a:lnTo>
                        <a:lnTo>
                          <a:pt x="310" y="594"/>
                        </a:lnTo>
                        <a:lnTo>
                          <a:pt x="277" y="548"/>
                        </a:lnTo>
                        <a:lnTo>
                          <a:pt x="261" y="502"/>
                        </a:lnTo>
                        <a:lnTo>
                          <a:pt x="255" y="540"/>
                        </a:lnTo>
                        <a:lnTo>
                          <a:pt x="271" y="563"/>
                        </a:lnTo>
                        <a:lnTo>
                          <a:pt x="255" y="577"/>
                        </a:lnTo>
                        <a:lnTo>
                          <a:pt x="238" y="540"/>
                        </a:lnTo>
                        <a:lnTo>
                          <a:pt x="214" y="502"/>
                        </a:lnTo>
                        <a:lnTo>
                          <a:pt x="175" y="424"/>
                        </a:lnTo>
                        <a:lnTo>
                          <a:pt x="167" y="450"/>
                        </a:lnTo>
                        <a:lnTo>
                          <a:pt x="175" y="502"/>
                        </a:lnTo>
                        <a:lnTo>
                          <a:pt x="191" y="555"/>
                        </a:lnTo>
                        <a:lnTo>
                          <a:pt x="167" y="555"/>
                        </a:lnTo>
                        <a:lnTo>
                          <a:pt x="151" y="494"/>
                        </a:lnTo>
                        <a:lnTo>
                          <a:pt x="135" y="417"/>
                        </a:lnTo>
                        <a:lnTo>
                          <a:pt x="120" y="471"/>
                        </a:lnTo>
                        <a:lnTo>
                          <a:pt x="120" y="510"/>
                        </a:lnTo>
                        <a:lnTo>
                          <a:pt x="94" y="471"/>
                        </a:lnTo>
                        <a:lnTo>
                          <a:pt x="104" y="410"/>
                        </a:lnTo>
                        <a:lnTo>
                          <a:pt x="88" y="357"/>
                        </a:lnTo>
                        <a:lnTo>
                          <a:pt x="71" y="442"/>
                        </a:lnTo>
                        <a:lnTo>
                          <a:pt x="71" y="488"/>
                        </a:lnTo>
                        <a:lnTo>
                          <a:pt x="55" y="464"/>
                        </a:lnTo>
                        <a:lnTo>
                          <a:pt x="47" y="395"/>
                        </a:lnTo>
                        <a:lnTo>
                          <a:pt x="47" y="311"/>
                        </a:lnTo>
                        <a:lnTo>
                          <a:pt x="47" y="251"/>
                        </a:lnTo>
                        <a:lnTo>
                          <a:pt x="24" y="305"/>
                        </a:lnTo>
                        <a:lnTo>
                          <a:pt x="31" y="357"/>
                        </a:lnTo>
                        <a:lnTo>
                          <a:pt x="8" y="364"/>
                        </a:lnTo>
                        <a:lnTo>
                          <a:pt x="0" y="311"/>
                        </a:lnTo>
                        <a:lnTo>
                          <a:pt x="8" y="221"/>
                        </a:lnTo>
                        <a:lnTo>
                          <a:pt x="40" y="136"/>
                        </a:lnTo>
                        <a:lnTo>
                          <a:pt x="47" y="84"/>
                        </a:lnTo>
                        <a:lnTo>
                          <a:pt x="47" y="0"/>
                        </a:lnTo>
                        <a:lnTo>
                          <a:pt x="151" y="9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Freeform 23"/>
                  <p:cNvSpPr/>
                  <p:nvPr/>
                </p:nvSpPr>
                <p:spPr>
                  <a:xfrm>
                    <a:off x="3620880" y="5457600"/>
                    <a:ext cx="966960" cy="491760"/>
                  </a:xfrm>
                  <a:custGeom>
                    <a:avLst/>
                    <a:gdLst>
                      <a:gd name="textAreaLeft" fmla="*/ 0 w 966960"/>
                      <a:gd name="textAreaRight" fmla="*/ 967320 w 966960"/>
                      <a:gd name="textAreaTop" fmla="*/ 0 h 491760"/>
                      <a:gd name="textAreaBottom" fmla="*/ 492120 h 491760"/>
                    </a:gdLst>
                    <a:ahLst/>
                    <a:rect l="textAreaLeft" t="textAreaTop" r="textAreaRight" b="textAreaBottom"/>
                    <a:pathLst>
                      <a:path w="968" h="701">
                        <a:moveTo>
                          <a:pt x="194" y="106"/>
                        </a:moveTo>
                        <a:lnTo>
                          <a:pt x="265" y="199"/>
                        </a:lnTo>
                        <a:lnTo>
                          <a:pt x="346" y="282"/>
                        </a:lnTo>
                        <a:lnTo>
                          <a:pt x="479" y="367"/>
                        </a:lnTo>
                        <a:lnTo>
                          <a:pt x="612" y="432"/>
                        </a:lnTo>
                        <a:lnTo>
                          <a:pt x="797" y="499"/>
                        </a:lnTo>
                        <a:lnTo>
                          <a:pt x="968" y="524"/>
                        </a:lnTo>
                        <a:lnTo>
                          <a:pt x="961" y="541"/>
                        </a:lnTo>
                        <a:lnTo>
                          <a:pt x="806" y="534"/>
                        </a:lnTo>
                        <a:lnTo>
                          <a:pt x="868" y="582"/>
                        </a:lnTo>
                        <a:lnTo>
                          <a:pt x="930" y="617"/>
                        </a:lnTo>
                        <a:lnTo>
                          <a:pt x="847" y="599"/>
                        </a:lnTo>
                        <a:lnTo>
                          <a:pt x="766" y="541"/>
                        </a:lnTo>
                        <a:lnTo>
                          <a:pt x="775" y="592"/>
                        </a:lnTo>
                        <a:lnTo>
                          <a:pt x="836" y="640"/>
                        </a:lnTo>
                        <a:lnTo>
                          <a:pt x="909" y="692"/>
                        </a:lnTo>
                        <a:lnTo>
                          <a:pt x="868" y="692"/>
                        </a:lnTo>
                        <a:lnTo>
                          <a:pt x="766" y="624"/>
                        </a:lnTo>
                        <a:lnTo>
                          <a:pt x="713" y="566"/>
                        </a:lnTo>
                        <a:lnTo>
                          <a:pt x="746" y="640"/>
                        </a:lnTo>
                        <a:lnTo>
                          <a:pt x="816" y="701"/>
                        </a:lnTo>
                        <a:lnTo>
                          <a:pt x="713" y="650"/>
                        </a:lnTo>
                        <a:lnTo>
                          <a:pt x="664" y="592"/>
                        </a:lnTo>
                        <a:lnTo>
                          <a:pt x="654" y="617"/>
                        </a:lnTo>
                        <a:lnTo>
                          <a:pt x="664" y="668"/>
                        </a:lnTo>
                        <a:lnTo>
                          <a:pt x="633" y="668"/>
                        </a:lnTo>
                        <a:lnTo>
                          <a:pt x="592" y="608"/>
                        </a:lnTo>
                        <a:lnTo>
                          <a:pt x="563" y="599"/>
                        </a:lnTo>
                        <a:lnTo>
                          <a:pt x="571" y="650"/>
                        </a:lnTo>
                        <a:lnTo>
                          <a:pt x="592" y="675"/>
                        </a:lnTo>
                        <a:lnTo>
                          <a:pt x="551" y="675"/>
                        </a:lnTo>
                        <a:lnTo>
                          <a:pt x="510" y="617"/>
                        </a:lnTo>
                        <a:lnTo>
                          <a:pt x="468" y="566"/>
                        </a:lnTo>
                        <a:lnTo>
                          <a:pt x="479" y="617"/>
                        </a:lnTo>
                        <a:lnTo>
                          <a:pt x="510" y="650"/>
                        </a:lnTo>
                        <a:lnTo>
                          <a:pt x="448" y="624"/>
                        </a:lnTo>
                        <a:lnTo>
                          <a:pt x="397" y="508"/>
                        </a:lnTo>
                        <a:lnTo>
                          <a:pt x="388" y="550"/>
                        </a:lnTo>
                        <a:lnTo>
                          <a:pt x="408" y="599"/>
                        </a:lnTo>
                        <a:lnTo>
                          <a:pt x="429" y="633"/>
                        </a:lnTo>
                        <a:lnTo>
                          <a:pt x="397" y="650"/>
                        </a:lnTo>
                        <a:lnTo>
                          <a:pt x="358" y="599"/>
                        </a:lnTo>
                        <a:lnTo>
                          <a:pt x="336" y="550"/>
                        </a:lnTo>
                        <a:lnTo>
                          <a:pt x="327" y="592"/>
                        </a:lnTo>
                        <a:lnTo>
                          <a:pt x="346" y="617"/>
                        </a:lnTo>
                        <a:lnTo>
                          <a:pt x="327" y="633"/>
                        </a:lnTo>
                        <a:lnTo>
                          <a:pt x="306" y="592"/>
                        </a:lnTo>
                        <a:lnTo>
                          <a:pt x="275" y="550"/>
                        </a:lnTo>
                        <a:lnTo>
                          <a:pt x="225" y="465"/>
                        </a:lnTo>
                        <a:lnTo>
                          <a:pt x="213" y="492"/>
                        </a:lnTo>
                        <a:lnTo>
                          <a:pt x="225" y="550"/>
                        </a:lnTo>
                        <a:lnTo>
                          <a:pt x="245" y="608"/>
                        </a:lnTo>
                        <a:lnTo>
                          <a:pt x="213" y="608"/>
                        </a:lnTo>
                        <a:lnTo>
                          <a:pt x="194" y="541"/>
                        </a:lnTo>
                        <a:lnTo>
                          <a:pt x="172" y="456"/>
                        </a:lnTo>
                        <a:lnTo>
                          <a:pt x="153" y="516"/>
                        </a:lnTo>
                        <a:lnTo>
                          <a:pt x="153" y="558"/>
                        </a:lnTo>
                        <a:lnTo>
                          <a:pt x="122" y="516"/>
                        </a:lnTo>
                        <a:lnTo>
                          <a:pt x="132" y="450"/>
                        </a:lnTo>
                        <a:lnTo>
                          <a:pt x="110" y="390"/>
                        </a:lnTo>
                        <a:lnTo>
                          <a:pt x="91" y="484"/>
                        </a:lnTo>
                        <a:lnTo>
                          <a:pt x="91" y="534"/>
                        </a:lnTo>
                        <a:lnTo>
                          <a:pt x="70" y="508"/>
                        </a:lnTo>
                        <a:lnTo>
                          <a:pt x="60" y="432"/>
                        </a:lnTo>
                        <a:lnTo>
                          <a:pt x="60" y="340"/>
                        </a:lnTo>
                        <a:lnTo>
                          <a:pt x="60" y="273"/>
                        </a:lnTo>
                        <a:lnTo>
                          <a:pt x="30" y="333"/>
                        </a:lnTo>
                        <a:lnTo>
                          <a:pt x="40" y="390"/>
                        </a:lnTo>
                        <a:lnTo>
                          <a:pt x="9" y="399"/>
                        </a:lnTo>
                        <a:lnTo>
                          <a:pt x="0" y="340"/>
                        </a:lnTo>
                        <a:lnTo>
                          <a:pt x="9" y="241"/>
                        </a:lnTo>
                        <a:lnTo>
                          <a:pt x="51" y="149"/>
                        </a:lnTo>
                        <a:lnTo>
                          <a:pt x="60" y="89"/>
                        </a:lnTo>
                        <a:lnTo>
                          <a:pt x="60" y="0"/>
                        </a:lnTo>
                        <a:lnTo>
                          <a:pt x="194" y="10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Freeform 24"/>
                  <p:cNvSpPr/>
                  <p:nvPr/>
                </p:nvSpPr>
                <p:spPr>
                  <a:xfrm>
                    <a:off x="3647880" y="5691960"/>
                    <a:ext cx="1141560" cy="558000"/>
                  </a:xfrm>
                  <a:custGeom>
                    <a:avLst/>
                    <a:gdLst>
                      <a:gd name="textAreaLeft" fmla="*/ 0 w 1141560"/>
                      <a:gd name="textAreaRight" fmla="*/ 1141920 w 1141560"/>
                      <a:gd name="textAreaTop" fmla="*/ 0 h 558000"/>
                      <a:gd name="textAreaBottom" fmla="*/ 558360 h 558000"/>
                    </a:gdLst>
                    <a:ahLst/>
                    <a:rect l="textAreaLeft" t="textAreaTop" r="textAreaRight" b="textAreaBottom"/>
                    <a:pathLst>
                      <a:path w="1141" h="795">
                        <a:moveTo>
                          <a:pt x="101" y="59"/>
                        </a:moveTo>
                        <a:lnTo>
                          <a:pt x="250" y="208"/>
                        </a:lnTo>
                        <a:lnTo>
                          <a:pt x="499" y="341"/>
                        </a:lnTo>
                        <a:lnTo>
                          <a:pt x="670" y="394"/>
                        </a:lnTo>
                        <a:lnTo>
                          <a:pt x="806" y="423"/>
                        </a:lnTo>
                        <a:lnTo>
                          <a:pt x="1020" y="460"/>
                        </a:lnTo>
                        <a:lnTo>
                          <a:pt x="1085" y="483"/>
                        </a:lnTo>
                        <a:lnTo>
                          <a:pt x="1070" y="489"/>
                        </a:lnTo>
                        <a:lnTo>
                          <a:pt x="949" y="483"/>
                        </a:lnTo>
                        <a:lnTo>
                          <a:pt x="985" y="535"/>
                        </a:lnTo>
                        <a:lnTo>
                          <a:pt x="1049" y="594"/>
                        </a:lnTo>
                        <a:lnTo>
                          <a:pt x="1141" y="624"/>
                        </a:lnTo>
                        <a:lnTo>
                          <a:pt x="1077" y="624"/>
                        </a:lnTo>
                        <a:lnTo>
                          <a:pt x="964" y="572"/>
                        </a:lnTo>
                        <a:lnTo>
                          <a:pt x="999" y="624"/>
                        </a:lnTo>
                        <a:lnTo>
                          <a:pt x="1042" y="667"/>
                        </a:lnTo>
                        <a:lnTo>
                          <a:pt x="1105" y="713"/>
                        </a:lnTo>
                        <a:lnTo>
                          <a:pt x="1063" y="721"/>
                        </a:lnTo>
                        <a:lnTo>
                          <a:pt x="941" y="624"/>
                        </a:lnTo>
                        <a:lnTo>
                          <a:pt x="891" y="572"/>
                        </a:lnTo>
                        <a:lnTo>
                          <a:pt x="935" y="684"/>
                        </a:lnTo>
                        <a:lnTo>
                          <a:pt x="970" y="750"/>
                        </a:lnTo>
                        <a:lnTo>
                          <a:pt x="1005" y="795"/>
                        </a:lnTo>
                        <a:lnTo>
                          <a:pt x="970" y="795"/>
                        </a:lnTo>
                        <a:lnTo>
                          <a:pt x="921" y="699"/>
                        </a:lnTo>
                        <a:lnTo>
                          <a:pt x="836" y="580"/>
                        </a:lnTo>
                        <a:lnTo>
                          <a:pt x="820" y="653"/>
                        </a:lnTo>
                        <a:lnTo>
                          <a:pt x="836" y="713"/>
                        </a:lnTo>
                        <a:lnTo>
                          <a:pt x="856" y="773"/>
                        </a:lnTo>
                        <a:lnTo>
                          <a:pt x="806" y="729"/>
                        </a:lnTo>
                        <a:lnTo>
                          <a:pt x="791" y="661"/>
                        </a:lnTo>
                        <a:lnTo>
                          <a:pt x="785" y="564"/>
                        </a:lnTo>
                        <a:lnTo>
                          <a:pt x="756" y="617"/>
                        </a:lnTo>
                        <a:lnTo>
                          <a:pt x="763" y="729"/>
                        </a:lnTo>
                        <a:lnTo>
                          <a:pt x="778" y="787"/>
                        </a:lnTo>
                        <a:lnTo>
                          <a:pt x="735" y="736"/>
                        </a:lnTo>
                        <a:lnTo>
                          <a:pt x="728" y="667"/>
                        </a:lnTo>
                        <a:lnTo>
                          <a:pt x="713" y="750"/>
                        </a:lnTo>
                        <a:lnTo>
                          <a:pt x="692" y="667"/>
                        </a:lnTo>
                        <a:lnTo>
                          <a:pt x="650" y="564"/>
                        </a:lnTo>
                        <a:lnTo>
                          <a:pt x="635" y="617"/>
                        </a:lnTo>
                        <a:lnTo>
                          <a:pt x="650" y="713"/>
                        </a:lnTo>
                        <a:lnTo>
                          <a:pt x="685" y="766"/>
                        </a:lnTo>
                        <a:lnTo>
                          <a:pt x="614" y="706"/>
                        </a:lnTo>
                        <a:lnTo>
                          <a:pt x="606" y="617"/>
                        </a:lnTo>
                        <a:lnTo>
                          <a:pt x="577" y="506"/>
                        </a:lnTo>
                        <a:lnTo>
                          <a:pt x="571" y="587"/>
                        </a:lnTo>
                        <a:lnTo>
                          <a:pt x="577" y="713"/>
                        </a:lnTo>
                        <a:lnTo>
                          <a:pt x="614" y="773"/>
                        </a:lnTo>
                        <a:lnTo>
                          <a:pt x="549" y="729"/>
                        </a:lnTo>
                        <a:lnTo>
                          <a:pt x="514" y="594"/>
                        </a:lnTo>
                        <a:lnTo>
                          <a:pt x="514" y="653"/>
                        </a:lnTo>
                        <a:lnTo>
                          <a:pt x="521" y="706"/>
                        </a:lnTo>
                        <a:lnTo>
                          <a:pt x="478" y="675"/>
                        </a:lnTo>
                        <a:lnTo>
                          <a:pt x="478" y="646"/>
                        </a:lnTo>
                        <a:lnTo>
                          <a:pt x="414" y="543"/>
                        </a:lnTo>
                        <a:lnTo>
                          <a:pt x="328" y="475"/>
                        </a:lnTo>
                        <a:lnTo>
                          <a:pt x="350" y="543"/>
                        </a:lnTo>
                        <a:lnTo>
                          <a:pt x="370" y="572"/>
                        </a:lnTo>
                        <a:lnTo>
                          <a:pt x="328" y="572"/>
                        </a:lnTo>
                        <a:lnTo>
                          <a:pt x="307" y="497"/>
                        </a:lnTo>
                        <a:lnTo>
                          <a:pt x="279" y="460"/>
                        </a:lnTo>
                        <a:lnTo>
                          <a:pt x="207" y="364"/>
                        </a:lnTo>
                        <a:lnTo>
                          <a:pt x="235" y="438"/>
                        </a:lnTo>
                        <a:lnTo>
                          <a:pt x="242" y="489"/>
                        </a:lnTo>
                        <a:lnTo>
                          <a:pt x="279" y="527"/>
                        </a:lnTo>
                        <a:lnTo>
                          <a:pt x="242" y="535"/>
                        </a:lnTo>
                        <a:lnTo>
                          <a:pt x="192" y="446"/>
                        </a:lnTo>
                        <a:lnTo>
                          <a:pt x="157" y="372"/>
                        </a:lnTo>
                        <a:lnTo>
                          <a:pt x="114" y="303"/>
                        </a:lnTo>
                        <a:lnTo>
                          <a:pt x="129" y="386"/>
                        </a:lnTo>
                        <a:lnTo>
                          <a:pt x="151" y="438"/>
                        </a:lnTo>
                        <a:lnTo>
                          <a:pt x="101" y="415"/>
                        </a:lnTo>
                        <a:lnTo>
                          <a:pt x="85" y="289"/>
                        </a:lnTo>
                        <a:lnTo>
                          <a:pt x="64" y="372"/>
                        </a:lnTo>
                        <a:lnTo>
                          <a:pt x="35" y="237"/>
                        </a:lnTo>
                        <a:lnTo>
                          <a:pt x="0" y="229"/>
                        </a:lnTo>
                        <a:lnTo>
                          <a:pt x="51" y="178"/>
                        </a:lnTo>
                        <a:lnTo>
                          <a:pt x="15" y="0"/>
                        </a:lnTo>
                        <a:lnTo>
                          <a:pt x="101" y="5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25"/>
                  <p:cNvSpPr/>
                  <p:nvPr/>
                </p:nvSpPr>
                <p:spPr>
                  <a:xfrm>
                    <a:off x="3684240" y="5896080"/>
                    <a:ext cx="1189080" cy="583200"/>
                  </a:xfrm>
                  <a:custGeom>
                    <a:avLst/>
                    <a:gdLst>
                      <a:gd name="textAreaLeft" fmla="*/ 0 w 1189080"/>
                      <a:gd name="textAreaRight" fmla="*/ 1189440 w 1189080"/>
                      <a:gd name="textAreaTop" fmla="*/ 0 h 583200"/>
                      <a:gd name="textAreaBottom" fmla="*/ 583560 h 583200"/>
                    </a:gdLst>
                    <a:ahLst/>
                    <a:rect l="textAreaLeft" t="textAreaTop" r="textAreaRight" b="textAreaBottom"/>
                    <a:pathLst>
                      <a:path w="1190" h="832">
                        <a:moveTo>
                          <a:pt x="104" y="63"/>
                        </a:moveTo>
                        <a:lnTo>
                          <a:pt x="261" y="218"/>
                        </a:lnTo>
                        <a:lnTo>
                          <a:pt x="521" y="357"/>
                        </a:lnTo>
                        <a:lnTo>
                          <a:pt x="700" y="413"/>
                        </a:lnTo>
                        <a:lnTo>
                          <a:pt x="842" y="443"/>
                        </a:lnTo>
                        <a:lnTo>
                          <a:pt x="1065" y="483"/>
                        </a:lnTo>
                        <a:lnTo>
                          <a:pt x="1132" y="506"/>
                        </a:lnTo>
                        <a:lnTo>
                          <a:pt x="1118" y="513"/>
                        </a:lnTo>
                        <a:lnTo>
                          <a:pt x="990" y="506"/>
                        </a:lnTo>
                        <a:lnTo>
                          <a:pt x="1029" y="561"/>
                        </a:lnTo>
                        <a:lnTo>
                          <a:pt x="1095" y="623"/>
                        </a:lnTo>
                        <a:lnTo>
                          <a:pt x="1190" y="654"/>
                        </a:lnTo>
                        <a:lnTo>
                          <a:pt x="1124" y="654"/>
                        </a:lnTo>
                        <a:lnTo>
                          <a:pt x="1006" y="599"/>
                        </a:lnTo>
                        <a:lnTo>
                          <a:pt x="1042" y="654"/>
                        </a:lnTo>
                        <a:lnTo>
                          <a:pt x="1087" y="701"/>
                        </a:lnTo>
                        <a:lnTo>
                          <a:pt x="1154" y="746"/>
                        </a:lnTo>
                        <a:lnTo>
                          <a:pt x="1111" y="755"/>
                        </a:lnTo>
                        <a:lnTo>
                          <a:pt x="983" y="654"/>
                        </a:lnTo>
                        <a:lnTo>
                          <a:pt x="930" y="599"/>
                        </a:lnTo>
                        <a:lnTo>
                          <a:pt x="976" y="715"/>
                        </a:lnTo>
                        <a:lnTo>
                          <a:pt x="1013" y="786"/>
                        </a:lnTo>
                        <a:lnTo>
                          <a:pt x="1052" y="832"/>
                        </a:lnTo>
                        <a:lnTo>
                          <a:pt x="1013" y="832"/>
                        </a:lnTo>
                        <a:lnTo>
                          <a:pt x="960" y="731"/>
                        </a:lnTo>
                        <a:lnTo>
                          <a:pt x="871" y="606"/>
                        </a:lnTo>
                        <a:lnTo>
                          <a:pt x="856" y="684"/>
                        </a:lnTo>
                        <a:lnTo>
                          <a:pt x="871" y="746"/>
                        </a:lnTo>
                        <a:lnTo>
                          <a:pt x="894" y="810"/>
                        </a:lnTo>
                        <a:lnTo>
                          <a:pt x="842" y="763"/>
                        </a:lnTo>
                        <a:lnTo>
                          <a:pt x="827" y="692"/>
                        </a:lnTo>
                        <a:lnTo>
                          <a:pt x="819" y="592"/>
                        </a:lnTo>
                        <a:lnTo>
                          <a:pt x="789" y="646"/>
                        </a:lnTo>
                        <a:lnTo>
                          <a:pt x="799" y="763"/>
                        </a:lnTo>
                        <a:lnTo>
                          <a:pt x="812" y="824"/>
                        </a:lnTo>
                        <a:lnTo>
                          <a:pt x="768" y="771"/>
                        </a:lnTo>
                        <a:lnTo>
                          <a:pt x="759" y="701"/>
                        </a:lnTo>
                        <a:lnTo>
                          <a:pt x="746" y="786"/>
                        </a:lnTo>
                        <a:lnTo>
                          <a:pt x="722" y="701"/>
                        </a:lnTo>
                        <a:lnTo>
                          <a:pt x="677" y="592"/>
                        </a:lnTo>
                        <a:lnTo>
                          <a:pt x="664" y="646"/>
                        </a:lnTo>
                        <a:lnTo>
                          <a:pt x="677" y="746"/>
                        </a:lnTo>
                        <a:lnTo>
                          <a:pt x="716" y="801"/>
                        </a:lnTo>
                        <a:lnTo>
                          <a:pt x="641" y="739"/>
                        </a:lnTo>
                        <a:lnTo>
                          <a:pt x="634" y="646"/>
                        </a:lnTo>
                        <a:lnTo>
                          <a:pt x="603" y="529"/>
                        </a:lnTo>
                        <a:lnTo>
                          <a:pt x="597" y="615"/>
                        </a:lnTo>
                        <a:lnTo>
                          <a:pt x="603" y="746"/>
                        </a:lnTo>
                        <a:lnTo>
                          <a:pt x="641" y="810"/>
                        </a:lnTo>
                        <a:lnTo>
                          <a:pt x="574" y="763"/>
                        </a:lnTo>
                        <a:lnTo>
                          <a:pt x="536" y="623"/>
                        </a:lnTo>
                        <a:lnTo>
                          <a:pt x="536" y="684"/>
                        </a:lnTo>
                        <a:lnTo>
                          <a:pt x="544" y="739"/>
                        </a:lnTo>
                        <a:lnTo>
                          <a:pt x="500" y="708"/>
                        </a:lnTo>
                        <a:lnTo>
                          <a:pt x="500" y="676"/>
                        </a:lnTo>
                        <a:lnTo>
                          <a:pt x="434" y="568"/>
                        </a:lnTo>
                        <a:lnTo>
                          <a:pt x="343" y="497"/>
                        </a:lnTo>
                        <a:lnTo>
                          <a:pt x="365" y="568"/>
                        </a:lnTo>
                        <a:lnTo>
                          <a:pt x="387" y="599"/>
                        </a:lnTo>
                        <a:lnTo>
                          <a:pt x="343" y="599"/>
                        </a:lnTo>
                        <a:lnTo>
                          <a:pt x="321" y="521"/>
                        </a:lnTo>
                        <a:lnTo>
                          <a:pt x="291" y="483"/>
                        </a:lnTo>
                        <a:lnTo>
                          <a:pt x="216" y="380"/>
                        </a:lnTo>
                        <a:lnTo>
                          <a:pt x="247" y="459"/>
                        </a:lnTo>
                        <a:lnTo>
                          <a:pt x="252" y="513"/>
                        </a:lnTo>
                        <a:lnTo>
                          <a:pt x="291" y="552"/>
                        </a:lnTo>
                        <a:lnTo>
                          <a:pt x="252" y="561"/>
                        </a:lnTo>
                        <a:lnTo>
                          <a:pt x="201" y="466"/>
                        </a:lnTo>
                        <a:lnTo>
                          <a:pt x="164" y="390"/>
                        </a:lnTo>
                        <a:lnTo>
                          <a:pt x="120" y="319"/>
                        </a:lnTo>
                        <a:lnTo>
                          <a:pt x="133" y="405"/>
                        </a:lnTo>
                        <a:lnTo>
                          <a:pt x="156" y="459"/>
                        </a:lnTo>
                        <a:lnTo>
                          <a:pt x="104" y="436"/>
                        </a:lnTo>
                        <a:lnTo>
                          <a:pt x="90" y="303"/>
                        </a:lnTo>
                        <a:lnTo>
                          <a:pt x="67" y="390"/>
                        </a:lnTo>
                        <a:lnTo>
                          <a:pt x="38" y="249"/>
                        </a:lnTo>
                        <a:lnTo>
                          <a:pt x="0" y="241"/>
                        </a:lnTo>
                        <a:lnTo>
                          <a:pt x="51" y="186"/>
                        </a:lnTo>
                        <a:lnTo>
                          <a:pt x="15" y="0"/>
                        </a:lnTo>
                        <a:lnTo>
                          <a:pt x="104" y="6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Freeform 26"/>
                  <p:cNvSpPr/>
                  <p:nvPr/>
                </p:nvSpPr>
                <p:spPr>
                  <a:xfrm>
                    <a:off x="3684240" y="6109560"/>
                    <a:ext cx="1267560" cy="552240"/>
                  </a:xfrm>
                  <a:custGeom>
                    <a:avLst/>
                    <a:gdLst>
                      <a:gd name="textAreaLeft" fmla="*/ 0 w 1267560"/>
                      <a:gd name="textAreaRight" fmla="*/ 1267920 w 1267560"/>
                      <a:gd name="textAreaTop" fmla="*/ 0 h 552240"/>
                      <a:gd name="textAreaBottom" fmla="*/ 552600 h 552240"/>
                    </a:gdLst>
                    <a:ahLst/>
                    <a:rect l="textAreaLeft" t="textAreaTop" r="textAreaRight" b="textAreaBottom"/>
                    <a:pathLst>
                      <a:path w="1266" h="787">
                        <a:moveTo>
                          <a:pt x="253" y="121"/>
                        </a:moveTo>
                        <a:lnTo>
                          <a:pt x="348" y="224"/>
                        </a:lnTo>
                        <a:lnTo>
                          <a:pt x="453" y="318"/>
                        </a:lnTo>
                        <a:lnTo>
                          <a:pt x="627" y="412"/>
                        </a:lnTo>
                        <a:lnTo>
                          <a:pt x="799" y="487"/>
                        </a:lnTo>
                        <a:lnTo>
                          <a:pt x="1043" y="562"/>
                        </a:lnTo>
                        <a:lnTo>
                          <a:pt x="1266" y="589"/>
                        </a:lnTo>
                        <a:lnTo>
                          <a:pt x="1256" y="610"/>
                        </a:lnTo>
                        <a:lnTo>
                          <a:pt x="1055" y="601"/>
                        </a:lnTo>
                        <a:lnTo>
                          <a:pt x="1136" y="657"/>
                        </a:lnTo>
                        <a:lnTo>
                          <a:pt x="1217" y="695"/>
                        </a:lnTo>
                        <a:lnTo>
                          <a:pt x="1109" y="676"/>
                        </a:lnTo>
                        <a:lnTo>
                          <a:pt x="1002" y="610"/>
                        </a:lnTo>
                        <a:lnTo>
                          <a:pt x="1015" y="667"/>
                        </a:lnTo>
                        <a:lnTo>
                          <a:pt x="1094" y="722"/>
                        </a:lnTo>
                        <a:lnTo>
                          <a:pt x="1188" y="778"/>
                        </a:lnTo>
                        <a:lnTo>
                          <a:pt x="1136" y="778"/>
                        </a:lnTo>
                        <a:lnTo>
                          <a:pt x="1002" y="704"/>
                        </a:lnTo>
                        <a:lnTo>
                          <a:pt x="934" y="638"/>
                        </a:lnTo>
                        <a:lnTo>
                          <a:pt x="974" y="722"/>
                        </a:lnTo>
                        <a:lnTo>
                          <a:pt x="1067" y="787"/>
                        </a:lnTo>
                        <a:lnTo>
                          <a:pt x="934" y="733"/>
                        </a:lnTo>
                        <a:lnTo>
                          <a:pt x="868" y="667"/>
                        </a:lnTo>
                        <a:lnTo>
                          <a:pt x="854" y="695"/>
                        </a:lnTo>
                        <a:lnTo>
                          <a:pt x="868" y="751"/>
                        </a:lnTo>
                        <a:lnTo>
                          <a:pt x="829" y="751"/>
                        </a:lnTo>
                        <a:lnTo>
                          <a:pt x="774" y="686"/>
                        </a:lnTo>
                        <a:lnTo>
                          <a:pt x="735" y="676"/>
                        </a:lnTo>
                        <a:lnTo>
                          <a:pt x="747" y="733"/>
                        </a:lnTo>
                        <a:lnTo>
                          <a:pt x="774" y="760"/>
                        </a:lnTo>
                        <a:lnTo>
                          <a:pt x="720" y="760"/>
                        </a:lnTo>
                        <a:lnTo>
                          <a:pt x="667" y="695"/>
                        </a:lnTo>
                        <a:lnTo>
                          <a:pt x="613" y="638"/>
                        </a:lnTo>
                        <a:lnTo>
                          <a:pt x="627" y="695"/>
                        </a:lnTo>
                        <a:lnTo>
                          <a:pt x="667" y="733"/>
                        </a:lnTo>
                        <a:lnTo>
                          <a:pt x="588" y="704"/>
                        </a:lnTo>
                        <a:lnTo>
                          <a:pt x="521" y="571"/>
                        </a:lnTo>
                        <a:lnTo>
                          <a:pt x="507" y="621"/>
                        </a:lnTo>
                        <a:lnTo>
                          <a:pt x="533" y="676"/>
                        </a:lnTo>
                        <a:lnTo>
                          <a:pt x="562" y="713"/>
                        </a:lnTo>
                        <a:lnTo>
                          <a:pt x="521" y="733"/>
                        </a:lnTo>
                        <a:lnTo>
                          <a:pt x="467" y="676"/>
                        </a:lnTo>
                        <a:lnTo>
                          <a:pt x="438" y="621"/>
                        </a:lnTo>
                        <a:lnTo>
                          <a:pt x="428" y="667"/>
                        </a:lnTo>
                        <a:lnTo>
                          <a:pt x="453" y="695"/>
                        </a:lnTo>
                        <a:lnTo>
                          <a:pt x="428" y="713"/>
                        </a:lnTo>
                        <a:lnTo>
                          <a:pt x="399" y="667"/>
                        </a:lnTo>
                        <a:lnTo>
                          <a:pt x="359" y="621"/>
                        </a:lnTo>
                        <a:lnTo>
                          <a:pt x="294" y="524"/>
                        </a:lnTo>
                        <a:lnTo>
                          <a:pt x="280" y="554"/>
                        </a:lnTo>
                        <a:lnTo>
                          <a:pt x="294" y="621"/>
                        </a:lnTo>
                        <a:lnTo>
                          <a:pt x="319" y="686"/>
                        </a:lnTo>
                        <a:lnTo>
                          <a:pt x="280" y="686"/>
                        </a:lnTo>
                        <a:lnTo>
                          <a:pt x="253" y="610"/>
                        </a:lnTo>
                        <a:lnTo>
                          <a:pt x="224" y="515"/>
                        </a:lnTo>
                        <a:lnTo>
                          <a:pt x="199" y="582"/>
                        </a:lnTo>
                        <a:lnTo>
                          <a:pt x="199" y="629"/>
                        </a:lnTo>
                        <a:lnTo>
                          <a:pt x="160" y="582"/>
                        </a:lnTo>
                        <a:lnTo>
                          <a:pt x="173" y="506"/>
                        </a:lnTo>
                        <a:lnTo>
                          <a:pt x="145" y="440"/>
                        </a:lnTo>
                        <a:lnTo>
                          <a:pt x="119" y="545"/>
                        </a:lnTo>
                        <a:lnTo>
                          <a:pt x="119" y="601"/>
                        </a:lnTo>
                        <a:lnTo>
                          <a:pt x="92" y="571"/>
                        </a:lnTo>
                        <a:lnTo>
                          <a:pt x="79" y="487"/>
                        </a:lnTo>
                        <a:lnTo>
                          <a:pt x="79" y="383"/>
                        </a:lnTo>
                        <a:lnTo>
                          <a:pt x="79" y="309"/>
                        </a:lnTo>
                        <a:lnTo>
                          <a:pt x="40" y="374"/>
                        </a:lnTo>
                        <a:lnTo>
                          <a:pt x="51" y="440"/>
                        </a:lnTo>
                        <a:lnTo>
                          <a:pt x="13" y="450"/>
                        </a:lnTo>
                        <a:lnTo>
                          <a:pt x="0" y="383"/>
                        </a:lnTo>
                        <a:lnTo>
                          <a:pt x="13" y="272"/>
                        </a:lnTo>
                        <a:lnTo>
                          <a:pt x="65" y="168"/>
                        </a:lnTo>
                        <a:lnTo>
                          <a:pt x="79" y="103"/>
                        </a:lnTo>
                        <a:lnTo>
                          <a:pt x="79" y="0"/>
                        </a:lnTo>
                        <a:lnTo>
                          <a:pt x="253" y="1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Freeform 27"/>
                  <p:cNvSpPr/>
                  <p:nvPr/>
                </p:nvSpPr>
                <p:spPr>
                  <a:xfrm>
                    <a:off x="3624120" y="5082480"/>
                    <a:ext cx="447480" cy="297360"/>
                  </a:xfrm>
                  <a:custGeom>
                    <a:avLst/>
                    <a:gdLst>
                      <a:gd name="textAreaLeft" fmla="*/ 0 w 447480"/>
                      <a:gd name="textAreaRight" fmla="*/ 447840 w 447480"/>
                      <a:gd name="textAreaTop" fmla="*/ 0 h 297360"/>
                      <a:gd name="textAreaBottom" fmla="*/ 297720 h 297360"/>
                    </a:gdLst>
                    <a:ahLst/>
                    <a:rect l="textAreaLeft" t="textAreaTop" r="textAreaRight" b="textAreaBottom"/>
                    <a:pathLst>
                      <a:path w="446" h="424">
                        <a:moveTo>
                          <a:pt x="0" y="0"/>
                        </a:moveTo>
                        <a:lnTo>
                          <a:pt x="47" y="56"/>
                        </a:lnTo>
                        <a:lnTo>
                          <a:pt x="86" y="137"/>
                        </a:lnTo>
                        <a:lnTo>
                          <a:pt x="182" y="248"/>
                        </a:lnTo>
                        <a:lnTo>
                          <a:pt x="275" y="300"/>
                        </a:lnTo>
                        <a:lnTo>
                          <a:pt x="379" y="379"/>
                        </a:lnTo>
                        <a:lnTo>
                          <a:pt x="446" y="401"/>
                        </a:lnTo>
                        <a:lnTo>
                          <a:pt x="408" y="401"/>
                        </a:lnTo>
                        <a:lnTo>
                          <a:pt x="314" y="364"/>
                        </a:lnTo>
                        <a:lnTo>
                          <a:pt x="340" y="424"/>
                        </a:lnTo>
                        <a:lnTo>
                          <a:pt x="283" y="335"/>
                        </a:lnTo>
                        <a:lnTo>
                          <a:pt x="251" y="323"/>
                        </a:lnTo>
                        <a:lnTo>
                          <a:pt x="264" y="372"/>
                        </a:lnTo>
                        <a:lnTo>
                          <a:pt x="214" y="297"/>
                        </a:lnTo>
                        <a:lnTo>
                          <a:pt x="143" y="230"/>
                        </a:lnTo>
                        <a:lnTo>
                          <a:pt x="154" y="283"/>
                        </a:lnTo>
                        <a:lnTo>
                          <a:pt x="104" y="186"/>
                        </a:lnTo>
                        <a:lnTo>
                          <a:pt x="101" y="223"/>
                        </a:lnTo>
                        <a:lnTo>
                          <a:pt x="78" y="153"/>
                        </a:lnTo>
                        <a:lnTo>
                          <a:pt x="29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28"/>
                  <p:cNvSpPr/>
                  <p:nvPr/>
                </p:nvSpPr>
                <p:spPr>
                  <a:xfrm>
                    <a:off x="3825000" y="5414040"/>
                    <a:ext cx="390240" cy="191160"/>
                  </a:xfrm>
                  <a:custGeom>
                    <a:avLst/>
                    <a:gdLst>
                      <a:gd name="textAreaLeft" fmla="*/ 0 w 390240"/>
                      <a:gd name="textAreaRight" fmla="*/ 390600 w 39024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389" h="273">
                        <a:moveTo>
                          <a:pt x="0" y="0"/>
                        </a:moveTo>
                        <a:lnTo>
                          <a:pt x="74" y="69"/>
                        </a:lnTo>
                        <a:lnTo>
                          <a:pt x="160" y="127"/>
                        </a:lnTo>
                        <a:lnTo>
                          <a:pt x="245" y="168"/>
                        </a:lnTo>
                        <a:lnTo>
                          <a:pt x="339" y="217"/>
                        </a:lnTo>
                        <a:lnTo>
                          <a:pt x="389" y="232"/>
                        </a:lnTo>
                        <a:lnTo>
                          <a:pt x="349" y="232"/>
                        </a:lnTo>
                        <a:lnTo>
                          <a:pt x="367" y="273"/>
                        </a:lnTo>
                        <a:lnTo>
                          <a:pt x="314" y="228"/>
                        </a:lnTo>
                        <a:lnTo>
                          <a:pt x="307" y="257"/>
                        </a:lnTo>
                        <a:lnTo>
                          <a:pt x="257" y="199"/>
                        </a:lnTo>
                        <a:lnTo>
                          <a:pt x="257" y="243"/>
                        </a:lnTo>
                        <a:lnTo>
                          <a:pt x="203" y="168"/>
                        </a:lnTo>
                        <a:lnTo>
                          <a:pt x="160" y="149"/>
                        </a:lnTo>
                        <a:lnTo>
                          <a:pt x="135" y="149"/>
                        </a:lnTo>
                        <a:lnTo>
                          <a:pt x="163" y="210"/>
                        </a:lnTo>
                        <a:lnTo>
                          <a:pt x="121" y="161"/>
                        </a:lnTo>
                        <a:lnTo>
                          <a:pt x="113" y="116"/>
                        </a:lnTo>
                        <a:lnTo>
                          <a:pt x="67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29"/>
                  <p:cNvSpPr/>
                  <p:nvPr/>
                </p:nvSpPr>
                <p:spPr>
                  <a:xfrm>
                    <a:off x="3960000" y="5659920"/>
                    <a:ext cx="456840" cy="191160"/>
                  </a:xfrm>
                  <a:custGeom>
                    <a:avLst/>
                    <a:gdLst>
                      <a:gd name="textAreaLeft" fmla="*/ 0 w 456840"/>
                      <a:gd name="textAreaRight" fmla="*/ 457200 w 456840"/>
                      <a:gd name="textAreaTop" fmla="*/ 0 h 191160"/>
                      <a:gd name="textAreaBottom" fmla="*/ 191520 h 191160"/>
                    </a:gdLst>
                    <a:ahLst/>
                    <a:rect l="textAreaLeft" t="textAreaTop" r="textAreaRight" b="textAreaBottom"/>
                    <a:pathLst>
                      <a:path w="456" h="272">
                        <a:moveTo>
                          <a:pt x="0" y="0"/>
                        </a:moveTo>
                        <a:lnTo>
                          <a:pt x="88" y="75"/>
                        </a:lnTo>
                        <a:lnTo>
                          <a:pt x="172" y="120"/>
                        </a:lnTo>
                        <a:lnTo>
                          <a:pt x="286" y="163"/>
                        </a:lnTo>
                        <a:lnTo>
                          <a:pt x="350" y="195"/>
                        </a:lnTo>
                        <a:lnTo>
                          <a:pt x="456" y="221"/>
                        </a:lnTo>
                        <a:lnTo>
                          <a:pt x="395" y="224"/>
                        </a:lnTo>
                        <a:lnTo>
                          <a:pt x="399" y="265"/>
                        </a:lnTo>
                        <a:lnTo>
                          <a:pt x="367" y="205"/>
                        </a:lnTo>
                        <a:lnTo>
                          <a:pt x="350" y="272"/>
                        </a:lnTo>
                        <a:lnTo>
                          <a:pt x="332" y="205"/>
                        </a:lnTo>
                        <a:lnTo>
                          <a:pt x="218" y="157"/>
                        </a:lnTo>
                        <a:lnTo>
                          <a:pt x="218" y="224"/>
                        </a:lnTo>
                        <a:lnTo>
                          <a:pt x="188" y="153"/>
                        </a:lnTo>
                        <a:lnTo>
                          <a:pt x="92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Freeform 30"/>
                  <p:cNvSpPr/>
                  <p:nvPr/>
                </p:nvSpPr>
                <p:spPr>
                  <a:xfrm>
                    <a:off x="4092840" y="5935320"/>
                    <a:ext cx="528480" cy="140400"/>
                  </a:xfrm>
                  <a:custGeom>
                    <a:avLst/>
                    <a:gdLst>
                      <a:gd name="textAreaLeft" fmla="*/ 0 w 528480"/>
                      <a:gd name="textAreaRight" fmla="*/ 528840 w 528480"/>
                      <a:gd name="textAreaTop" fmla="*/ 0 h 140400"/>
                      <a:gd name="textAreaBottom" fmla="*/ 140760 h 140400"/>
                    </a:gdLst>
                    <a:ahLst/>
                    <a:rect l="textAreaLeft" t="textAreaTop" r="textAreaRight" b="textAreaBottom"/>
                    <a:pathLst>
                      <a:path w="528" h="201">
                        <a:moveTo>
                          <a:pt x="528" y="119"/>
                        </a:moveTo>
                        <a:lnTo>
                          <a:pt x="361" y="103"/>
                        </a:lnTo>
                        <a:lnTo>
                          <a:pt x="251" y="74"/>
                        </a:lnTo>
                        <a:lnTo>
                          <a:pt x="91" y="19"/>
                        </a:lnTo>
                        <a:lnTo>
                          <a:pt x="0" y="0"/>
                        </a:lnTo>
                        <a:lnTo>
                          <a:pt x="87" y="33"/>
                        </a:lnTo>
                        <a:lnTo>
                          <a:pt x="173" y="64"/>
                        </a:lnTo>
                        <a:lnTo>
                          <a:pt x="182" y="138"/>
                        </a:lnTo>
                        <a:lnTo>
                          <a:pt x="186" y="60"/>
                        </a:lnTo>
                        <a:lnTo>
                          <a:pt x="268" y="97"/>
                        </a:lnTo>
                        <a:lnTo>
                          <a:pt x="286" y="201"/>
                        </a:lnTo>
                        <a:lnTo>
                          <a:pt x="286" y="103"/>
                        </a:lnTo>
                        <a:lnTo>
                          <a:pt x="383" y="123"/>
                        </a:lnTo>
                        <a:lnTo>
                          <a:pt x="422" y="172"/>
                        </a:lnTo>
                        <a:lnTo>
                          <a:pt x="408" y="123"/>
                        </a:lnTo>
                        <a:lnTo>
                          <a:pt x="482" y="175"/>
                        </a:lnTo>
                        <a:lnTo>
                          <a:pt x="450" y="123"/>
                        </a:lnTo>
                        <a:lnTo>
                          <a:pt x="528" y="11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31"/>
                  <p:cNvSpPr/>
                  <p:nvPr/>
                </p:nvSpPr>
                <p:spPr>
                  <a:xfrm>
                    <a:off x="4110480" y="6127920"/>
                    <a:ext cx="591840" cy="17820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591" h="254">
                        <a:moveTo>
                          <a:pt x="591" y="157"/>
                        </a:moveTo>
                        <a:lnTo>
                          <a:pt x="471" y="142"/>
                        </a:lnTo>
                        <a:lnTo>
                          <a:pt x="323" y="116"/>
                        </a:lnTo>
                        <a:lnTo>
                          <a:pt x="132" y="64"/>
                        </a:lnTo>
                        <a:lnTo>
                          <a:pt x="0" y="0"/>
                        </a:lnTo>
                        <a:lnTo>
                          <a:pt x="146" y="93"/>
                        </a:lnTo>
                        <a:lnTo>
                          <a:pt x="214" y="160"/>
                        </a:lnTo>
                        <a:lnTo>
                          <a:pt x="271" y="227"/>
                        </a:lnTo>
                        <a:lnTo>
                          <a:pt x="228" y="146"/>
                        </a:lnTo>
                        <a:lnTo>
                          <a:pt x="200" y="109"/>
                        </a:lnTo>
                        <a:lnTo>
                          <a:pt x="303" y="153"/>
                        </a:lnTo>
                        <a:lnTo>
                          <a:pt x="323" y="196"/>
                        </a:lnTo>
                        <a:lnTo>
                          <a:pt x="353" y="246"/>
                        </a:lnTo>
                        <a:lnTo>
                          <a:pt x="323" y="153"/>
                        </a:lnTo>
                        <a:lnTo>
                          <a:pt x="368" y="160"/>
                        </a:lnTo>
                        <a:lnTo>
                          <a:pt x="389" y="200"/>
                        </a:lnTo>
                        <a:lnTo>
                          <a:pt x="407" y="242"/>
                        </a:lnTo>
                        <a:lnTo>
                          <a:pt x="381" y="153"/>
                        </a:lnTo>
                        <a:lnTo>
                          <a:pt x="502" y="163"/>
                        </a:lnTo>
                        <a:lnTo>
                          <a:pt x="541" y="254"/>
                        </a:lnTo>
                        <a:lnTo>
                          <a:pt x="513" y="175"/>
                        </a:lnTo>
                        <a:lnTo>
                          <a:pt x="591" y="15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Freeform 32"/>
                  <p:cNvSpPr/>
                  <p:nvPr/>
                </p:nvSpPr>
                <p:spPr>
                  <a:xfrm>
                    <a:off x="4188960" y="6366960"/>
                    <a:ext cx="663120" cy="192240"/>
                  </a:xfrm>
                  <a:custGeom>
                    <a:avLst/>
                    <a:gdLst>
                      <a:gd name="textAreaLeft" fmla="*/ 0 w 663120"/>
                      <a:gd name="textAreaRight" fmla="*/ 663480 w 663120"/>
                      <a:gd name="textAreaTop" fmla="*/ 0 h 192240"/>
                      <a:gd name="textAreaBottom" fmla="*/ 192600 h 192240"/>
                    </a:gdLst>
                    <a:ahLst/>
                    <a:rect l="textAreaLeft" t="textAreaTop" r="textAreaRight" b="textAreaBottom"/>
                    <a:pathLst>
                      <a:path w="663" h="275">
                        <a:moveTo>
                          <a:pt x="0" y="0"/>
                        </a:moveTo>
                        <a:lnTo>
                          <a:pt x="118" y="75"/>
                        </a:lnTo>
                        <a:lnTo>
                          <a:pt x="253" y="126"/>
                        </a:lnTo>
                        <a:lnTo>
                          <a:pt x="375" y="167"/>
                        </a:lnTo>
                        <a:lnTo>
                          <a:pt x="517" y="204"/>
                        </a:lnTo>
                        <a:lnTo>
                          <a:pt x="663" y="219"/>
                        </a:lnTo>
                        <a:lnTo>
                          <a:pt x="513" y="219"/>
                        </a:lnTo>
                        <a:lnTo>
                          <a:pt x="554" y="245"/>
                        </a:lnTo>
                        <a:lnTo>
                          <a:pt x="478" y="211"/>
                        </a:lnTo>
                        <a:lnTo>
                          <a:pt x="389" y="189"/>
                        </a:lnTo>
                        <a:lnTo>
                          <a:pt x="461" y="233"/>
                        </a:lnTo>
                        <a:lnTo>
                          <a:pt x="389" y="208"/>
                        </a:lnTo>
                        <a:lnTo>
                          <a:pt x="325" y="171"/>
                        </a:lnTo>
                        <a:lnTo>
                          <a:pt x="340" y="225"/>
                        </a:lnTo>
                        <a:lnTo>
                          <a:pt x="403" y="275"/>
                        </a:lnTo>
                        <a:lnTo>
                          <a:pt x="307" y="219"/>
                        </a:lnTo>
                        <a:lnTo>
                          <a:pt x="278" y="167"/>
                        </a:lnTo>
                        <a:lnTo>
                          <a:pt x="162" y="1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3366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Freeform 33"/>
                <p:cNvSpPr/>
                <p:nvPr/>
              </p:nvSpPr>
              <p:spPr>
                <a:xfrm>
                  <a:off x="3326760" y="5256360"/>
                  <a:ext cx="561960" cy="141264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1412640"/>
                    <a:gd name="textAreaBottom" fmla="*/ 1413000 h 1412640"/>
                  </a:gdLst>
                  <a:ahLst/>
                  <a:rect l="textAreaLeft" t="textAreaTop" r="textAreaRight" b="textAreaBottom"/>
                  <a:pathLst>
                    <a:path w="560" h="2010">
                      <a:moveTo>
                        <a:pt x="460" y="1506"/>
                      </a:moveTo>
                      <a:lnTo>
                        <a:pt x="553" y="1743"/>
                      </a:lnTo>
                      <a:lnTo>
                        <a:pt x="460" y="1706"/>
                      </a:lnTo>
                      <a:lnTo>
                        <a:pt x="537" y="1883"/>
                      </a:lnTo>
                      <a:lnTo>
                        <a:pt x="452" y="1765"/>
                      </a:lnTo>
                      <a:lnTo>
                        <a:pt x="476" y="1936"/>
                      </a:lnTo>
                      <a:lnTo>
                        <a:pt x="422" y="1810"/>
                      </a:lnTo>
                      <a:lnTo>
                        <a:pt x="406" y="1965"/>
                      </a:lnTo>
                      <a:lnTo>
                        <a:pt x="352" y="1736"/>
                      </a:lnTo>
                      <a:lnTo>
                        <a:pt x="315" y="2010"/>
                      </a:lnTo>
                      <a:lnTo>
                        <a:pt x="299" y="1736"/>
                      </a:lnTo>
                      <a:lnTo>
                        <a:pt x="199" y="1891"/>
                      </a:lnTo>
                      <a:lnTo>
                        <a:pt x="261" y="1670"/>
                      </a:lnTo>
                      <a:lnTo>
                        <a:pt x="145" y="1796"/>
                      </a:lnTo>
                      <a:lnTo>
                        <a:pt x="230" y="1611"/>
                      </a:lnTo>
                      <a:lnTo>
                        <a:pt x="77" y="1699"/>
                      </a:lnTo>
                      <a:lnTo>
                        <a:pt x="130" y="1537"/>
                      </a:lnTo>
                      <a:lnTo>
                        <a:pt x="0" y="1514"/>
                      </a:lnTo>
                      <a:lnTo>
                        <a:pt x="114" y="8"/>
                      </a:lnTo>
                      <a:lnTo>
                        <a:pt x="346" y="0"/>
                      </a:lnTo>
                      <a:lnTo>
                        <a:pt x="560" y="1551"/>
                      </a:lnTo>
                      <a:lnTo>
                        <a:pt x="460" y="150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00"/>
                    </a:gs>
                    <a:gs pos="100000">
                      <a:srgbClr val="33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34"/>
              <p:cNvGrpSpPr/>
              <p:nvPr/>
            </p:nvGrpSpPr>
            <p:grpSpPr>
              <a:xfrm>
                <a:off x="4876920" y="4872960"/>
                <a:ext cx="1376280" cy="1984320"/>
                <a:chOff x="4876920" y="4872960"/>
                <a:chExt cx="1376280" cy="1984320"/>
              </a:xfrm>
            </p:grpSpPr>
            <p:grpSp>
              <p:nvGrpSpPr>
                <p:cNvPr id="463" name="Group 35"/>
                <p:cNvGrpSpPr/>
                <p:nvPr/>
              </p:nvGrpSpPr>
              <p:grpSpPr>
                <a:xfrm>
                  <a:off x="5518080" y="5166360"/>
                  <a:ext cx="144360" cy="1690920"/>
                  <a:chOff x="5518080" y="5166360"/>
                  <a:chExt cx="144360" cy="1690920"/>
                </a:xfrm>
              </p:grpSpPr>
              <p:sp>
                <p:nvSpPr>
                  <p:cNvPr id="464" name="Freeform 36"/>
                  <p:cNvSpPr/>
                  <p:nvPr/>
                </p:nvSpPr>
                <p:spPr>
                  <a:xfrm>
                    <a:off x="5518080" y="5166360"/>
                    <a:ext cx="144360" cy="16909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1690920"/>
                      <a:gd name="textAreaBottom" fmla="*/ 1691280 h 1690920"/>
                    </a:gdLst>
                    <a:ahLst/>
                    <a:rect l="textAreaLeft" t="textAreaTop" r="textAreaRight" b="textAreaBottom"/>
                    <a:pathLst>
                      <a:path w="273" h="2406">
                        <a:moveTo>
                          <a:pt x="104" y="0"/>
                        </a:moveTo>
                        <a:lnTo>
                          <a:pt x="32" y="1217"/>
                        </a:lnTo>
                        <a:lnTo>
                          <a:pt x="39" y="1529"/>
                        </a:lnTo>
                        <a:lnTo>
                          <a:pt x="38" y="1766"/>
                        </a:lnTo>
                        <a:lnTo>
                          <a:pt x="39" y="1833"/>
                        </a:lnTo>
                        <a:lnTo>
                          <a:pt x="42" y="1934"/>
                        </a:lnTo>
                        <a:lnTo>
                          <a:pt x="32" y="2036"/>
                        </a:lnTo>
                        <a:lnTo>
                          <a:pt x="35" y="2165"/>
                        </a:lnTo>
                        <a:lnTo>
                          <a:pt x="26" y="2277"/>
                        </a:lnTo>
                        <a:lnTo>
                          <a:pt x="0" y="2375"/>
                        </a:lnTo>
                        <a:lnTo>
                          <a:pt x="63" y="2383"/>
                        </a:lnTo>
                        <a:lnTo>
                          <a:pt x="113" y="2406"/>
                        </a:lnTo>
                        <a:lnTo>
                          <a:pt x="183" y="2398"/>
                        </a:lnTo>
                        <a:lnTo>
                          <a:pt x="237" y="2398"/>
                        </a:lnTo>
                        <a:lnTo>
                          <a:pt x="273" y="2371"/>
                        </a:lnTo>
                        <a:lnTo>
                          <a:pt x="265" y="2273"/>
                        </a:lnTo>
                        <a:lnTo>
                          <a:pt x="250" y="2165"/>
                        </a:lnTo>
                        <a:lnTo>
                          <a:pt x="252" y="1966"/>
                        </a:lnTo>
                        <a:lnTo>
                          <a:pt x="250" y="1908"/>
                        </a:lnTo>
                        <a:lnTo>
                          <a:pt x="250" y="1766"/>
                        </a:lnTo>
                        <a:lnTo>
                          <a:pt x="250" y="1642"/>
                        </a:lnTo>
                        <a:lnTo>
                          <a:pt x="238" y="1521"/>
                        </a:lnTo>
                        <a:lnTo>
                          <a:pt x="245" y="998"/>
                        </a:lnTo>
                        <a:lnTo>
                          <a:pt x="245" y="344"/>
                        </a:lnTo>
                        <a:lnTo>
                          <a:pt x="223" y="87"/>
                        </a:lnTo>
                        <a:lnTo>
                          <a:pt x="104" y="0"/>
                        </a:lnTo>
                        <a:close/>
                      </a:path>
                    </a:pathLst>
                  </a:custGeom>
                  <a:solidFill>
                    <a:srgbClr val="201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37"/>
                  <p:cNvSpPr/>
                  <p:nvPr/>
                </p:nvSpPr>
                <p:spPr>
                  <a:xfrm>
                    <a:off x="5570640" y="6244200"/>
                    <a:ext cx="88920" cy="59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592920"/>
                      <a:gd name="textAreaBottom" fmla="*/ 593280 h 592920"/>
                    </a:gdLst>
                    <a:ahLst/>
                    <a:rect l="textAreaLeft" t="textAreaTop" r="textAreaRight" b="textAreaBottom"/>
                    <a:pathLst>
                      <a:path w="167" h="846">
                        <a:moveTo>
                          <a:pt x="115" y="0"/>
                        </a:moveTo>
                        <a:lnTo>
                          <a:pt x="61" y="42"/>
                        </a:lnTo>
                        <a:lnTo>
                          <a:pt x="0" y="70"/>
                        </a:lnTo>
                        <a:lnTo>
                          <a:pt x="39" y="74"/>
                        </a:lnTo>
                        <a:lnTo>
                          <a:pt x="100" y="63"/>
                        </a:lnTo>
                        <a:lnTo>
                          <a:pt x="76" y="109"/>
                        </a:lnTo>
                        <a:lnTo>
                          <a:pt x="18" y="148"/>
                        </a:lnTo>
                        <a:lnTo>
                          <a:pt x="85" y="152"/>
                        </a:lnTo>
                        <a:lnTo>
                          <a:pt x="111" y="175"/>
                        </a:lnTo>
                        <a:lnTo>
                          <a:pt x="82" y="214"/>
                        </a:lnTo>
                        <a:lnTo>
                          <a:pt x="33" y="246"/>
                        </a:lnTo>
                        <a:lnTo>
                          <a:pt x="115" y="254"/>
                        </a:lnTo>
                        <a:lnTo>
                          <a:pt x="121" y="288"/>
                        </a:lnTo>
                        <a:lnTo>
                          <a:pt x="115" y="324"/>
                        </a:lnTo>
                        <a:lnTo>
                          <a:pt x="54" y="371"/>
                        </a:lnTo>
                        <a:lnTo>
                          <a:pt x="18" y="371"/>
                        </a:lnTo>
                        <a:lnTo>
                          <a:pt x="78" y="390"/>
                        </a:lnTo>
                        <a:lnTo>
                          <a:pt x="117" y="394"/>
                        </a:lnTo>
                        <a:lnTo>
                          <a:pt x="93" y="433"/>
                        </a:lnTo>
                        <a:lnTo>
                          <a:pt x="50" y="472"/>
                        </a:lnTo>
                        <a:lnTo>
                          <a:pt x="117" y="511"/>
                        </a:lnTo>
                        <a:lnTo>
                          <a:pt x="117" y="604"/>
                        </a:lnTo>
                        <a:lnTo>
                          <a:pt x="85" y="702"/>
                        </a:lnTo>
                        <a:lnTo>
                          <a:pt x="124" y="729"/>
                        </a:lnTo>
                        <a:lnTo>
                          <a:pt x="54" y="749"/>
                        </a:lnTo>
                        <a:lnTo>
                          <a:pt x="132" y="761"/>
                        </a:lnTo>
                        <a:lnTo>
                          <a:pt x="39" y="791"/>
                        </a:lnTo>
                        <a:lnTo>
                          <a:pt x="135" y="803"/>
                        </a:lnTo>
                        <a:lnTo>
                          <a:pt x="72" y="827"/>
                        </a:lnTo>
                        <a:lnTo>
                          <a:pt x="39" y="846"/>
                        </a:lnTo>
                        <a:lnTo>
                          <a:pt x="107" y="846"/>
                        </a:lnTo>
                        <a:lnTo>
                          <a:pt x="167" y="838"/>
                        </a:lnTo>
                        <a:lnTo>
                          <a:pt x="152" y="753"/>
                        </a:lnTo>
                        <a:lnTo>
                          <a:pt x="139" y="682"/>
                        </a:lnTo>
                        <a:lnTo>
                          <a:pt x="143" y="577"/>
                        </a:lnTo>
                        <a:lnTo>
                          <a:pt x="139" y="437"/>
                        </a:lnTo>
                        <a:lnTo>
                          <a:pt x="146" y="328"/>
                        </a:lnTo>
                        <a:lnTo>
                          <a:pt x="139" y="191"/>
                        </a:lnTo>
                        <a:lnTo>
                          <a:pt x="128" y="129"/>
                        </a:lnTo>
                        <a:lnTo>
                          <a:pt x="128" y="63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Group 38"/>
                <p:cNvGrpSpPr/>
                <p:nvPr/>
              </p:nvGrpSpPr>
              <p:grpSpPr>
                <a:xfrm>
                  <a:off x="4876920" y="4872960"/>
                  <a:ext cx="739440" cy="1692000"/>
                  <a:chOff x="4876920" y="4872960"/>
                  <a:chExt cx="739440" cy="1692000"/>
                </a:xfrm>
              </p:grpSpPr>
              <p:sp>
                <p:nvSpPr>
                  <p:cNvPr id="467" name="Freeform 39"/>
                  <p:cNvSpPr/>
                  <p:nvPr/>
                </p:nvSpPr>
                <p:spPr>
                  <a:xfrm>
                    <a:off x="5259240" y="4872960"/>
                    <a:ext cx="357120" cy="4593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59360"/>
                      <a:gd name="textAreaBottom" fmla="*/ 459720 h 459360"/>
                    </a:gdLst>
                    <a:ahLst/>
                    <a:rect l="textAreaLeft" t="textAreaTop" r="textAreaRight" b="textAreaBottom"/>
                    <a:pathLst>
                      <a:path w="673" h="655">
                        <a:moveTo>
                          <a:pt x="539" y="101"/>
                        </a:moveTo>
                        <a:lnTo>
                          <a:pt x="489" y="186"/>
                        </a:lnTo>
                        <a:lnTo>
                          <a:pt x="432" y="265"/>
                        </a:lnTo>
                        <a:lnTo>
                          <a:pt x="340" y="343"/>
                        </a:lnTo>
                        <a:lnTo>
                          <a:pt x="248" y="405"/>
                        </a:lnTo>
                        <a:lnTo>
                          <a:pt x="120" y="468"/>
                        </a:lnTo>
                        <a:lnTo>
                          <a:pt x="0" y="491"/>
                        </a:lnTo>
                        <a:lnTo>
                          <a:pt x="7" y="507"/>
                        </a:lnTo>
                        <a:lnTo>
                          <a:pt x="113" y="498"/>
                        </a:lnTo>
                        <a:lnTo>
                          <a:pt x="70" y="545"/>
                        </a:lnTo>
                        <a:lnTo>
                          <a:pt x="29" y="577"/>
                        </a:lnTo>
                        <a:lnTo>
                          <a:pt x="85" y="561"/>
                        </a:lnTo>
                        <a:lnTo>
                          <a:pt x="142" y="507"/>
                        </a:lnTo>
                        <a:lnTo>
                          <a:pt x="135" y="553"/>
                        </a:lnTo>
                        <a:lnTo>
                          <a:pt x="92" y="600"/>
                        </a:lnTo>
                        <a:lnTo>
                          <a:pt x="42" y="647"/>
                        </a:lnTo>
                        <a:lnTo>
                          <a:pt x="70" y="647"/>
                        </a:lnTo>
                        <a:lnTo>
                          <a:pt x="142" y="585"/>
                        </a:lnTo>
                        <a:lnTo>
                          <a:pt x="177" y="530"/>
                        </a:lnTo>
                        <a:lnTo>
                          <a:pt x="156" y="600"/>
                        </a:lnTo>
                        <a:lnTo>
                          <a:pt x="107" y="655"/>
                        </a:lnTo>
                        <a:lnTo>
                          <a:pt x="177" y="608"/>
                        </a:lnTo>
                        <a:lnTo>
                          <a:pt x="213" y="553"/>
                        </a:lnTo>
                        <a:lnTo>
                          <a:pt x="220" y="577"/>
                        </a:lnTo>
                        <a:lnTo>
                          <a:pt x="213" y="623"/>
                        </a:lnTo>
                        <a:lnTo>
                          <a:pt x="233" y="623"/>
                        </a:lnTo>
                        <a:lnTo>
                          <a:pt x="263" y="570"/>
                        </a:lnTo>
                        <a:lnTo>
                          <a:pt x="283" y="561"/>
                        </a:lnTo>
                        <a:lnTo>
                          <a:pt x="276" y="608"/>
                        </a:lnTo>
                        <a:lnTo>
                          <a:pt x="263" y="631"/>
                        </a:lnTo>
                        <a:lnTo>
                          <a:pt x="291" y="631"/>
                        </a:lnTo>
                        <a:lnTo>
                          <a:pt x="319" y="577"/>
                        </a:lnTo>
                        <a:lnTo>
                          <a:pt x="348" y="530"/>
                        </a:lnTo>
                        <a:lnTo>
                          <a:pt x="340" y="577"/>
                        </a:lnTo>
                        <a:lnTo>
                          <a:pt x="319" y="608"/>
                        </a:lnTo>
                        <a:lnTo>
                          <a:pt x="361" y="585"/>
                        </a:lnTo>
                        <a:lnTo>
                          <a:pt x="397" y="475"/>
                        </a:lnTo>
                        <a:lnTo>
                          <a:pt x="404" y="515"/>
                        </a:lnTo>
                        <a:lnTo>
                          <a:pt x="389" y="561"/>
                        </a:lnTo>
                        <a:lnTo>
                          <a:pt x="376" y="592"/>
                        </a:lnTo>
                        <a:lnTo>
                          <a:pt x="397" y="608"/>
                        </a:lnTo>
                        <a:lnTo>
                          <a:pt x="426" y="561"/>
                        </a:lnTo>
                        <a:lnTo>
                          <a:pt x="439" y="515"/>
                        </a:lnTo>
                        <a:lnTo>
                          <a:pt x="446" y="553"/>
                        </a:lnTo>
                        <a:lnTo>
                          <a:pt x="432" y="577"/>
                        </a:lnTo>
                        <a:lnTo>
                          <a:pt x="446" y="592"/>
                        </a:lnTo>
                        <a:lnTo>
                          <a:pt x="461" y="553"/>
                        </a:lnTo>
                        <a:lnTo>
                          <a:pt x="482" y="515"/>
                        </a:lnTo>
                        <a:lnTo>
                          <a:pt x="517" y="436"/>
                        </a:lnTo>
                        <a:lnTo>
                          <a:pt x="524" y="460"/>
                        </a:lnTo>
                        <a:lnTo>
                          <a:pt x="517" y="515"/>
                        </a:lnTo>
                        <a:lnTo>
                          <a:pt x="504" y="570"/>
                        </a:lnTo>
                        <a:lnTo>
                          <a:pt x="524" y="570"/>
                        </a:lnTo>
                        <a:lnTo>
                          <a:pt x="539" y="507"/>
                        </a:lnTo>
                        <a:lnTo>
                          <a:pt x="552" y="428"/>
                        </a:lnTo>
                        <a:lnTo>
                          <a:pt x="567" y="483"/>
                        </a:lnTo>
                        <a:lnTo>
                          <a:pt x="567" y="522"/>
                        </a:lnTo>
                        <a:lnTo>
                          <a:pt x="589" y="483"/>
                        </a:lnTo>
                        <a:lnTo>
                          <a:pt x="582" y="421"/>
                        </a:lnTo>
                        <a:lnTo>
                          <a:pt x="595" y="366"/>
                        </a:lnTo>
                        <a:lnTo>
                          <a:pt x="610" y="452"/>
                        </a:lnTo>
                        <a:lnTo>
                          <a:pt x="610" y="498"/>
                        </a:lnTo>
                        <a:lnTo>
                          <a:pt x="624" y="475"/>
                        </a:lnTo>
                        <a:lnTo>
                          <a:pt x="630" y="405"/>
                        </a:lnTo>
                        <a:lnTo>
                          <a:pt x="630" y="320"/>
                        </a:lnTo>
                        <a:lnTo>
                          <a:pt x="630" y="258"/>
                        </a:lnTo>
                        <a:lnTo>
                          <a:pt x="652" y="311"/>
                        </a:lnTo>
                        <a:lnTo>
                          <a:pt x="645" y="366"/>
                        </a:lnTo>
                        <a:lnTo>
                          <a:pt x="667" y="373"/>
                        </a:lnTo>
                        <a:lnTo>
                          <a:pt x="673" y="320"/>
                        </a:lnTo>
                        <a:lnTo>
                          <a:pt x="667" y="226"/>
                        </a:lnTo>
                        <a:lnTo>
                          <a:pt x="638" y="140"/>
                        </a:lnTo>
                        <a:lnTo>
                          <a:pt x="630" y="86"/>
                        </a:lnTo>
                        <a:lnTo>
                          <a:pt x="630" y="0"/>
                        </a:lnTo>
                        <a:lnTo>
                          <a:pt x="539" y="101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Freeform 40"/>
                  <p:cNvSpPr/>
                  <p:nvPr/>
                </p:nvSpPr>
                <p:spPr>
                  <a:xfrm>
                    <a:off x="5189400" y="5080680"/>
                    <a:ext cx="397080" cy="470520"/>
                  </a:xfrm>
                  <a:custGeom>
                    <a:avLst/>
                    <a:gdLst>
                      <a:gd name="textAreaLeft" fmla="*/ 0 w 397080"/>
                      <a:gd name="textAreaRight" fmla="*/ 397440 w 397080"/>
                      <a:gd name="textAreaTop" fmla="*/ 0 h 470520"/>
                      <a:gd name="textAreaBottom" fmla="*/ 470880 h 470520"/>
                    </a:gdLst>
                    <a:ahLst/>
                    <a:rect l="textAreaLeft" t="textAreaTop" r="textAreaRight" b="textAreaBottom"/>
                    <a:pathLst>
                      <a:path w="750" h="670">
                        <a:moveTo>
                          <a:pt x="600" y="103"/>
                        </a:moveTo>
                        <a:lnTo>
                          <a:pt x="544" y="191"/>
                        </a:lnTo>
                        <a:lnTo>
                          <a:pt x="482" y="270"/>
                        </a:lnTo>
                        <a:lnTo>
                          <a:pt x="378" y="351"/>
                        </a:lnTo>
                        <a:lnTo>
                          <a:pt x="276" y="415"/>
                        </a:lnTo>
                        <a:lnTo>
                          <a:pt x="133" y="479"/>
                        </a:lnTo>
                        <a:lnTo>
                          <a:pt x="0" y="502"/>
                        </a:lnTo>
                        <a:lnTo>
                          <a:pt x="6" y="518"/>
                        </a:lnTo>
                        <a:lnTo>
                          <a:pt x="126" y="510"/>
                        </a:lnTo>
                        <a:lnTo>
                          <a:pt x="78" y="558"/>
                        </a:lnTo>
                        <a:lnTo>
                          <a:pt x="29" y="591"/>
                        </a:lnTo>
                        <a:lnTo>
                          <a:pt x="94" y="574"/>
                        </a:lnTo>
                        <a:lnTo>
                          <a:pt x="156" y="518"/>
                        </a:lnTo>
                        <a:lnTo>
                          <a:pt x="149" y="566"/>
                        </a:lnTo>
                        <a:lnTo>
                          <a:pt x="102" y="614"/>
                        </a:lnTo>
                        <a:lnTo>
                          <a:pt x="47" y="662"/>
                        </a:lnTo>
                        <a:lnTo>
                          <a:pt x="78" y="662"/>
                        </a:lnTo>
                        <a:lnTo>
                          <a:pt x="156" y="598"/>
                        </a:lnTo>
                        <a:lnTo>
                          <a:pt x="196" y="542"/>
                        </a:lnTo>
                        <a:lnTo>
                          <a:pt x="173" y="614"/>
                        </a:lnTo>
                        <a:lnTo>
                          <a:pt x="117" y="670"/>
                        </a:lnTo>
                        <a:lnTo>
                          <a:pt x="196" y="623"/>
                        </a:lnTo>
                        <a:lnTo>
                          <a:pt x="235" y="566"/>
                        </a:lnTo>
                        <a:lnTo>
                          <a:pt x="243" y="591"/>
                        </a:lnTo>
                        <a:lnTo>
                          <a:pt x="235" y="638"/>
                        </a:lnTo>
                        <a:lnTo>
                          <a:pt x="259" y="638"/>
                        </a:lnTo>
                        <a:lnTo>
                          <a:pt x="290" y="582"/>
                        </a:lnTo>
                        <a:lnTo>
                          <a:pt x="315" y="574"/>
                        </a:lnTo>
                        <a:lnTo>
                          <a:pt x="308" y="623"/>
                        </a:lnTo>
                        <a:lnTo>
                          <a:pt x="290" y="645"/>
                        </a:lnTo>
                        <a:lnTo>
                          <a:pt x="323" y="645"/>
                        </a:lnTo>
                        <a:lnTo>
                          <a:pt x="355" y="591"/>
                        </a:lnTo>
                        <a:lnTo>
                          <a:pt x="387" y="542"/>
                        </a:lnTo>
                        <a:lnTo>
                          <a:pt x="378" y="591"/>
                        </a:lnTo>
                        <a:lnTo>
                          <a:pt x="355" y="623"/>
                        </a:lnTo>
                        <a:lnTo>
                          <a:pt x="402" y="598"/>
                        </a:lnTo>
                        <a:lnTo>
                          <a:pt x="441" y="486"/>
                        </a:lnTo>
                        <a:lnTo>
                          <a:pt x="449" y="527"/>
                        </a:lnTo>
                        <a:lnTo>
                          <a:pt x="435" y="574"/>
                        </a:lnTo>
                        <a:lnTo>
                          <a:pt x="417" y="606"/>
                        </a:lnTo>
                        <a:lnTo>
                          <a:pt x="441" y="623"/>
                        </a:lnTo>
                        <a:lnTo>
                          <a:pt x="474" y="574"/>
                        </a:lnTo>
                        <a:lnTo>
                          <a:pt x="490" y="527"/>
                        </a:lnTo>
                        <a:lnTo>
                          <a:pt x="496" y="566"/>
                        </a:lnTo>
                        <a:lnTo>
                          <a:pt x="482" y="591"/>
                        </a:lnTo>
                        <a:lnTo>
                          <a:pt x="496" y="606"/>
                        </a:lnTo>
                        <a:lnTo>
                          <a:pt x="513" y="566"/>
                        </a:lnTo>
                        <a:lnTo>
                          <a:pt x="537" y="527"/>
                        </a:lnTo>
                        <a:lnTo>
                          <a:pt x="576" y="445"/>
                        </a:lnTo>
                        <a:lnTo>
                          <a:pt x="584" y="471"/>
                        </a:lnTo>
                        <a:lnTo>
                          <a:pt x="576" y="527"/>
                        </a:lnTo>
                        <a:lnTo>
                          <a:pt x="561" y="582"/>
                        </a:lnTo>
                        <a:lnTo>
                          <a:pt x="584" y="582"/>
                        </a:lnTo>
                        <a:lnTo>
                          <a:pt x="600" y="518"/>
                        </a:lnTo>
                        <a:lnTo>
                          <a:pt x="616" y="438"/>
                        </a:lnTo>
                        <a:lnTo>
                          <a:pt x="631" y="494"/>
                        </a:lnTo>
                        <a:lnTo>
                          <a:pt x="631" y="535"/>
                        </a:lnTo>
                        <a:lnTo>
                          <a:pt x="655" y="494"/>
                        </a:lnTo>
                        <a:lnTo>
                          <a:pt x="647" y="430"/>
                        </a:lnTo>
                        <a:lnTo>
                          <a:pt x="663" y="374"/>
                        </a:lnTo>
                        <a:lnTo>
                          <a:pt x="678" y="463"/>
                        </a:lnTo>
                        <a:lnTo>
                          <a:pt x="678" y="510"/>
                        </a:lnTo>
                        <a:lnTo>
                          <a:pt x="696" y="486"/>
                        </a:lnTo>
                        <a:lnTo>
                          <a:pt x="702" y="415"/>
                        </a:lnTo>
                        <a:lnTo>
                          <a:pt x="702" y="326"/>
                        </a:lnTo>
                        <a:lnTo>
                          <a:pt x="702" y="262"/>
                        </a:lnTo>
                        <a:lnTo>
                          <a:pt x="725" y="318"/>
                        </a:lnTo>
                        <a:lnTo>
                          <a:pt x="719" y="374"/>
                        </a:lnTo>
                        <a:lnTo>
                          <a:pt x="743" y="382"/>
                        </a:lnTo>
                        <a:lnTo>
                          <a:pt x="750" y="326"/>
                        </a:lnTo>
                        <a:lnTo>
                          <a:pt x="743" y="232"/>
                        </a:lnTo>
                        <a:lnTo>
                          <a:pt x="710" y="142"/>
                        </a:lnTo>
                        <a:lnTo>
                          <a:pt x="702" y="88"/>
                        </a:lnTo>
                        <a:lnTo>
                          <a:pt x="702" y="0"/>
                        </a:lnTo>
                        <a:lnTo>
                          <a:pt x="600" y="103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41"/>
                  <p:cNvSpPr/>
                  <p:nvPr/>
                </p:nvSpPr>
                <p:spPr>
                  <a:xfrm>
                    <a:off x="5068800" y="5299920"/>
                    <a:ext cx="509760" cy="515520"/>
                  </a:xfrm>
                  <a:custGeom>
                    <a:avLst/>
                    <a:gdLst>
                      <a:gd name="textAreaLeft" fmla="*/ 0 w 509760"/>
                      <a:gd name="textAreaRight" fmla="*/ 510120 w 509760"/>
                      <a:gd name="textAreaTop" fmla="*/ 0 h 515520"/>
                      <a:gd name="textAreaBottom" fmla="*/ 515880 h 515520"/>
                    </a:gdLst>
                    <a:ahLst/>
                    <a:rect l="textAreaLeft" t="textAreaTop" r="textAreaRight" b="textAreaBottom"/>
                    <a:pathLst>
                      <a:path w="963" h="735">
                        <a:moveTo>
                          <a:pt x="770" y="112"/>
                        </a:moveTo>
                        <a:lnTo>
                          <a:pt x="699" y="209"/>
                        </a:lnTo>
                        <a:lnTo>
                          <a:pt x="618" y="296"/>
                        </a:lnTo>
                        <a:lnTo>
                          <a:pt x="487" y="384"/>
                        </a:lnTo>
                        <a:lnTo>
                          <a:pt x="354" y="453"/>
                        </a:lnTo>
                        <a:lnTo>
                          <a:pt x="171" y="523"/>
                        </a:lnTo>
                        <a:lnTo>
                          <a:pt x="0" y="550"/>
                        </a:lnTo>
                        <a:lnTo>
                          <a:pt x="8" y="568"/>
                        </a:lnTo>
                        <a:lnTo>
                          <a:pt x="162" y="560"/>
                        </a:lnTo>
                        <a:lnTo>
                          <a:pt x="100" y="611"/>
                        </a:lnTo>
                        <a:lnTo>
                          <a:pt x="39" y="647"/>
                        </a:lnTo>
                        <a:lnTo>
                          <a:pt x="121" y="629"/>
                        </a:lnTo>
                        <a:lnTo>
                          <a:pt x="201" y="568"/>
                        </a:lnTo>
                        <a:lnTo>
                          <a:pt x="193" y="621"/>
                        </a:lnTo>
                        <a:lnTo>
                          <a:pt x="132" y="672"/>
                        </a:lnTo>
                        <a:lnTo>
                          <a:pt x="61" y="726"/>
                        </a:lnTo>
                        <a:lnTo>
                          <a:pt x="100" y="726"/>
                        </a:lnTo>
                        <a:lnTo>
                          <a:pt x="201" y="654"/>
                        </a:lnTo>
                        <a:lnTo>
                          <a:pt x="253" y="594"/>
                        </a:lnTo>
                        <a:lnTo>
                          <a:pt x="222" y="672"/>
                        </a:lnTo>
                        <a:lnTo>
                          <a:pt x="151" y="735"/>
                        </a:lnTo>
                        <a:lnTo>
                          <a:pt x="253" y="682"/>
                        </a:lnTo>
                        <a:lnTo>
                          <a:pt x="303" y="621"/>
                        </a:lnTo>
                        <a:lnTo>
                          <a:pt x="314" y="647"/>
                        </a:lnTo>
                        <a:lnTo>
                          <a:pt x="303" y="699"/>
                        </a:lnTo>
                        <a:lnTo>
                          <a:pt x="334" y="699"/>
                        </a:lnTo>
                        <a:lnTo>
                          <a:pt x="374" y="638"/>
                        </a:lnTo>
                        <a:lnTo>
                          <a:pt x="404" y="629"/>
                        </a:lnTo>
                        <a:lnTo>
                          <a:pt x="396" y="682"/>
                        </a:lnTo>
                        <a:lnTo>
                          <a:pt x="374" y="708"/>
                        </a:lnTo>
                        <a:lnTo>
                          <a:pt x="415" y="708"/>
                        </a:lnTo>
                        <a:lnTo>
                          <a:pt x="457" y="647"/>
                        </a:lnTo>
                        <a:lnTo>
                          <a:pt x="498" y="594"/>
                        </a:lnTo>
                        <a:lnTo>
                          <a:pt x="487" y="647"/>
                        </a:lnTo>
                        <a:lnTo>
                          <a:pt x="457" y="682"/>
                        </a:lnTo>
                        <a:lnTo>
                          <a:pt x="517" y="654"/>
                        </a:lnTo>
                        <a:lnTo>
                          <a:pt x="567" y="533"/>
                        </a:lnTo>
                        <a:lnTo>
                          <a:pt x="578" y="577"/>
                        </a:lnTo>
                        <a:lnTo>
                          <a:pt x="557" y="629"/>
                        </a:lnTo>
                        <a:lnTo>
                          <a:pt x="537" y="665"/>
                        </a:lnTo>
                        <a:lnTo>
                          <a:pt x="567" y="682"/>
                        </a:lnTo>
                        <a:lnTo>
                          <a:pt x="607" y="629"/>
                        </a:lnTo>
                        <a:lnTo>
                          <a:pt x="629" y="577"/>
                        </a:lnTo>
                        <a:lnTo>
                          <a:pt x="638" y="621"/>
                        </a:lnTo>
                        <a:lnTo>
                          <a:pt x="618" y="647"/>
                        </a:lnTo>
                        <a:lnTo>
                          <a:pt x="638" y="665"/>
                        </a:lnTo>
                        <a:lnTo>
                          <a:pt x="660" y="621"/>
                        </a:lnTo>
                        <a:lnTo>
                          <a:pt x="691" y="577"/>
                        </a:lnTo>
                        <a:lnTo>
                          <a:pt x="741" y="489"/>
                        </a:lnTo>
                        <a:lnTo>
                          <a:pt x="750" y="516"/>
                        </a:lnTo>
                        <a:lnTo>
                          <a:pt x="741" y="577"/>
                        </a:lnTo>
                        <a:lnTo>
                          <a:pt x="720" y="638"/>
                        </a:lnTo>
                        <a:lnTo>
                          <a:pt x="750" y="638"/>
                        </a:lnTo>
                        <a:lnTo>
                          <a:pt x="770" y="568"/>
                        </a:lnTo>
                        <a:lnTo>
                          <a:pt x="792" y="480"/>
                        </a:lnTo>
                        <a:lnTo>
                          <a:pt x="811" y="541"/>
                        </a:lnTo>
                        <a:lnTo>
                          <a:pt x="811" y="584"/>
                        </a:lnTo>
                        <a:lnTo>
                          <a:pt x="842" y="541"/>
                        </a:lnTo>
                        <a:lnTo>
                          <a:pt x="831" y="472"/>
                        </a:lnTo>
                        <a:lnTo>
                          <a:pt x="852" y="410"/>
                        </a:lnTo>
                        <a:lnTo>
                          <a:pt x="873" y="507"/>
                        </a:lnTo>
                        <a:lnTo>
                          <a:pt x="873" y="560"/>
                        </a:lnTo>
                        <a:lnTo>
                          <a:pt x="894" y="533"/>
                        </a:lnTo>
                        <a:lnTo>
                          <a:pt x="902" y="453"/>
                        </a:lnTo>
                        <a:lnTo>
                          <a:pt x="902" y="358"/>
                        </a:lnTo>
                        <a:lnTo>
                          <a:pt x="902" y="288"/>
                        </a:lnTo>
                        <a:lnTo>
                          <a:pt x="933" y="349"/>
                        </a:lnTo>
                        <a:lnTo>
                          <a:pt x="924" y="410"/>
                        </a:lnTo>
                        <a:lnTo>
                          <a:pt x="953" y="419"/>
                        </a:lnTo>
                        <a:lnTo>
                          <a:pt x="963" y="358"/>
                        </a:lnTo>
                        <a:lnTo>
                          <a:pt x="953" y="253"/>
                        </a:lnTo>
                        <a:lnTo>
                          <a:pt x="913" y="156"/>
                        </a:lnTo>
                        <a:lnTo>
                          <a:pt x="902" y="95"/>
                        </a:lnTo>
                        <a:lnTo>
                          <a:pt x="902" y="0"/>
                        </a:lnTo>
                        <a:lnTo>
                          <a:pt x="770" y="112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Freeform 42"/>
                  <p:cNvSpPr/>
                  <p:nvPr/>
                </p:nvSpPr>
                <p:spPr>
                  <a:xfrm>
                    <a:off x="4964040" y="5547240"/>
                    <a:ext cx="600120" cy="586080"/>
                  </a:xfrm>
                  <a:custGeom>
                    <a:avLst/>
                    <a:gdLst>
                      <a:gd name="textAreaLeft" fmla="*/ 0 w 600120"/>
                      <a:gd name="textAreaRight" fmla="*/ 600480 w 600120"/>
                      <a:gd name="textAreaTop" fmla="*/ 0 h 586080"/>
                      <a:gd name="textAreaBottom" fmla="*/ 586440 h 586080"/>
                    </a:gdLst>
                    <a:ahLst/>
                    <a:rect l="textAreaLeft" t="textAreaTop" r="textAreaRight" b="textAreaBottom"/>
                    <a:pathLst>
                      <a:path w="1134" h="834">
                        <a:moveTo>
                          <a:pt x="1036" y="63"/>
                        </a:moveTo>
                        <a:lnTo>
                          <a:pt x="886" y="218"/>
                        </a:lnTo>
                        <a:lnTo>
                          <a:pt x="638" y="358"/>
                        </a:lnTo>
                        <a:lnTo>
                          <a:pt x="467" y="413"/>
                        </a:lnTo>
                        <a:lnTo>
                          <a:pt x="333" y="445"/>
                        </a:lnTo>
                        <a:lnTo>
                          <a:pt x="120" y="483"/>
                        </a:lnTo>
                        <a:lnTo>
                          <a:pt x="57" y="507"/>
                        </a:lnTo>
                        <a:lnTo>
                          <a:pt x="70" y="515"/>
                        </a:lnTo>
                        <a:lnTo>
                          <a:pt x="191" y="507"/>
                        </a:lnTo>
                        <a:lnTo>
                          <a:pt x="155" y="562"/>
                        </a:lnTo>
                        <a:lnTo>
                          <a:pt x="92" y="624"/>
                        </a:lnTo>
                        <a:lnTo>
                          <a:pt x="0" y="655"/>
                        </a:lnTo>
                        <a:lnTo>
                          <a:pt x="64" y="655"/>
                        </a:lnTo>
                        <a:lnTo>
                          <a:pt x="177" y="600"/>
                        </a:lnTo>
                        <a:lnTo>
                          <a:pt x="142" y="655"/>
                        </a:lnTo>
                        <a:lnTo>
                          <a:pt x="99" y="702"/>
                        </a:lnTo>
                        <a:lnTo>
                          <a:pt x="35" y="749"/>
                        </a:lnTo>
                        <a:lnTo>
                          <a:pt x="78" y="757"/>
                        </a:lnTo>
                        <a:lnTo>
                          <a:pt x="198" y="655"/>
                        </a:lnTo>
                        <a:lnTo>
                          <a:pt x="248" y="600"/>
                        </a:lnTo>
                        <a:lnTo>
                          <a:pt x="205" y="717"/>
                        </a:lnTo>
                        <a:lnTo>
                          <a:pt x="170" y="787"/>
                        </a:lnTo>
                        <a:lnTo>
                          <a:pt x="135" y="834"/>
                        </a:lnTo>
                        <a:lnTo>
                          <a:pt x="170" y="834"/>
                        </a:lnTo>
                        <a:lnTo>
                          <a:pt x="220" y="733"/>
                        </a:lnTo>
                        <a:lnTo>
                          <a:pt x="304" y="608"/>
                        </a:lnTo>
                        <a:lnTo>
                          <a:pt x="319" y="687"/>
                        </a:lnTo>
                        <a:lnTo>
                          <a:pt x="304" y="749"/>
                        </a:lnTo>
                        <a:lnTo>
                          <a:pt x="283" y="810"/>
                        </a:lnTo>
                        <a:lnTo>
                          <a:pt x="333" y="764"/>
                        </a:lnTo>
                        <a:lnTo>
                          <a:pt x="348" y="694"/>
                        </a:lnTo>
                        <a:lnTo>
                          <a:pt x="354" y="592"/>
                        </a:lnTo>
                        <a:lnTo>
                          <a:pt x="383" y="647"/>
                        </a:lnTo>
                        <a:lnTo>
                          <a:pt x="376" y="764"/>
                        </a:lnTo>
                        <a:lnTo>
                          <a:pt x="361" y="827"/>
                        </a:lnTo>
                        <a:lnTo>
                          <a:pt x="404" y="772"/>
                        </a:lnTo>
                        <a:lnTo>
                          <a:pt x="411" y="702"/>
                        </a:lnTo>
                        <a:lnTo>
                          <a:pt x="426" y="787"/>
                        </a:lnTo>
                        <a:lnTo>
                          <a:pt x="446" y="702"/>
                        </a:lnTo>
                        <a:lnTo>
                          <a:pt x="489" y="592"/>
                        </a:lnTo>
                        <a:lnTo>
                          <a:pt x="504" y="647"/>
                        </a:lnTo>
                        <a:lnTo>
                          <a:pt x="489" y="749"/>
                        </a:lnTo>
                        <a:lnTo>
                          <a:pt x="454" y="803"/>
                        </a:lnTo>
                        <a:lnTo>
                          <a:pt x="524" y="740"/>
                        </a:lnTo>
                        <a:lnTo>
                          <a:pt x="532" y="647"/>
                        </a:lnTo>
                        <a:lnTo>
                          <a:pt x="560" y="530"/>
                        </a:lnTo>
                        <a:lnTo>
                          <a:pt x="567" y="615"/>
                        </a:lnTo>
                        <a:lnTo>
                          <a:pt x="560" y="749"/>
                        </a:lnTo>
                        <a:lnTo>
                          <a:pt x="524" y="810"/>
                        </a:lnTo>
                        <a:lnTo>
                          <a:pt x="589" y="764"/>
                        </a:lnTo>
                        <a:lnTo>
                          <a:pt x="624" y="624"/>
                        </a:lnTo>
                        <a:lnTo>
                          <a:pt x="624" y="687"/>
                        </a:lnTo>
                        <a:lnTo>
                          <a:pt x="617" y="740"/>
                        </a:lnTo>
                        <a:lnTo>
                          <a:pt x="659" y="710"/>
                        </a:lnTo>
                        <a:lnTo>
                          <a:pt x="659" y="678"/>
                        </a:lnTo>
                        <a:lnTo>
                          <a:pt x="723" y="570"/>
                        </a:lnTo>
                        <a:lnTo>
                          <a:pt x="808" y="499"/>
                        </a:lnTo>
                        <a:lnTo>
                          <a:pt x="786" y="570"/>
                        </a:lnTo>
                        <a:lnTo>
                          <a:pt x="765" y="600"/>
                        </a:lnTo>
                        <a:lnTo>
                          <a:pt x="808" y="600"/>
                        </a:lnTo>
                        <a:lnTo>
                          <a:pt x="830" y="522"/>
                        </a:lnTo>
                        <a:lnTo>
                          <a:pt x="858" y="483"/>
                        </a:lnTo>
                        <a:lnTo>
                          <a:pt x="929" y="382"/>
                        </a:lnTo>
                        <a:lnTo>
                          <a:pt x="900" y="460"/>
                        </a:lnTo>
                        <a:lnTo>
                          <a:pt x="893" y="515"/>
                        </a:lnTo>
                        <a:lnTo>
                          <a:pt x="858" y="553"/>
                        </a:lnTo>
                        <a:lnTo>
                          <a:pt x="893" y="562"/>
                        </a:lnTo>
                        <a:lnTo>
                          <a:pt x="943" y="468"/>
                        </a:lnTo>
                        <a:lnTo>
                          <a:pt x="978" y="390"/>
                        </a:lnTo>
                        <a:lnTo>
                          <a:pt x="1021" y="320"/>
                        </a:lnTo>
                        <a:lnTo>
                          <a:pt x="1006" y="405"/>
                        </a:lnTo>
                        <a:lnTo>
                          <a:pt x="986" y="460"/>
                        </a:lnTo>
                        <a:lnTo>
                          <a:pt x="1036" y="437"/>
                        </a:lnTo>
                        <a:lnTo>
                          <a:pt x="1049" y="303"/>
                        </a:lnTo>
                        <a:lnTo>
                          <a:pt x="1071" y="390"/>
                        </a:lnTo>
                        <a:lnTo>
                          <a:pt x="1099" y="250"/>
                        </a:lnTo>
                        <a:lnTo>
                          <a:pt x="1134" y="241"/>
                        </a:lnTo>
                        <a:lnTo>
                          <a:pt x="1084" y="187"/>
                        </a:lnTo>
                        <a:lnTo>
                          <a:pt x="1120" y="0"/>
                        </a:lnTo>
                        <a:lnTo>
                          <a:pt x="1036" y="63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Freeform 43"/>
                  <p:cNvSpPr/>
                  <p:nvPr/>
                </p:nvSpPr>
                <p:spPr>
                  <a:xfrm>
                    <a:off x="4917960" y="5759640"/>
                    <a:ext cx="625680" cy="612720"/>
                  </a:xfrm>
                  <a:custGeom>
                    <a:avLst/>
                    <a:gdLst>
                      <a:gd name="textAreaLeft" fmla="*/ 0 w 625680"/>
                      <a:gd name="textAreaRight" fmla="*/ 626040 w 625680"/>
                      <a:gd name="textAreaTop" fmla="*/ 0 h 612720"/>
                      <a:gd name="textAreaBottom" fmla="*/ 613080 h 612720"/>
                    </a:gdLst>
                    <a:ahLst/>
                    <a:rect l="textAreaLeft" t="textAreaTop" r="textAreaRight" b="textAreaBottom"/>
                    <a:pathLst>
                      <a:path w="1183" h="873">
                        <a:moveTo>
                          <a:pt x="1081" y="67"/>
                        </a:moveTo>
                        <a:lnTo>
                          <a:pt x="925" y="228"/>
                        </a:lnTo>
                        <a:lnTo>
                          <a:pt x="666" y="375"/>
                        </a:lnTo>
                        <a:lnTo>
                          <a:pt x="489" y="432"/>
                        </a:lnTo>
                        <a:lnTo>
                          <a:pt x="347" y="465"/>
                        </a:lnTo>
                        <a:lnTo>
                          <a:pt x="125" y="506"/>
                        </a:lnTo>
                        <a:lnTo>
                          <a:pt x="59" y="531"/>
                        </a:lnTo>
                        <a:lnTo>
                          <a:pt x="74" y="539"/>
                        </a:lnTo>
                        <a:lnTo>
                          <a:pt x="201" y="531"/>
                        </a:lnTo>
                        <a:lnTo>
                          <a:pt x="163" y="589"/>
                        </a:lnTo>
                        <a:lnTo>
                          <a:pt x="97" y="654"/>
                        </a:lnTo>
                        <a:lnTo>
                          <a:pt x="0" y="685"/>
                        </a:lnTo>
                        <a:lnTo>
                          <a:pt x="67" y="685"/>
                        </a:lnTo>
                        <a:lnTo>
                          <a:pt x="185" y="628"/>
                        </a:lnTo>
                        <a:lnTo>
                          <a:pt x="148" y="685"/>
                        </a:lnTo>
                        <a:lnTo>
                          <a:pt x="104" y="735"/>
                        </a:lnTo>
                        <a:lnTo>
                          <a:pt x="38" y="784"/>
                        </a:lnTo>
                        <a:lnTo>
                          <a:pt x="81" y="792"/>
                        </a:lnTo>
                        <a:lnTo>
                          <a:pt x="207" y="685"/>
                        </a:lnTo>
                        <a:lnTo>
                          <a:pt x="260" y="628"/>
                        </a:lnTo>
                        <a:lnTo>
                          <a:pt x="214" y="750"/>
                        </a:lnTo>
                        <a:lnTo>
                          <a:pt x="178" y="826"/>
                        </a:lnTo>
                        <a:lnTo>
                          <a:pt x="140" y="873"/>
                        </a:lnTo>
                        <a:lnTo>
                          <a:pt x="178" y="873"/>
                        </a:lnTo>
                        <a:lnTo>
                          <a:pt x="230" y="768"/>
                        </a:lnTo>
                        <a:lnTo>
                          <a:pt x="319" y="637"/>
                        </a:lnTo>
                        <a:lnTo>
                          <a:pt x="333" y="719"/>
                        </a:lnTo>
                        <a:lnTo>
                          <a:pt x="319" y="784"/>
                        </a:lnTo>
                        <a:lnTo>
                          <a:pt x="296" y="850"/>
                        </a:lnTo>
                        <a:lnTo>
                          <a:pt x="347" y="800"/>
                        </a:lnTo>
                        <a:lnTo>
                          <a:pt x="362" y="726"/>
                        </a:lnTo>
                        <a:lnTo>
                          <a:pt x="370" y="621"/>
                        </a:lnTo>
                        <a:lnTo>
                          <a:pt x="400" y="678"/>
                        </a:lnTo>
                        <a:lnTo>
                          <a:pt x="392" y="800"/>
                        </a:lnTo>
                        <a:lnTo>
                          <a:pt x="377" y="865"/>
                        </a:lnTo>
                        <a:lnTo>
                          <a:pt x="421" y="808"/>
                        </a:lnTo>
                        <a:lnTo>
                          <a:pt x="430" y="735"/>
                        </a:lnTo>
                        <a:lnTo>
                          <a:pt x="444" y="826"/>
                        </a:lnTo>
                        <a:lnTo>
                          <a:pt x="466" y="735"/>
                        </a:lnTo>
                        <a:lnTo>
                          <a:pt x="512" y="621"/>
                        </a:lnTo>
                        <a:lnTo>
                          <a:pt x="525" y="678"/>
                        </a:lnTo>
                        <a:lnTo>
                          <a:pt x="512" y="784"/>
                        </a:lnTo>
                        <a:lnTo>
                          <a:pt x="474" y="841"/>
                        </a:lnTo>
                        <a:lnTo>
                          <a:pt x="548" y="776"/>
                        </a:lnTo>
                        <a:lnTo>
                          <a:pt x="555" y="678"/>
                        </a:lnTo>
                        <a:lnTo>
                          <a:pt x="584" y="556"/>
                        </a:lnTo>
                        <a:lnTo>
                          <a:pt x="591" y="646"/>
                        </a:lnTo>
                        <a:lnTo>
                          <a:pt x="584" y="784"/>
                        </a:lnTo>
                        <a:lnTo>
                          <a:pt x="548" y="850"/>
                        </a:lnTo>
                        <a:lnTo>
                          <a:pt x="614" y="800"/>
                        </a:lnTo>
                        <a:lnTo>
                          <a:pt x="652" y="654"/>
                        </a:lnTo>
                        <a:lnTo>
                          <a:pt x="652" y="719"/>
                        </a:lnTo>
                        <a:lnTo>
                          <a:pt x="644" y="776"/>
                        </a:lnTo>
                        <a:lnTo>
                          <a:pt x="688" y="743"/>
                        </a:lnTo>
                        <a:lnTo>
                          <a:pt x="688" y="711"/>
                        </a:lnTo>
                        <a:lnTo>
                          <a:pt x="754" y="596"/>
                        </a:lnTo>
                        <a:lnTo>
                          <a:pt x="843" y="522"/>
                        </a:lnTo>
                        <a:lnTo>
                          <a:pt x="821" y="596"/>
                        </a:lnTo>
                        <a:lnTo>
                          <a:pt x="800" y="628"/>
                        </a:lnTo>
                        <a:lnTo>
                          <a:pt x="843" y="628"/>
                        </a:lnTo>
                        <a:lnTo>
                          <a:pt x="866" y="547"/>
                        </a:lnTo>
                        <a:lnTo>
                          <a:pt x="895" y="506"/>
                        </a:lnTo>
                        <a:lnTo>
                          <a:pt x="969" y="400"/>
                        </a:lnTo>
                        <a:lnTo>
                          <a:pt x="940" y="482"/>
                        </a:lnTo>
                        <a:lnTo>
                          <a:pt x="933" y="539"/>
                        </a:lnTo>
                        <a:lnTo>
                          <a:pt x="895" y="580"/>
                        </a:lnTo>
                        <a:lnTo>
                          <a:pt x="933" y="589"/>
                        </a:lnTo>
                        <a:lnTo>
                          <a:pt x="984" y="489"/>
                        </a:lnTo>
                        <a:lnTo>
                          <a:pt x="1022" y="409"/>
                        </a:lnTo>
                        <a:lnTo>
                          <a:pt x="1065" y="335"/>
                        </a:lnTo>
                        <a:lnTo>
                          <a:pt x="1052" y="424"/>
                        </a:lnTo>
                        <a:lnTo>
                          <a:pt x="1029" y="482"/>
                        </a:lnTo>
                        <a:lnTo>
                          <a:pt x="1081" y="458"/>
                        </a:lnTo>
                        <a:lnTo>
                          <a:pt x="1095" y="317"/>
                        </a:lnTo>
                        <a:lnTo>
                          <a:pt x="1117" y="409"/>
                        </a:lnTo>
                        <a:lnTo>
                          <a:pt x="1147" y="261"/>
                        </a:lnTo>
                        <a:lnTo>
                          <a:pt x="1183" y="253"/>
                        </a:lnTo>
                        <a:lnTo>
                          <a:pt x="1132" y="196"/>
                        </a:lnTo>
                        <a:lnTo>
                          <a:pt x="1170" y="0"/>
                        </a:lnTo>
                        <a:lnTo>
                          <a:pt x="1081" y="67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Freeform 44"/>
                  <p:cNvSpPr/>
                  <p:nvPr/>
                </p:nvSpPr>
                <p:spPr>
                  <a:xfrm>
                    <a:off x="4876920" y="5986080"/>
                    <a:ext cx="666720" cy="578880"/>
                  </a:xfrm>
                  <a:custGeom>
                    <a:avLst/>
                    <a:gdLst>
                      <a:gd name="textAreaLeft" fmla="*/ 0 w 666720"/>
                      <a:gd name="textAreaRight" fmla="*/ 666720 w 666720"/>
                      <a:gd name="textAreaTop" fmla="*/ 0 h 578880"/>
                      <a:gd name="textAreaBottom" fmla="*/ 579240 h 578880"/>
                    </a:gdLst>
                    <a:ahLst/>
                    <a:rect l="textAreaLeft" t="textAreaTop" r="textAreaRight" b="textAreaBottom"/>
                    <a:pathLst>
                      <a:path w="1259" h="826">
                        <a:moveTo>
                          <a:pt x="1007" y="126"/>
                        </a:moveTo>
                        <a:lnTo>
                          <a:pt x="914" y="235"/>
                        </a:lnTo>
                        <a:lnTo>
                          <a:pt x="809" y="333"/>
                        </a:lnTo>
                        <a:lnTo>
                          <a:pt x="637" y="432"/>
                        </a:lnTo>
                        <a:lnTo>
                          <a:pt x="463" y="511"/>
                        </a:lnTo>
                        <a:lnTo>
                          <a:pt x="222" y="590"/>
                        </a:lnTo>
                        <a:lnTo>
                          <a:pt x="0" y="618"/>
                        </a:lnTo>
                        <a:lnTo>
                          <a:pt x="11" y="640"/>
                        </a:lnTo>
                        <a:lnTo>
                          <a:pt x="212" y="631"/>
                        </a:lnTo>
                        <a:lnTo>
                          <a:pt x="130" y="687"/>
                        </a:lnTo>
                        <a:lnTo>
                          <a:pt x="50" y="727"/>
                        </a:lnTo>
                        <a:lnTo>
                          <a:pt x="158" y="708"/>
                        </a:lnTo>
                        <a:lnTo>
                          <a:pt x="263" y="640"/>
                        </a:lnTo>
                        <a:lnTo>
                          <a:pt x="251" y="699"/>
                        </a:lnTo>
                        <a:lnTo>
                          <a:pt x="173" y="755"/>
                        </a:lnTo>
                        <a:lnTo>
                          <a:pt x="78" y="815"/>
                        </a:lnTo>
                        <a:lnTo>
                          <a:pt x="130" y="815"/>
                        </a:lnTo>
                        <a:lnTo>
                          <a:pt x="263" y="738"/>
                        </a:lnTo>
                        <a:lnTo>
                          <a:pt x="330" y="668"/>
                        </a:lnTo>
                        <a:lnTo>
                          <a:pt x="291" y="755"/>
                        </a:lnTo>
                        <a:lnTo>
                          <a:pt x="198" y="826"/>
                        </a:lnTo>
                        <a:lnTo>
                          <a:pt x="330" y="768"/>
                        </a:lnTo>
                        <a:lnTo>
                          <a:pt x="396" y="699"/>
                        </a:lnTo>
                        <a:lnTo>
                          <a:pt x="410" y="727"/>
                        </a:lnTo>
                        <a:lnTo>
                          <a:pt x="396" y="787"/>
                        </a:lnTo>
                        <a:lnTo>
                          <a:pt x="435" y="787"/>
                        </a:lnTo>
                        <a:lnTo>
                          <a:pt x="490" y="719"/>
                        </a:lnTo>
                        <a:lnTo>
                          <a:pt x="529" y="708"/>
                        </a:lnTo>
                        <a:lnTo>
                          <a:pt x="517" y="768"/>
                        </a:lnTo>
                        <a:lnTo>
                          <a:pt x="490" y="796"/>
                        </a:lnTo>
                        <a:lnTo>
                          <a:pt x="543" y="796"/>
                        </a:lnTo>
                        <a:lnTo>
                          <a:pt x="597" y="727"/>
                        </a:lnTo>
                        <a:lnTo>
                          <a:pt x="651" y="668"/>
                        </a:lnTo>
                        <a:lnTo>
                          <a:pt x="637" y="727"/>
                        </a:lnTo>
                        <a:lnTo>
                          <a:pt x="597" y="768"/>
                        </a:lnTo>
                        <a:lnTo>
                          <a:pt x="676" y="738"/>
                        </a:lnTo>
                        <a:lnTo>
                          <a:pt x="742" y="599"/>
                        </a:lnTo>
                        <a:lnTo>
                          <a:pt x="756" y="650"/>
                        </a:lnTo>
                        <a:lnTo>
                          <a:pt x="730" y="708"/>
                        </a:lnTo>
                        <a:lnTo>
                          <a:pt x="702" y="747"/>
                        </a:lnTo>
                        <a:lnTo>
                          <a:pt x="742" y="768"/>
                        </a:lnTo>
                        <a:lnTo>
                          <a:pt x="795" y="708"/>
                        </a:lnTo>
                        <a:lnTo>
                          <a:pt x="823" y="650"/>
                        </a:lnTo>
                        <a:lnTo>
                          <a:pt x="835" y="699"/>
                        </a:lnTo>
                        <a:lnTo>
                          <a:pt x="809" y="727"/>
                        </a:lnTo>
                        <a:lnTo>
                          <a:pt x="835" y="747"/>
                        </a:lnTo>
                        <a:lnTo>
                          <a:pt x="862" y="699"/>
                        </a:lnTo>
                        <a:lnTo>
                          <a:pt x="902" y="650"/>
                        </a:lnTo>
                        <a:lnTo>
                          <a:pt x="967" y="549"/>
                        </a:lnTo>
                        <a:lnTo>
                          <a:pt x="982" y="581"/>
                        </a:lnTo>
                        <a:lnTo>
                          <a:pt x="967" y="650"/>
                        </a:lnTo>
                        <a:lnTo>
                          <a:pt x="943" y="719"/>
                        </a:lnTo>
                        <a:lnTo>
                          <a:pt x="982" y="719"/>
                        </a:lnTo>
                        <a:lnTo>
                          <a:pt x="1007" y="640"/>
                        </a:lnTo>
                        <a:lnTo>
                          <a:pt x="1036" y="540"/>
                        </a:lnTo>
                        <a:lnTo>
                          <a:pt x="1061" y="609"/>
                        </a:lnTo>
                        <a:lnTo>
                          <a:pt x="1061" y="659"/>
                        </a:lnTo>
                        <a:lnTo>
                          <a:pt x="1102" y="609"/>
                        </a:lnTo>
                        <a:lnTo>
                          <a:pt x="1087" y="530"/>
                        </a:lnTo>
                        <a:lnTo>
                          <a:pt x="1115" y="461"/>
                        </a:lnTo>
                        <a:lnTo>
                          <a:pt x="1141" y="571"/>
                        </a:lnTo>
                        <a:lnTo>
                          <a:pt x="1141" y="631"/>
                        </a:lnTo>
                        <a:lnTo>
                          <a:pt x="1169" y="599"/>
                        </a:lnTo>
                        <a:lnTo>
                          <a:pt x="1180" y="511"/>
                        </a:lnTo>
                        <a:lnTo>
                          <a:pt x="1180" y="401"/>
                        </a:lnTo>
                        <a:lnTo>
                          <a:pt x="1180" y="324"/>
                        </a:lnTo>
                        <a:lnTo>
                          <a:pt x="1220" y="393"/>
                        </a:lnTo>
                        <a:lnTo>
                          <a:pt x="1208" y="461"/>
                        </a:lnTo>
                        <a:lnTo>
                          <a:pt x="1247" y="471"/>
                        </a:lnTo>
                        <a:lnTo>
                          <a:pt x="1259" y="401"/>
                        </a:lnTo>
                        <a:lnTo>
                          <a:pt x="1247" y="284"/>
                        </a:lnTo>
                        <a:lnTo>
                          <a:pt x="1194" y="175"/>
                        </a:lnTo>
                        <a:lnTo>
                          <a:pt x="1180" y="106"/>
                        </a:lnTo>
                        <a:lnTo>
                          <a:pt x="1180" y="0"/>
                        </a:lnTo>
                        <a:lnTo>
                          <a:pt x="1007" y="126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45"/>
                  <p:cNvSpPr/>
                  <p:nvPr/>
                </p:nvSpPr>
                <p:spPr>
                  <a:xfrm>
                    <a:off x="5340240" y="4907880"/>
                    <a:ext cx="235080" cy="311760"/>
                  </a:xfrm>
                  <a:custGeom>
                    <a:avLst/>
                    <a:gdLst>
                      <a:gd name="textAreaLeft" fmla="*/ 0 w 235080"/>
                      <a:gd name="textAreaRight" fmla="*/ 235440 w 235080"/>
                      <a:gd name="textAreaTop" fmla="*/ 0 h 311760"/>
                      <a:gd name="textAreaBottom" fmla="*/ 312120 h 311760"/>
                    </a:gdLst>
                    <a:ahLst/>
                    <a:rect l="textAreaLeft" t="textAreaTop" r="textAreaRight" b="textAreaBottom"/>
                    <a:pathLst>
                      <a:path w="443" h="444">
                        <a:moveTo>
                          <a:pt x="443" y="0"/>
                        </a:moveTo>
                        <a:lnTo>
                          <a:pt x="398" y="59"/>
                        </a:lnTo>
                        <a:lnTo>
                          <a:pt x="359" y="145"/>
                        </a:lnTo>
                        <a:lnTo>
                          <a:pt x="263" y="261"/>
                        </a:lnTo>
                        <a:lnTo>
                          <a:pt x="170" y="316"/>
                        </a:lnTo>
                        <a:lnTo>
                          <a:pt x="68" y="399"/>
                        </a:lnTo>
                        <a:lnTo>
                          <a:pt x="0" y="422"/>
                        </a:lnTo>
                        <a:lnTo>
                          <a:pt x="39" y="422"/>
                        </a:lnTo>
                        <a:lnTo>
                          <a:pt x="131" y="382"/>
                        </a:lnTo>
                        <a:lnTo>
                          <a:pt x="107" y="444"/>
                        </a:lnTo>
                        <a:lnTo>
                          <a:pt x="163" y="351"/>
                        </a:lnTo>
                        <a:lnTo>
                          <a:pt x="196" y="340"/>
                        </a:lnTo>
                        <a:lnTo>
                          <a:pt x="181" y="390"/>
                        </a:lnTo>
                        <a:lnTo>
                          <a:pt x="231" y="312"/>
                        </a:lnTo>
                        <a:lnTo>
                          <a:pt x="302" y="242"/>
                        </a:lnTo>
                        <a:lnTo>
                          <a:pt x="291" y="297"/>
                        </a:lnTo>
                        <a:lnTo>
                          <a:pt x="341" y="195"/>
                        </a:lnTo>
                        <a:lnTo>
                          <a:pt x="344" y="234"/>
                        </a:lnTo>
                        <a:lnTo>
                          <a:pt x="365" y="160"/>
                        </a:lnTo>
                        <a:lnTo>
                          <a:pt x="415" y="83"/>
                        </a:lnTo>
                        <a:lnTo>
                          <a:pt x="443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Freeform 46"/>
                  <p:cNvSpPr/>
                  <p:nvPr/>
                </p:nvSpPr>
                <p:spPr>
                  <a:xfrm>
                    <a:off x="5265720" y="5256360"/>
                    <a:ext cx="204840" cy="199800"/>
                  </a:xfrm>
                  <a:custGeom>
                    <a:avLst/>
                    <a:gdLst>
                      <a:gd name="textAreaLeft" fmla="*/ 0 w 204840"/>
                      <a:gd name="textAreaRight" fmla="*/ 205200 w 20484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86" h="286">
                        <a:moveTo>
                          <a:pt x="386" y="0"/>
                        </a:moveTo>
                        <a:lnTo>
                          <a:pt x="311" y="70"/>
                        </a:lnTo>
                        <a:lnTo>
                          <a:pt x="226" y="133"/>
                        </a:lnTo>
                        <a:lnTo>
                          <a:pt x="141" y="176"/>
                        </a:lnTo>
                        <a:lnTo>
                          <a:pt x="49" y="227"/>
                        </a:lnTo>
                        <a:lnTo>
                          <a:pt x="0" y="242"/>
                        </a:lnTo>
                        <a:lnTo>
                          <a:pt x="39" y="242"/>
                        </a:lnTo>
                        <a:lnTo>
                          <a:pt x="20" y="286"/>
                        </a:lnTo>
                        <a:lnTo>
                          <a:pt x="74" y="239"/>
                        </a:lnTo>
                        <a:lnTo>
                          <a:pt x="81" y="269"/>
                        </a:lnTo>
                        <a:lnTo>
                          <a:pt x="131" y="207"/>
                        </a:lnTo>
                        <a:lnTo>
                          <a:pt x="131" y="254"/>
                        </a:lnTo>
                        <a:lnTo>
                          <a:pt x="184" y="176"/>
                        </a:lnTo>
                        <a:lnTo>
                          <a:pt x="226" y="157"/>
                        </a:lnTo>
                        <a:lnTo>
                          <a:pt x="252" y="157"/>
                        </a:lnTo>
                        <a:lnTo>
                          <a:pt x="222" y="219"/>
                        </a:lnTo>
                        <a:lnTo>
                          <a:pt x="265" y="168"/>
                        </a:lnTo>
                        <a:lnTo>
                          <a:pt x="272" y="121"/>
                        </a:lnTo>
                        <a:lnTo>
                          <a:pt x="319" y="86"/>
                        </a:lnTo>
                        <a:lnTo>
                          <a:pt x="386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Freeform 47"/>
                  <p:cNvSpPr/>
                  <p:nvPr/>
                </p:nvSpPr>
                <p:spPr>
                  <a:xfrm>
                    <a:off x="5157720" y="5513400"/>
                    <a:ext cx="241200" cy="199800"/>
                  </a:xfrm>
                  <a:custGeom>
                    <a:avLst/>
                    <a:gdLst>
                      <a:gd name="textAreaLeft" fmla="*/ 0 w 241200"/>
                      <a:gd name="textAreaRight" fmla="*/ 241560 w 24120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455" h="284">
                        <a:moveTo>
                          <a:pt x="455" y="0"/>
                        </a:moveTo>
                        <a:lnTo>
                          <a:pt x="366" y="78"/>
                        </a:lnTo>
                        <a:lnTo>
                          <a:pt x="284" y="125"/>
                        </a:lnTo>
                        <a:lnTo>
                          <a:pt x="171" y="172"/>
                        </a:lnTo>
                        <a:lnTo>
                          <a:pt x="106" y="203"/>
                        </a:lnTo>
                        <a:lnTo>
                          <a:pt x="0" y="231"/>
                        </a:lnTo>
                        <a:lnTo>
                          <a:pt x="60" y="234"/>
                        </a:lnTo>
                        <a:lnTo>
                          <a:pt x="58" y="276"/>
                        </a:lnTo>
                        <a:lnTo>
                          <a:pt x="89" y="214"/>
                        </a:lnTo>
                        <a:lnTo>
                          <a:pt x="106" y="284"/>
                        </a:lnTo>
                        <a:lnTo>
                          <a:pt x="125" y="214"/>
                        </a:lnTo>
                        <a:lnTo>
                          <a:pt x="238" y="164"/>
                        </a:lnTo>
                        <a:lnTo>
                          <a:pt x="238" y="234"/>
                        </a:lnTo>
                        <a:lnTo>
                          <a:pt x="266" y="159"/>
                        </a:lnTo>
                        <a:lnTo>
                          <a:pt x="362" y="106"/>
                        </a:lnTo>
                        <a:lnTo>
                          <a:pt x="455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48"/>
                  <p:cNvSpPr/>
                  <p:nvPr/>
                </p:nvSpPr>
                <p:spPr>
                  <a:xfrm>
                    <a:off x="5051520" y="5800320"/>
                    <a:ext cx="277560" cy="148680"/>
                  </a:xfrm>
                  <a:custGeom>
                    <a:avLst/>
                    <a:gdLst>
                      <a:gd name="textAreaLeft" fmla="*/ 0 w 277560"/>
                      <a:gd name="textAreaRight" fmla="*/ 277920 w 277560"/>
                      <a:gd name="textAreaTop" fmla="*/ 0 h 148680"/>
                      <a:gd name="textAreaBottom" fmla="*/ 149040 h 148680"/>
                    </a:gdLst>
                    <a:ahLst/>
                    <a:rect l="textAreaLeft" t="textAreaTop" r="textAreaRight" b="textAreaBottom"/>
                    <a:pathLst>
                      <a:path w="525" h="211">
                        <a:moveTo>
                          <a:pt x="0" y="125"/>
                        </a:moveTo>
                        <a:lnTo>
                          <a:pt x="167" y="109"/>
                        </a:lnTo>
                        <a:lnTo>
                          <a:pt x="277" y="79"/>
                        </a:lnTo>
                        <a:lnTo>
                          <a:pt x="436" y="20"/>
                        </a:lnTo>
                        <a:lnTo>
                          <a:pt x="525" y="0"/>
                        </a:lnTo>
                        <a:lnTo>
                          <a:pt x="440" y="36"/>
                        </a:lnTo>
                        <a:lnTo>
                          <a:pt x="355" y="66"/>
                        </a:lnTo>
                        <a:lnTo>
                          <a:pt x="344" y="145"/>
                        </a:lnTo>
                        <a:lnTo>
                          <a:pt x="340" y="62"/>
                        </a:lnTo>
                        <a:lnTo>
                          <a:pt x="260" y="102"/>
                        </a:lnTo>
                        <a:lnTo>
                          <a:pt x="241" y="211"/>
                        </a:lnTo>
                        <a:lnTo>
                          <a:pt x="241" y="109"/>
                        </a:lnTo>
                        <a:lnTo>
                          <a:pt x="145" y="129"/>
                        </a:lnTo>
                        <a:lnTo>
                          <a:pt x="106" y="179"/>
                        </a:lnTo>
                        <a:lnTo>
                          <a:pt x="121" y="129"/>
                        </a:lnTo>
                        <a:lnTo>
                          <a:pt x="47" y="183"/>
                        </a:lnTo>
                        <a:lnTo>
                          <a:pt x="78" y="129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Freeform 49"/>
                  <p:cNvSpPr/>
                  <p:nvPr/>
                </p:nvSpPr>
                <p:spPr>
                  <a:xfrm>
                    <a:off x="5008680" y="6004080"/>
                    <a:ext cx="311040" cy="185400"/>
                  </a:xfrm>
                  <a:custGeom>
                    <a:avLst/>
                    <a:gdLst>
                      <a:gd name="textAreaLeft" fmla="*/ 0 w 311040"/>
                      <a:gd name="textAreaRight" fmla="*/ 311400 w 311040"/>
                      <a:gd name="textAreaTop" fmla="*/ 0 h 185400"/>
                      <a:gd name="textAreaBottom" fmla="*/ 185760 h 185400"/>
                    </a:gdLst>
                    <a:ahLst/>
                    <a:rect l="textAreaLeft" t="textAreaTop" r="textAreaRight" b="textAreaBottom"/>
                    <a:pathLst>
                      <a:path w="588" h="265">
                        <a:moveTo>
                          <a:pt x="0" y="164"/>
                        </a:moveTo>
                        <a:lnTo>
                          <a:pt x="120" y="148"/>
                        </a:lnTo>
                        <a:lnTo>
                          <a:pt x="265" y="121"/>
                        </a:lnTo>
                        <a:lnTo>
                          <a:pt x="458" y="66"/>
                        </a:lnTo>
                        <a:lnTo>
                          <a:pt x="588" y="0"/>
                        </a:lnTo>
                        <a:lnTo>
                          <a:pt x="443" y="98"/>
                        </a:lnTo>
                        <a:lnTo>
                          <a:pt x="376" y="168"/>
                        </a:lnTo>
                        <a:lnTo>
                          <a:pt x="319" y="238"/>
                        </a:lnTo>
                        <a:lnTo>
                          <a:pt x="361" y="152"/>
                        </a:lnTo>
                        <a:lnTo>
                          <a:pt x="389" y="113"/>
                        </a:lnTo>
                        <a:lnTo>
                          <a:pt x="287" y="159"/>
                        </a:lnTo>
                        <a:lnTo>
                          <a:pt x="265" y="206"/>
                        </a:lnTo>
                        <a:lnTo>
                          <a:pt x="237" y="257"/>
                        </a:lnTo>
                        <a:lnTo>
                          <a:pt x="265" y="159"/>
                        </a:lnTo>
                        <a:lnTo>
                          <a:pt x="224" y="168"/>
                        </a:lnTo>
                        <a:lnTo>
                          <a:pt x="202" y="210"/>
                        </a:lnTo>
                        <a:lnTo>
                          <a:pt x="184" y="253"/>
                        </a:lnTo>
                        <a:lnTo>
                          <a:pt x="209" y="159"/>
                        </a:lnTo>
                        <a:lnTo>
                          <a:pt x="89" y="172"/>
                        </a:lnTo>
                        <a:lnTo>
                          <a:pt x="50" y="265"/>
                        </a:lnTo>
                        <a:lnTo>
                          <a:pt x="78" y="183"/>
                        </a:lnTo>
                        <a:lnTo>
                          <a:pt x="0" y="164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Freeform 50"/>
                  <p:cNvSpPr/>
                  <p:nvPr/>
                </p:nvSpPr>
                <p:spPr>
                  <a:xfrm>
                    <a:off x="4929120" y="6254280"/>
                    <a:ext cx="349200" cy="202320"/>
                  </a:xfrm>
                  <a:custGeom>
                    <a:avLst/>
                    <a:gdLst>
                      <a:gd name="textAreaLeft" fmla="*/ 0 w 349200"/>
                      <a:gd name="textAreaRight" fmla="*/ 349560 w 34920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659" h="288">
                        <a:moveTo>
                          <a:pt x="659" y="0"/>
                        </a:moveTo>
                        <a:lnTo>
                          <a:pt x="542" y="78"/>
                        </a:lnTo>
                        <a:lnTo>
                          <a:pt x="408" y="133"/>
                        </a:lnTo>
                        <a:lnTo>
                          <a:pt x="288" y="175"/>
                        </a:lnTo>
                        <a:lnTo>
                          <a:pt x="145" y="214"/>
                        </a:lnTo>
                        <a:lnTo>
                          <a:pt x="0" y="230"/>
                        </a:lnTo>
                        <a:lnTo>
                          <a:pt x="149" y="230"/>
                        </a:lnTo>
                        <a:lnTo>
                          <a:pt x="110" y="258"/>
                        </a:lnTo>
                        <a:lnTo>
                          <a:pt x="184" y="222"/>
                        </a:lnTo>
                        <a:lnTo>
                          <a:pt x="273" y="199"/>
                        </a:lnTo>
                        <a:lnTo>
                          <a:pt x="202" y="245"/>
                        </a:lnTo>
                        <a:lnTo>
                          <a:pt x="273" y="218"/>
                        </a:lnTo>
                        <a:lnTo>
                          <a:pt x="336" y="179"/>
                        </a:lnTo>
                        <a:lnTo>
                          <a:pt x="323" y="237"/>
                        </a:lnTo>
                        <a:lnTo>
                          <a:pt x="258" y="288"/>
                        </a:lnTo>
                        <a:lnTo>
                          <a:pt x="355" y="230"/>
                        </a:lnTo>
                        <a:lnTo>
                          <a:pt x="383" y="175"/>
                        </a:lnTo>
                        <a:lnTo>
                          <a:pt x="500" y="112"/>
                        </a:lnTo>
                        <a:lnTo>
                          <a:pt x="659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" name="Group 51"/>
                <p:cNvGrpSpPr/>
                <p:nvPr/>
              </p:nvGrpSpPr>
              <p:grpSpPr>
                <a:xfrm>
                  <a:off x="5567400" y="4872960"/>
                  <a:ext cx="685800" cy="1703160"/>
                  <a:chOff x="5567400" y="4872960"/>
                  <a:chExt cx="685800" cy="1703160"/>
                </a:xfrm>
              </p:grpSpPr>
              <p:sp>
                <p:nvSpPr>
                  <p:cNvPr id="480" name="Freeform 52"/>
                  <p:cNvSpPr/>
                  <p:nvPr/>
                </p:nvSpPr>
                <p:spPr>
                  <a:xfrm>
                    <a:off x="5567400" y="4872960"/>
                    <a:ext cx="331560" cy="461880"/>
                  </a:xfrm>
                  <a:custGeom>
                    <a:avLst/>
                    <a:gdLst>
                      <a:gd name="textAreaLeft" fmla="*/ 0 w 331560"/>
                      <a:gd name="textAreaRight" fmla="*/ 331920 w 331560"/>
                      <a:gd name="textAreaTop" fmla="*/ 0 h 461880"/>
                      <a:gd name="textAreaBottom" fmla="*/ 462240 h 461880"/>
                    </a:gdLst>
                    <a:ahLst/>
                    <a:rect l="textAreaLeft" t="textAreaTop" r="textAreaRight" b="textAreaBottom"/>
                    <a:pathLst>
                      <a:path w="625" h="659">
                        <a:moveTo>
                          <a:pt x="124" y="101"/>
                        </a:moveTo>
                        <a:lnTo>
                          <a:pt x="170" y="188"/>
                        </a:lnTo>
                        <a:lnTo>
                          <a:pt x="222" y="266"/>
                        </a:lnTo>
                        <a:lnTo>
                          <a:pt x="308" y="344"/>
                        </a:lnTo>
                        <a:lnTo>
                          <a:pt x="394" y="408"/>
                        </a:lnTo>
                        <a:lnTo>
                          <a:pt x="513" y="470"/>
                        </a:lnTo>
                        <a:lnTo>
                          <a:pt x="625" y="493"/>
                        </a:lnTo>
                        <a:lnTo>
                          <a:pt x="618" y="510"/>
                        </a:lnTo>
                        <a:lnTo>
                          <a:pt x="520" y="501"/>
                        </a:lnTo>
                        <a:lnTo>
                          <a:pt x="559" y="548"/>
                        </a:lnTo>
                        <a:lnTo>
                          <a:pt x="599" y="581"/>
                        </a:lnTo>
                        <a:lnTo>
                          <a:pt x="545" y="564"/>
                        </a:lnTo>
                        <a:lnTo>
                          <a:pt x="493" y="510"/>
                        </a:lnTo>
                        <a:lnTo>
                          <a:pt x="499" y="556"/>
                        </a:lnTo>
                        <a:lnTo>
                          <a:pt x="540" y="604"/>
                        </a:lnTo>
                        <a:lnTo>
                          <a:pt x="585" y="651"/>
                        </a:lnTo>
                        <a:lnTo>
                          <a:pt x="559" y="651"/>
                        </a:lnTo>
                        <a:lnTo>
                          <a:pt x="493" y="589"/>
                        </a:lnTo>
                        <a:lnTo>
                          <a:pt x="460" y="533"/>
                        </a:lnTo>
                        <a:lnTo>
                          <a:pt x="479" y="604"/>
                        </a:lnTo>
                        <a:lnTo>
                          <a:pt x="525" y="659"/>
                        </a:lnTo>
                        <a:lnTo>
                          <a:pt x="460" y="612"/>
                        </a:lnTo>
                        <a:lnTo>
                          <a:pt x="427" y="556"/>
                        </a:lnTo>
                        <a:lnTo>
                          <a:pt x="420" y="581"/>
                        </a:lnTo>
                        <a:lnTo>
                          <a:pt x="427" y="627"/>
                        </a:lnTo>
                        <a:lnTo>
                          <a:pt x="406" y="627"/>
                        </a:lnTo>
                        <a:lnTo>
                          <a:pt x="381" y="573"/>
                        </a:lnTo>
                        <a:lnTo>
                          <a:pt x="361" y="564"/>
                        </a:lnTo>
                        <a:lnTo>
                          <a:pt x="367" y="612"/>
                        </a:lnTo>
                        <a:lnTo>
                          <a:pt x="381" y="636"/>
                        </a:lnTo>
                        <a:lnTo>
                          <a:pt x="354" y="636"/>
                        </a:lnTo>
                        <a:lnTo>
                          <a:pt x="328" y="581"/>
                        </a:lnTo>
                        <a:lnTo>
                          <a:pt x="301" y="533"/>
                        </a:lnTo>
                        <a:lnTo>
                          <a:pt x="308" y="581"/>
                        </a:lnTo>
                        <a:lnTo>
                          <a:pt x="328" y="612"/>
                        </a:lnTo>
                        <a:lnTo>
                          <a:pt x="289" y="589"/>
                        </a:lnTo>
                        <a:lnTo>
                          <a:pt x="256" y="478"/>
                        </a:lnTo>
                        <a:lnTo>
                          <a:pt x="249" y="517"/>
                        </a:lnTo>
                        <a:lnTo>
                          <a:pt x="261" y="564"/>
                        </a:lnTo>
                        <a:lnTo>
                          <a:pt x="276" y="596"/>
                        </a:lnTo>
                        <a:lnTo>
                          <a:pt x="256" y="612"/>
                        </a:lnTo>
                        <a:lnTo>
                          <a:pt x="230" y="564"/>
                        </a:lnTo>
                        <a:lnTo>
                          <a:pt x="215" y="517"/>
                        </a:lnTo>
                        <a:lnTo>
                          <a:pt x="210" y="556"/>
                        </a:lnTo>
                        <a:lnTo>
                          <a:pt x="222" y="581"/>
                        </a:lnTo>
                        <a:lnTo>
                          <a:pt x="210" y="596"/>
                        </a:lnTo>
                        <a:lnTo>
                          <a:pt x="196" y="556"/>
                        </a:lnTo>
                        <a:lnTo>
                          <a:pt x="176" y="517"/>
                        </a:lnTo>
                        <a:lnTo>
                          <a:pt x="144" y="438"/>
                        </a:lnTo>
                        <a:lnTo>
                          <a:pt x="137" y="463"/>
                        </a:lnTo>
                        <a:lnTo>
                          <a:pt x="144" y="517"/>
                        </a:lnTo>
                        <a:lnTo>
                          <a:pt x="156" y="573"/>
                        </a:lnTo>
                        <a:lnTo>
                          <a:pt x="137" y="573"/>
                        </a:lnTo>
                        <a:lnTo>
                          <a:pt x="124" y="510"/>
                        </a:lnTo>
                        <a:lnTo>
                          <a:pt x="110" y="431"/>
                        </a:lnTo>
                        <a:lnTo>
                          <a:pt x="97" y="486"/>
                        </a:lnTo>
                        <a:lnTo>
                          <a:pt x="97" y="525"/>
                        </a:lnTo>
                        <a:lnTo>
                          <a:pt x="77" y="486"/>
                        </a:lnTo>
                        <a:lnTo>
                          <a:pt x="85" y="423"/>
                        </a:lnTo>
                        <a:lnTo>
                          <a:pt x="71" y="367"/>
                        </a:lnTo>
                        <a:lnTo>
                          <a:pt x="58" y="455"/>
                        </a:lnTo>
                        <a:lnTo>
                          <a:pt x="58" y="501"/>
                        </a:lnTo>
                        <a:lnTo>
                          <a:pt x="46" y="478"/>
                        </a:lnTo>
                        <a:lnTo>
                          <a:pt x="39" y="408"/>
                        </a:lnTo>
                        <a:lnTo>
                          <a:pt x="39" y="321"/>
                        </a:lnTo>
                        <a:lnTo>
                          <a:pt x="39" y="259"/>
                        </a:lnTo>
                        <a:lnTo>
                          <a:pt x="19" y="312"/>
                        </a:lnTo>
                        <a:lnTo>
                          <a:pt x="25" y="367"/>
                        </a:lnTo>
                        <a:lnTo>
                          <a:pt x="5" y="376"/>
                        </a:lnTo>
                        <a:lnTo>
                          <a:pt x="0" y="321"/>
                        </a:lnTo>
                        <a:lnTo>
                          <a:pt x="5" y="227"/>
                        </a:lnTo>
                        <a:lnTo>
                          <a:pt x="31" y="140"/>
                        </a:lnTo>
                        <a:lnTo>
                          <a:pt x="39" y="86"/>
                        </a:lnTo>
                        <a:lnTo>
                          <a:pt x="39" y="0"/>
                        </a:lnTo>
                        <a:lnTo>
                          <a:pt x="124" y="101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53"/>
                  <p:cNvSpPr/>
                  <p:nvPr/>
                </p:nvSpPr>
                <p:spPr>
                  <a:xfrm>
                    <a:off x="5595840" y="5082120"/>
                    <a:ext cx="368280" cy="473400"/>
                  </a:xfrm>
                  <a:custGeom>
                    <a:avLst/>
                    <a:gdLst>
                      <a:gd name="textAreaLeft" fmla="*/ 0 w 368280"/>
                      <a:gd name="textAreaRight" fmla="*/ 368640 w 368280"/>
                      <a:gd name="textAreaTop" fmla="*/ 0 h 473400"/>
                      <a:gd name="textAreaBottom" fmla="*/ 473760 h 473400"/>
                    </a:gdLst>
                    <a:ahLst/>
                    <a:rect l="textAreaLeft" t="textAreaTop" r="textAreaRight" b="textAreaBottom"/>
                    <a:pathLst>
                      <a:path w="698" h="675">
                        <a:moveTo>
                          <a:pt x="140" y="104"/>
                        </a:moveTo>
                        <a:lnTo>
                          <a:pt x="192" y="192"/>
                        </a:lnTo>
                        <a:lnTo>
                          <a:pt x="249" y="274"/>
                        </a:lnTo>
                        <a:lnTo>
                          <a:pt x="345" y="354"/>
                        </a:lnTo>
                        <a:lnTo>
                          <a:pt x="441" y="418"/>
                        </a:lnTo>
                        <a:lnTo>
                          <a:pt x="574" y="483"/>
                        </a:lnTo>
                        <a:lnTo>
                          <a:pt x="698" y="506"/>
                        </a:lnTo>
                        <a:lnTo>
                          <a:pt x="691" y="522"/>
                        </a:lnTo>
                        <a:lnTo>
                          <a:pt x="579" y="515"/>
                        </a:lnTo>
                        <a:lnTo>
                          <a:pt x="625" y="562"/>
                        </a:lnTo>
                        <a:lnTo>
                          <a:pt x="669" y="595"/>
                        </a:lnTo>
                        <a:lnTo>
                          <a:pt x="610" y="578"/>
                        </a:lnTo>
                        <a:lnTo>
                          <a:pt x="551" y="522"/>
                        </a:lnTo>
                        <a:lnTo>
                          <a:pt x="558" y="571"/>
                        </a:lnTo>
                        <a:lnTo>
                          <a:pt x="602" y="618"/>
                        </a:lnTo>
                        <a:lnTo>
                          <a:pt x="653" y="667"/>
                        </a:lnTo>
                        <a:lnTo>
                          <a:pt x="625" y="667"/>
                        </a:lnTo>
                        <a:lnTo>
                          <a:pt x="551" y="602"/>
                        </a:lnTo>
                        <a:lnTo>
                          <a:pt x="515" y="546"/>
                        </a:lnTo>
                        <a:lnTo>
                          <a:pt x="536" y="618"/>
                        </a:lnTo>
                        <a:lnTo>
                          <a:pt x="587" y="675"/>
                        </a:lnTo>
                        <a:lnTo>
                          <a:pt x="515" y="627"/>
                        </a:lnTo>
                        <a:lnTo>
                          <a:pt x="478" y="571"/>
                        </a:lnTo>
                        <a:lnTo>
                          <a:pt x="470" y="595"/>
                        </a:lnTo>
                        <a:lnTo>
                          <a:pt x="478" y="643"/>
                        </a:lnTo>
                        <a:lnTo>
                          <a:pt x="457" y="643"/>
                        </a:lnTo>
                        <a:lnTo>
                          <a:pt x="426" y="586"/>
                        </a:lnTo>
                        <a:lnTo>
                          <a:pt x="404" y="578"/>
                        </a:lnTo>
                        <a:lnTo>
                          <a:pt x="411" y="627"/>
                        </a:lnTo>
                        <a:lnTo>
                          <a:pt x="426" y="652"/>
                        </a:lnTo>
                        <a:lnTo>
                          <a:pt x="396" y="652"/>
                        </a:lnTo>
                        <a:lnTo>
                          <a:pt x="367" y="595"/>
                        </a:lnTo>
                        <a:lnTo>
                          <a:pt x="337" y="546"/>
                        </a:lnTo>
                        <a:lnTo>
                          <a:pt x="345" y="595"/>
                        </a:lnTo>
                        <a:lnTo>
                          <a:pt x="367" y="627"/>
                        </a:lnTo>
                        <a:lnTo>
                          <a:pt x="323" y="602"/>
                        </a:lnTo>
                        <a:lnTo>
                          <a:pt x="286" y="490"/>
                        </a:lnTo>
                        <a:lnTo>
                          <a:pt x="279" y="531"/>
                        </a:lnTo>
                        <a:lnTo>
                          <a:pt x="294" y="578"/>
                        </a:lnTo>
                        <a:lnTo>
                          <a:pt x="309" y="610"/>
                        </a:lnTo>
                        <a:lnTo>
                          <a:pt x="286" y="627"/>
                        </a:lnTo>
                        <a:lnTo>
                          <a:pt x="258" y="578"/>
                        </a:lnTo>
                        <a:lnTo>
                          <a:pt x="241" y="531"/>
                        </a:lnTo>
                        <a:lnTo>
                          <a:pt x="236" y="571"/>
                        </a:lnTo>
                        <a:lnTo>
                          <a:pt x="249" y="595"/>
                        </a:lnTo>
                        <a:lnTo>
                          <a:pt x="236" y="610"/>
                        </a:lnTo>
                        <a:lnTo>
                          <a:pt x="220" y="571"/>
                        </a:lnTo>
                        <a:lnTo>
                          <a:pt x="198" y="531"/>
                        </a:lnTo>
                        <a:lnTo>
                          <a:pt x="162" y="448"/>
                        </a:lnTo>
                        <a:lnTo>
                          <a:pt x="154" y="475"/>
                        </a:lnTo>
                        <a:lnTo>
                          <a:pt x="162" y="531"/>
                        </a:lnTo>
                        <a:lnTo>
                          <a:pt x="177" y="586"/>
                        </a:lnTo>
                        <a:lnTo>
                          <a:pt x="154" y="586"/>
                        </a:lnTo>
                        <a:lnTo>
                          <a:pt x="140" y="522"/>
                        </a:lnTo>
                        <a:lnTo>
                          <a:pt x="124" y="441"/>
                        </a:lnTo>
                        <a:lnTo>
                          <a:pt x="111" y="498"/>
                        </a:lnTo>
                        <a:lnTo>
                          <a:pt x="111" y="539"/>
                        </a:lnTo>
                        <a:lnTo>
                          <a:pt x="88" y="498"/>
                        </a:lnTo>
                        <a:lnTo>
                          <a:pt x="96" y="433"/>
                        </a:lnTo>
                        <a:lnTo>
                          <a:pt x="81" y="377"/>
                        </a:lnTo>
                        <a:lnTo>
                          <a:pt x="66" y="467"/>
                        </a:lnTo>
                        <a:lnTo>
                          <a:pt x="66" y="515"/>
                        </a:lnTo>
                        <a:lnTo>
                          <a:pt x="52" y="490"/>
                        </a:lnTo>
                        <a:lnTo>
                          <a:pt x="45" y="418"/>
                        </a:lnTo>
                        <a:lnTo>
                          <a:pt x="45" y="329"/>
                        </a:lnTo>
                        <a:lnTo>
                          <a:pt x="45" y="265"/>
                        </a:lnTo>
                        <a:lnTo>
                          <a:pt x="23" y="321"/>
                        </a:lnTo>
                        <a:lnTo>
                          <a:pt x="29" y="377"/>
                        </a:lnTo>
                        <a:lnTo>
                          <a:pt x="7" y="385"/>
                        </a:lnTo>
                        <a:lnTo>
                          <a:pt x="0" y="329"/>
                        </a:lnTo>
                        <a:lnTo>
                          <a:pt x="7" y="233"/>
                        </a:lnTo>
                        <a:lnTo>
                          <a:pt x="37" y="144"/>
                        </a:lnTo>
                        <a:lnTo>
                          <a:pt x="45" y="89"/>
                        </a:lnTo>
                        <a:lnTo>
                          <a:pt x="45" y="0"/>
                        </a:lnTo>
                        <a:lnTo>
                          <a:pt x="140" y="104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Freeform 54"/>
                  <p:cNvSpPr/>
                  <p:nvPr/>
                </p:nvSpPr>
                <p:spPr>
                  <a:xfrm>
                    <a:off x="5602320" y="5302800"/>
                    <a:ext cx="473040" cy="52020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520200"/>
                      <a:gd name="textAreaBottom" fmla="*/ 520560 h 520200"/>
                    </a:gdLst>
                    <a:ahLst/>
                    <a:rect l="textAreaLeft" t="textAreaTop" r="textAreaRight" b="textAreaBottom"/>
                    <a:pathLst>
                      <a:path w="894" h="739">
                        <a:moveTo>
                          <a:pt x="179" y="112"/>
                        </a:moveTo>
                        <a:lnTo>
                          <a:pt x="245" y="211"/>
                        </a:lnTo>
                        <a:lnTo>
                          <a:pt x="320" y="298"/>
                        </a:lnTo>
                        <a:lnTo>
                          <a:pt x="443" y="387"/>
                        </a:lnTo>
                        <a:lnTo>
                          <a:pt x="565" y="456"/>
                        </a:lnTo>
                        <a:lnTo>
                          <a:pt x="736" y="528"/>
                        </a:lnTo>
                        <a:lnTo>
                          <a:pt x="894" y="554"/>
                        </a:lnTo>
                        <a:lnTo>
                          <a:pt x="887" y="571"/>
                        </a:lnTo>
                        <a:lnTo>
                          <a:pt x="744" y="564"/>
                        </a:lnTo>
                        <a:lnTo>
                          <a:pt x="802" y="615"/>
                        </a:lnTo>
                        <a:lnTo>
                          <a:pt x="859" y="650"/>
                        </a:lnTo>
                        <a:lnTo>
                          <a:pt x="782" y="633"/>
                        </a:lnTo>
                        <a:lnTo>
                          <a:pt x="708" y="571"/>
                        </a:lnTo>
                        <a:lnTo>
                          <a:pt x="716" y="625"/>
                        </a:lnTo>
                        <a:lnTo>
                          <a:pt x="773" y="676"/>
                        </a:lnTo>
                        <a:lnTo>
                          <a:pt x="839" y="731"/>
                        </a:lnTo>
                        <a:lnTo>
                          <a:pt x="802" y="731"/>
                        </a:lnTo>
                        <a:lnTo>
                          <a:pt x="708" y="659"/>
                        </a:lnTo>
                        <a:lnTo>
                          <a:pt x="660" y="598"/>
                        </a:lnTo>
                        <a:lnTo>
                          <a:pt x="688" y="676"/>
                        </a:lnTo>
                        <a:lnTo>
                          <a:pt x="754" y="739"/>
                        </a:lnTo>
                        <a:lnTo>
                          <a:pt x="660" y="686"/>
                        </a:lnTo>
                        <a:lnTo>
                          <a:pt x="612" y="625"/>
                        </a:lnTo>
                        <a:lnTo>
                          <a:pt x="603" y="650"/>
                        </a:lnTo>
                        <a:lnTo>
                          <a:pt x="612" y="704"/>
                        </a:lnTo>
                        <a:lnTo>
                          <a:pt x="584" y="704"/>
                        </a:lnTo>
                        <a:lnTo>
                          <a:pt x="546" y="641"/>
                        </a:lnTo>
                        <a:lnTo>
                          <a:pt x="519" y="633"/>
                        </a:lnTo>
                        <a:lnTo>
                          <a:pt x="526" y="686"/>
                        </a:lnTo>
                        <a:lnTo>
                          <a:pt x="546" y="713"/>
                        </a:lnTo>
                        <a:lnTo>
                          <a:pt x="509" y="713"/>
                        </a:lnTo>
                        <a:lnTo>
                          <a:pt x="471" y="650"/>
                        </a:lnTo>
                        <a:lnTo>
                          <a:pt x="432" y="598"/>
                        </a:lnTo>
                        <a:lnTo>
                          <a:pt x="443" y="650"/>
                        </a:lnTo>
                        <a:lnTo>
                          <a:pt x="471" y="686"/>
                        </a:lnTo>
                        <a:lnTo>
                          <a:pt x="414" y="659"/>
                        </a:lnTo>
                        <a:lnTo>
                          <a:pt x="367" y="537"/>
                        </a:lnTo>
                        <a:lnTo>
                          <a:pt x="358" y="580"/>
                        </a:lnTo>
                        <a:lnTo>
                          <a:pt x="377" y="633"/>
                        </a:lnTo>
                        <a:lnTo>
                          <a:pt x="397" y="668"/>
                        </a:lnTo>
                        <a:lnTo>
                          <a:pt x="367" y="686"/>
                        </a:lnTo>
                        <a:lnTo>
                          <a:pt x="330" y="633"/>
                        </a:lnTo>
                        <a:lnTo>
                          <a:pt x="311" y="580"/>
                        </a:lnTo>
                        <a:lnTo>
                          <a:pt x="301" y="625"/>
                        </a:lnTo>
                        <a:lnTo>
                          <a:pt x="320" y="650"/>
                        </a:lnTo>
                        <a:lnTo>
                          <a:pt x="301" y="668"/>
                        </a:lnTo>
                        <a:lnTo>
                          <a:pt x="283" y="625"/>
                        </a:lnTo>
                        <a:lnTo>
                          <a:pt x="253" y="580"/>
                        </a:lnTo>
                        <a:lnTo>
                          <a:pt x="207" y="491"/>
                        </a:lnTo>
                        <a:lnTo>
                          <a:pt x="196" y="519"/>
                        </a:lnTo>
                        <a:lnTo>
                          <a:pt x="207" y="580"/>
                        </a:lnTo>
                        <a:lnTo>
                          <a:pt x="226" y="641"/>
                        </a:lnTo>
                        <a:lnTo>
                          <a:pt x="196" y="641"/>
                        </a:lnTo>
                        <a:lnTo>
                          <a:pt x="179" y="571"/>
                        </a:lnTo>
                        <a:lnTo>
                          <a:pt x="159" y="482"/>
                        </a:lnTo>
                        <a:lnTo>
                          <a:pt x="141" y="545"/>
                        </a:lnTo>
                        <a:lnTo>
                          <a:pt x="141" y="588"/>
                        </a:lnTo>
                        <a:lnTo>
                          <a:pt x="113" y="545"/>
                        </a:lnTo>
                        <a:lnTo>
                          <a:pt x="122" y="475"/>
                        </a:lnTo>
                        <a:lnTo>
                          <a:pt x="102" y="412"/>
                        </a:lnTo>
                        <a:lnTo>
                          <a:pt x="85" y="510"/>
                        </a:lnTo>
                        <a:lnTo>
                          <a:pt x="85" y="564"/>
                        </a:lnTo>
                        <a:lnTo>
                          <a:pt x="64" y="537"/>
                        </a:lnTo>
                        <a:lnTo>
                          <a:pt x="56" y="456"/>
                        </a:lnTo>
                        <a:lnTo>
                          <a:pt x="56" y="360"/>
                        </a:lnTo>
                        <a:lnTo>
                          <a:pt x="56" y="289"/>
                        </a:lnTo>
                        <a:lnTo>
                          <a:pt x="28" y="351"/>
                        </a:lnTo>
                        <a:lnTo>
                          <a:pt x="38" y="412"/>
                        </a:lnTo>
                        <a:lnTo>
                          <a:pt x="9" y="421"/>
                        </a:lnTo>
                        <a:lnTo>
                          <a:pt x="0" y="360"/>
                        </a:lnTo>
                        <a:lnTo>
                          <a:pt x="9" y="254"/>
                        </a:lnTo>
                        <a:lnTo>
                          <a:pt x="47" y="158"/>
                        </a:lnTo>
                        <a:lnTo>
                          <a:pt x="56" y="95"/>
                        </a:lnTo>
                        <a:lnTo>
                          <a:pt x="56" y="0"/>
                        </a:lnTo>
                        <a:lnTo>
                          <a:pt x="179" y="112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Freeform 55"/>
                  <p:cNvSpPr/>
                  <p:nvPr/>
                </p:nvSpPr>
                <p:spPr>
                  <a:xfrm>
                    <a:off x="5616360" y="5551560"/>
                    <a:ext cx="557280" cy="588960"/>
                  </a:xfrm>
                  <a:custGeom>
                    <a:avLst/>
                    <a:gdLst>
                      <a:gd name="textAreaLeft" fmla="*/ 0 w 557280"/>
                      <a:gd name="textAreaRight" fmla="*/ 557640 w 557280"/>
                      <a:gd name="textAreaTop" fmla="*/ 0 h 588960"/>
                      <a:gd name="textAreaBottom" fmla="*/ 589320 h 588960"/>
                    </a:gdLst>
                    <a:ahLst/>
                    <a:rect l="textAreaLeft" t="textAreaTop" r="textAreaRight" b="textAreaBottom"/>
                    <a:pathLst>
                      <a:path w="1053" h="839">
                        <a:moveTo>
                          <a:pt x="92" y="62"/>
                        </a:moveTo>
                        <a:lnTo>
                          <a:pt x="231" y="219"/>
                        </a:lnTo>
                        <a:lnTo>
                          <a:pt x="461" y="360"/>
                        </a:lnTo>
                        <a:lnTo>
                          <a:pt x="618" y="415"/>
                        </a:lnTo>
                        <a:lnTo>
                          <a:pt x="744" y="447"/>
                        </a:lnTo>
                        <a:lnTo>
                          <a:pt x="943" y="485"/>
                        </a:lnTo>
                        <a:lnTo>
                          <a:pt x="1002" y="509"/>
                        </a:lnTo>
                        <a:lnTo>
                          <a:pt x="989" y="517"/>
                        </a:lnTo>
                        <a:lnTo>
                          <a:pt x="875" y="509"/>
                        </a:lnTo>
                        <a:lnTo>
                          <a:pt x="909" y="565"/>
                        </a:lnTo>
                        <a:lnTo>
                          <a:pt x="968" y="627"/>
                        </a:lnTo>
                        <a:lnTo>
                          <a:pt x="1053" y="658"/>
                        </a:lnTo>
                        <a:lnTo>
                          <a:pt x="994" y="658"/>
                        </a:lnTo>
                        <a:lnTo>
                          <a:pt x="889" y="603"/>
                        </a:lnTo>
                        <a:lnTo>
                          <a:pt x="923" y="658"/>
                        </a:lnTo>
                        <a:lnTo>
                          <a:pt x="962" y="705"/>
                        </a:lnTo>
                        <a:lnTo>
                          <a:pt x="1021" y="754"/>
                        </a:lnTo>
                        <a:lnTo>
                          <a:pt x="982" y="761"/>
                        </a:lnTo>
                        <a:lnTo>
                          <a:pt x="869" y="658"/>
                        </a:lnTo>
                        <a:lnTo>
                          <a:pt x="823" y="603"/>
                        </a:lnTo>
                        <a:lnTo>
                          <a:pt x="863" y="722"/>
                        </a:lnTo>
                        <a:lnTo>
                          <a:pt x="896" y="792"/>
                        </a:lnTo>
                        <a:lnTo>
                          <a:pt x="928" y="839"/>
                        </a:lnTo>
                        <a:lnTo>
                          <a:pt x="896" y="839"/>
                        </a:lnTo>
                        <a:lnTo>
                          <a:pt x="850" y="737"/>
                        </a:lnTo>
                        <a:lnTo>
                          <a:pt x="770" y="611"/>
                        </a:lnTo>
                        <a:lnTo>
                          <a:pt x="757" y="690"/>
                        </a:lnTo>
                        <a:lnTo>
                          <a:pt x="770" y="754"/>
                        </a:lnTo>
                        <a:lnTo>
                          <a:pt x="789" y="816"/>
                        </a:lnTo>
                        <a:lnTo>
                          <a:pt x="744" y="769"/>
                        </a:lnTo>
                        <a:lnTo>
                          <a:pt x="730" y="698"/>
                        </a:lnTo>
                        <a:lnTo>
                          <a:pt x="725" y="596"/>
                        </a:lnTo>
                        <a:lnTo>
                          <a:pt x="698" y="650"/>
                        </a:lnTo>
                        <a:lnTo>
                          <a:pt x="705" y="769"/>
                        </a:lnTo>
                        <a:lnTo>
                          <a:pt x="718" y="831"/>
                        </a:lnTo>
                        <a:lnTo>
                          <a:pt x="679" y="776"/>
                        </a:lnTo>
                        <a:lnTo>
                          <a:pt x="672" y="705"/>
                        </a:lnTo>
                        <a:lnTo>
                          <a:pt x="659" y="792"/>
                        </a:lnTo>
                        <a:lnTo>
                          <a:pt x="639" y="705"/>
                        </a:lnTo>
                        <a:lnTo>
                          <a:pt x="600" y="596"/>
                        </a:lnTo>
                        <a:lnTo>
                          <a:pt x="586" y="650"/>
                        </a:lnTo>
                        <a:lnTo>
                          <a:pt x="600" y="754"/>
                        </a:lnTo>
                        <a:lnTo>
                          <a:pt x="633" y="808"/>
                        </a:lnTo>
                        <a:lnTo>
                          <a:pt x="566" y="746"/>
                        </a:lnTo>
                        <a:lnTo>
                          <a:pt x="559" y="650"/>
                        </a:lnTo>
                        <a:lnTo>
                          <a:pt x="534" y="533"/>
                        </a:lnTo>
                        <a:lnTo>
                          <a:pt x="527" y="620"/>
                        </a:lnTo>
                        <a:lnTo>
                          <a:pt x="534" y="754"/>
                        </a:lnTo>
                        <a:lnTo>
                          <a:pt x="566" y="816"/>
                        </a:lnTo>
                        <a:lnTo>
                          <a:pt x="508" y="769"/>
                        </a:lnTo>
                        <a:lnTo>
                          <a:pt x="474" y="627"/>
                        </a:lnTo>
                        <a:lnTo>
                          <a:pt x="474" y="690"/>
                        </a:lnTo>
                        <a:lnTo>
                          <a:pt x="480" y="746"/>
                        </a:lnTo>
                        <a:lnTo>
                          <a:pt x="441" y="713"/>
                        </a:lnTo>
                        <a:lnTo>
                          <a:pt x="441" y="682"/>
                        </a:lnTo>
                        <a:lnTo>
                          <a:pt x="383" y="573"/>
                        </a:lnTo>
                        <a:lnTo>
                          <a:pt x="303" y="501"/>
                        </a:lnTo>
                        <a:lnTo>
                          <a:pt x="324" y="573"/>
                        </a:lnTo>
                        <a:lnTo>
                          <a:pt x="342" y="603"/>
                        </a:lnTo>
                        <a:lnTo>
                          <a:pt x="303" y="603"/>
                        </a:lnTo>
                        <a:lnTo>
                          <a:pt x="283" y="524"/>
                        </a:lnTo>
                        <a:lnTo>
                          <a:pt x="258" y="485"/>
                        </a:lnTo>
                        <a:lnTo>
                          <a:pt x="190" y="384"/>
                        </a:lnTo>
                        <a:lnTo>
                          <a:pt x="217" y="462"/>
                        </a:lnTo>
                        <a:lnTo>
                          <a:pt x="224" y="517"/>
                        </a:lnTo>
                        <a:lnTo>
                          <a:pt x="258" y="557"/>
                        </a:lnTo>
                        <a:lnTo>
                          <a:pt x="224" y="565"/>
                        </a:lnTo>
                        <a:lnTo>
                          <a:pt x="178" y="470"/>
                        </a:lnTo>
                        <a:lnTo>
                          <a:pt x="144" y="392"/>
                        </a:lnTo>
                        <a:lnTo>
                          <a:pt x="105" y="321"/>
                        </a:lnTo>
                        <a:lnTo>
                          <a:pt x="119" y="407"/>
                        </a:lnTo>
                        <a:lnTo>
                          <a:pt x="139" y="462"/>
                        </a:lnTo>
                        <a:lnTo>
                          <a:pt x="92" y="439"/>
                        </a:lnTo>
                        <a:lnTo>
                          <a:pt x="79" y="305"/>
                        </a:lnTo>
                        <a:lnTo>
                          <a:pt x="60" y="392"/>
                        </a:lnTo>
                        <a:lnTo>
                          <a:pt x="33" y="251"/>
                        </a:lnTo>
                        <a:lnTo>
                          <a:pt x="0" y="243"/>
                        </a:lnTo>
                        <a:lnTo>
                          <a:pt x="46" y="188"/>
                        </a:lnTo>
                        <a:lnTo>
                          <a:pt x="14" y="0"/>
                        </a:lnTo>
                        <a:lnTo>
                          <a:pt x="92" y="62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56"/>
                  <p:cNvSpPr/>
                  <p:nvPr/>
                </p:nvSpPr>
                <p:spPr>
                  <a:xfrm>
                    <a:off x="5634000" y="5766480"/>
                    <a:ext cx="581040" cy="615600"/>
                  </a:xfrm>
                  <a:custGeom>
                    <a:avLst/>
                    <a:gdLst>
                      <a:gd name="textAreaLeft" fmla="*/ 0 w 581040"/>
                      <a:gd name="textAreaRight" fmla="*/ 581400 w 581040"/>
                      <a:gd name="textAreaTop" fmla="*/ 0 h 615600"/>
                      <a:gd name="textAreaBottom" fmla="*/ 615960 h 615600"/>
                    </a:gdLst>
                    <a:ahLst/>
                    <a:rect l="textAreaLeft" t="textAreaTop" r="textAreaRight" b="textAreaBottom"/>
                    <a:pathLst>
                      <a:path w="1099" h="878">
                        <a:moveTo>
                          <a:pt x="96" y="66"/>
                        </a:moveTo>
                        <a:lnTo>
                          <a:pt x="241" y="229"/>
                        </a:lnTo>
                        <a:lnTo>
                          <a:pt x="481" y="377"/>
                        </a:lnTo>
                        <a:lnTo>
                          <a:pt x="646" y="435"/>
                        </a:lnTo>
                        <a:lnTo>
                          <a:pt x="776" y="468"/>
                        </a:lnTo>
                        <a:lnTo>
                          <a:pt x="983" y="510"/>
                        </a:lnTo>
                        <a:lnTo>
                          <a:pt x="1045" y="534"/>
                        </a:lnTo>
                        <a:lnTo>
                          <a:pt x="1031" y="542"/>
                        </a:lnTo>
                        <a:lnTo>
                          <a:pt x="913" y="534"/>
                        </a:lnTo>
                        <a:lnTo>
                          <a:pt x="948" y="591"/>
                        </a:lnTo>
                        <a:lnTo>
                          <a:pt x="1010" y="657"/>
                        </a:lnTo>
                        <a:lnTo>
                          <a:pt x="1099" y="691"/>
                        </a:lnTo>
                        <a:lnTo>
                          <a:pt x="1037" y="691"/>
                        </a:lnTo>
                        <a:lnTo>
                          <a:pt x="928" y="633"/>
                        </a:lnTo>
                        <a:lnTo>
                          <a:pt x="961" y="691"/>
                        </a:lnTo>
                        <a:lnTo>
                          <a:pt x="1003" y="739"/>
                        </a:lnTo>
                        <a:lnTo>
                          <a:pt x="1064" y="789"/>
                        </a:lnTo>
                        <a:lnTo>
                          <a:pt x="1025" y="797"/>
                        </a:lnTo>
                        <a:lnTo>
                          <a:pt x="907" y="691"/>
                        </a:lnTo>
                        <a:lnTo>
                          <a:pt x="859" y="633"/>
                        </a:lnTo>
                        <a:lnTo>
                          <a:pt x="899" y="755"/>
                        </a:lnTo>
                        <a:lnTo>
                          <a:pt x="934" y="831"/>
                        </a:lnTo>
                        <a:lnTo>
                          <a:pt x="969" y="878"/>
                        </a:lnTo>
                        <a:lnTo>
                          <a:pt x="934" y="878"/>
                        </a:lnTo>
                        <a:lnTo>
                          <a:pt x="886" y="772"/>
                        </a:lnTo>
                        <a:lnTo>
                          <a:pt x="802" y="641"/>
                        </a:lnTo>
                        <a:lnTo>
                          <a:pt x="790" y="722"/>
                        </a:lnTo>
                        <a:lnTo>
                          <a:pt x="802" y="789"/>
                        </a:lnTo>
                        <a:lnTo>
                          <a:pt x="824" y="855"/>
                        </a:lnTo>
                        <a:lnTo>
                          <a:pt x="776" y="805"/>
                        </a:lnTo>
                        <a:lnTo>
                          <a:pt x="763" y="730"/>
                        </a:lnTo>
                        <a:lnTo>
                          <a:pt x="755" y="624"/>
                        </a:lnTo>
                        <a:lnTo>
                          <a:pt x="727" y="682"/>
                        </a:lnTo>
                        <a:lnTo>
                          <a:pt x="735" y="805"/>
                        </a:lnTo>
                        <a:lnTo>
                          <a:pt x="749" y="870"/>
                        </a:lnTo>
                        <a:lnTo>
                          <a:pt x="707" y="813"/>
                        </a:lnTo>
                        <a:lnTo>
                          <a:pt x="700" y="739"/>
                        </a:lnTo>
                        <a:lnTo>
                          <a:pt x="687" y="831"/>
                        </a:lnTo>
                        <a:lnTo>
                          <a:pt x="666" y="739"/>
                        </a:lnTo>
                        <a:lnTo>
                          <a:pt x="625" y="624"/>
                        </a:lnTo>
                        <a:lnTo>
                          <a:pt x="611" y="682"/>
                        </a:lnTo>
                        <a:lnTo>
                          <a:pt x="625" y="789"/>
                        </a:lnTo>
                        <a:lnTo>
                          <a:pt x="660" y="846"/>
                        </a:lnTo>
                        <a:lnTo>
                          <a:pt x="590" y="780"/>
                        </a:lnTo>
                        <a:lnTo>
                          <a:pt x="584" y="682"/>
                        </a:lnTo>
                        <a:lnTo>
                          <a:pt x="556" y="558"/>
                        </a:lnTo>
                        <a:lnTo>
                          <a:pt x="551" y="650"/>
                        </a:lnTo>
                        <a:lnTo>
                          <a:pt x="556" y="789"/>
                        </a:lnTo>
                        <a:lnTo>
                          <a:pt x="590" y="855"/>
                        </a:lnTo>
                        <a:lnTo>
                          <a:pt x="529" y="805"/>
                        </a:lnTo>
                        <a:lnTo>
                          <a:pt x="494" y="657"/>
                        </a:lnTo>
                        <a:lnTo>
                          <a:pt x="494" y="722"/>
                        </a:lnTo>
                        <a:lnTo>
                          <a:pt x="502" y="780"/>
                        </a:lnTo>
                        <a:lnTo>
                          <a:pt x="460" y="747"/>
                        </a:lnTo>
                        <a:lnTo>
                          <a:pt x="460" y="715"/>
                        </a:lnTo>
                        <a:lnTo>
                          <a:pt x="399" y="600"/>
                        </a:lnTo>
                        <a:lnTo>
                          <a:pt x="316" y="525"/>
                        </a:lnTo>
                        <a:lnTo>
                          <a:pt x="337" y="600"/>
                        </a:lnTo>
                        <a:lnTo>
                          <a:pt x="357" y="633"/>
                        </a:lnTo>
                        <a:lnTo>
                          <a:pt x="316" y="633"/>
                        </a:lnTo>
                        <a:lnTo>
                          <a:pt x="295" y="549"/>
                        </a:lnTo>
                        <a:lnTo>
                          <a:pt x="268" y="510"/>
                        </a:lnTo>
                        <a:lnTo>
                          <a:pt x="198" y="401"/>
                        </a:lnTo>
                        <a:lnTo>
                          <a:pt x="226" y="484"/>
                        </a:lnTo>
                        <a:lnTo>
                          <a:pt x="233" y="542"/>
                        </a:lnTo>
                        <a:lnTo>
                          <a:pt x="268" y="582"/>
                        </a:lnTo>
                        <a:lnTo>
                          <a:pt x="233" y="591"/>
                        </a:lnTo>
                        <a:lnTo>
                          <a:pt x="185" y="492"/>
                        </a:lnTo>
                        <a:lnTo>
                          <a:pt x="151" y="412"/>
                        </a:lnTo>
                        <a:lnTo>
                          <a:pt x="109" y="336"/>
                        </a:lnTo>
                        <a:lnTo>
                          <a:pt x="123" y="427"/>
                        </a:lnTo>
                        <a:lnTo>
                          <a:pt x="144" y="484"/>
                        </a:lnTo>
                        <a:lnTo>
                          <a:pt x="96" y="460"/>
                        </a:lnTo>
                        <a:lnTo>
                          <a:pt x="82" y="320"/>
                        </a:lnTo>
                        <a:lnTo>
                          <a:pt x="61" y="412"/>
                        </a:lnTo>
                        <a:lnTo>
                          <a:pt x="34" y="263"/>
                        </a:lnTo>
                        <a:lnTo>
                          <a:pt x="0" y="255"/>
                        </a:lnTo>
                        <a:lnTo>
                          <a:pt x="47" y="196"/>
                        </a:lnTo>
                        <a:lnTo>
                          <a:pt x="12" y="0"/>
                        </a:lnTo>
                        <a:lnTo>
                          <a:pt x="96" y="66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Freeform 57"/>
                  <p:cNvSpPr/>
                  <p:nvPr/>
                </p:nvSpPr>
                <p:spPr>
                  <a:xfrm>
                    <a:off x="5634000" y="5992920"/>
                    <a:ext cx="619200" cy="583200"/>
                  </a:xfrm>
                  <a:custGeom>
                    <a:avLst/>
                    <a:gdLst>
                      <a:gd name="textAreaLeft" fmla="*/ 0 w 619200"/>
                      <a:gd name="textAreaRight" fmla="*/ 619560 w 619200"/>
                      <a:gd name="textAreaTop" fmla="*/ 0 h 583200"/>
                      <a:gd name="textAreaBottom" fmla="*/ 583560 h 583200"/>
                    </a:gdLst>
                    <a:ahLst/>
                    <a:rect l="textAreaLeft" t="textAreaTop" r="textAreaRight" b="textAreaBottom"/>
                    <a:pathLst>
                      <a:path w="1170" h="831">
                        <a:moveTo>
                          <a:pt x="234" y="128"/>
                        </a:moveTo>
                        <a:lnTo>
                          <a:pt x="322" y="236"/>
                        </a:lnTo>
                        <a:lnTo>
                          <a:pt x="419" y="335"/>
                        </a:lnTo>
                        <a:lnTo>
                          <a:pt x="580" y="436"/>
                        </a:lnTo>
                        <a:lnTo>
                          <a:pt x="739" y="515"/>
                        </a:lnTo>
                        <a:lnTo>
                          <a:pt x="964" y="594"/>
                        </a:lnTo>
                        <a:lnTo>
                          <a:pt x="1170" y="623"/>
                        </a:lnTo>
                        <a:lnTo>
                          <a:pt x="1161" y="644"/>
                        </a:lnTo>
                        <a:lnTo>
                          <a:pt x="975" y="635"/>
                        </a:lnTo>
                        <a:lnTo>
                          <a:pt x="1050" y="693"/>
                        </a:lnTo>
                        <a:lnTo>
                          <a:pt x="1124" y="733"/>
                        </a:lnTo>
                        <a:lnTo>
                          <a:pt x="1025" y="714"/>
                        </a:lnTo>
                        <a:lnTo>
                          <a:pt x="926" y="644"/>
                        </a:lnTo>
                        <a:lnTo>
                          <a:pt x="938" y="705"/>
                        </a:lnTo>
                        <a:lnTo>
                          <a:pt x="1011" y="762"/>
                        </a:lnTo>
                        <a:lnTo>
                          <a:pt x="1097" y="822"/>
                        </a:lnTo>
                        <a:lnTo>
                          <a:pt x="1050" y="822"/>
                        </a:lnTo>
                        <a:lnTo>
                          <a:pt x="926" y="743"/>
                        </a:lnTo>
                        <a:lnTo>
                          <a:pt x="863" y="673"/>
                        </a:lnTo>
                        <a:lnTo>
                          <a:pt x="899" y="762"/>
                        </a:lnTo>
                        <a:lnTo>
                          <a:pt x="987" y="831"/>
                        </a:lnTo>
                        <a:lnTo>
                          <a:pt x="863" y="773"/>
                        </a:lnTo>
                        <a:lnTo>
                          <a:pt x="802" y="705"/>
                        </a:lnTo>
                        <a:lnTo>
                          <a:pt x="790" y="733"/>
                        </a:lnTo>
                        <a:lnTo>
                          <a:pt x="802" y="793"/>
                        </a:lnTo>
                        <a:lnTo>
                          <a:pt x="766" y="793"/>
                        </a:lnTo>
                        <a:lnTo>
                          <a:pt x="716" y="724"/>
                        </a:lnTo>
                        <a:lnTo>
                          <a:pt x="679" y="714"/>
                        </a:lnTo>
                        <a:lnTo>
                          <a:pt x="691" y="773"/>
                        </a:lnTo>
                        <a:lnTo>
                          <a:pt x="716" y="801"/>
                        </a:lnTo>
                        <a:lnTo>
                          <a:pt x="666" y="801"/>
                        </a:lnTo>
                        <a:lnTo>
                          <a:pt x="617" y="733"/>
                        </a:lnTo>
                        <a:lnTo>
                          <a:pt x="567" y="673"/>
                        </a:lnTo>
                        <a:lnTo>
                          <a:pt x="580" y="733"/>
                        </a:lnTo>
                        <a:lnTo>
                          <a:pt x="617" y="773"/>
                        </a:lnTo>
                        <a:lnTo>
                          <a:pt x="543" y="743"/>
                        </a:lnTo>
                        <a:lnTo>
                          <a:pt x="482" y="603"/>
                        </a:lnTo>
                        <a:lnTo>
                          <a:pt x="469" y="655"/>
                        </a:lnTo>
                        <a:lnTo>
                          <a:pt x="493" y="714"/>
                        </a:lnTo>
                        <a:lnTo>
                          <a:pt x="520" y="753"/>
                        </a:lnTo>
                        <a:lnTo>
                          <a:pt x="482" y="773"/>
                        </a:lnTo>
                        <a:lnTo>
                          <a:pt x="432" y="714"/>
                        </a:lnTo>
                        <a:lnTo>
                          <a:pt x="407" y="655"/>
                        </a:lnTo>
                        <a:lnTo>
                          <a:pt x="396" y="705"/>
                        </a:lnTo>
                        <a:lnTo>
                          <a:pt x="419" y="733"/>
                        </a:lnTo>
                        <a:lnTo>
                          <a:pt x="396" y="753"/>
                        </a:lnTo>
                        <a:lnTo>
                          <a:pt x="369" y="705"/>
                        </a:lnTo>
                        <a:lnTo>
                          <a:pt x="333" y="655"/>
                        </a:lnTo>
                        <a:lnTo>
                          <a:pt x="272" y="553"/>
                        </a:lnTo>
                        <a:lnTo>
                          <a:pt x="260" y="585"/>
                        </a:lnTo>
                        <a:lnTo>
                          <a:pt x="272" y="655"/>
                        </a:lnTo>
                        <a:lnTo>
                          <a:pt x="295" y="724"/>
                        </a:lnTo>
                        <a:lnTo>
                          <a:pt x="260" y="724"/>
                        </a:lnTo>
                        <a:lnTo>
                          <a:pt x="234" y="644"/>
                        </a:lnTo>
                        <a:lnTo>
                          <a:pt x="209" y="544"/>
                        </a:lnTo>
                        <a:lnTo>
                          <a:pt x="185" y="613"/>
                        </a:lnTo>
                        <a:lnTo>
                          <a:pt x="185" y="664"/>
                        </a:lnTo>
                        <a:lnTo>
                          <a:pt x="148" y="613"/>
                        </a:lnTo>
                        <a:lnTo>
                          <a:pt x="162" y="534"/>
                        </a:lnTo>
                        <a:lnTo>
                          <a:pt x="136" y="465"/>
                        </a:lnTo>
                        <a:lnTo>
                          <a:pt x="110" y="575"/>
                        </a:lnTo>
                        <a:lnTo>
                          <a:pt x="110" y="635"/>
                        </a:lnTo>
                        <a:lnTo>
                          <a:pt x="86" y="603"/>
                        </a:lnTo>
                        <a:lnTo>
                          <a:pt x="74" y="515"/>
                        </a:lnTo>
                        <a:lnTo>
                          <a:pt x="74" y="404"/>
                        </a:lnTo>
                        <a:lnTo>
                          <a:pt x="74" y="326"/>
                        </a:lnTo>
                        <a:lnTo>
                          <a:pt x="38" y="395"/>
                        </a:lnTo>
                        <a:lnTo>
                          <a:pt x="49" y="465"/>
                        </a:lnTo>
                        <a:lnTo>
                          <a:pt x="12" y="475"/>
                        </a:lnTo>
                        <a:lnTo>
                          <a:pt x="0" y="404"/>
                        </a:lnTo>
                        <a:lnTo>
                          <a:pt x="12" y="287"/>
                        </a:lnTo>
                        <a:lnTo>
                          <a:pt x="61" y="176"/>
                        </a:lnTo>
                        <a:lnTo>
                          <a:pt x="74" y="107"/>
                        </a:lnTo>
                        <a:lnTo>
                          <a:pt x="74" y="0"/>
                        </a:lnTo>
                        <a:lnTo>
                          <a:pt x="234" y="128"/>
                        </a:lnTo>
                        <a:close/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Freeform 58"/>
                  <p:cNvSpPr/>
                  <p:nvPr/>
                </p:nvSpPr>
                <p:spPr>
                  <a:xfrm>
                    <a:off x="5605560" y="4907880"/>
                    <a:ext cx="217440" cy="313200"/>
                  </a:xfrm>
                  <a:custGeom>
                    <a:avLst/>
                    <a:gdLst>
                      <a:gd name="textAreaLeft" fmla="*/ 0 w 217440"/>
                      <a:gd name="textAreaRight" fmla="*/ 217800 w 217440"/>
                      <a:gd name="textAreaTop" fmla="*/ 0 h 313200"/>
                      <a:gd name="textAreaBottom" fmla="*/ 313560 h 313200"/>
                    </a:gdLst>
                    <a:ahLst/>
                    <a:rect l="textAreaLeft" t="textAreaTop" r="textAreaRight" b="textAreaBottom"/>
                    <a:pathLst>
                      <a:path w="412" h="447">
                        <a:moveTo>
                          <a:pt x="0" y="0"/>
                        </a:moveTo>
                        <a:lnTo>
                          <a:pt x="43" y="59"/>
                        </a:lnTo>
                        <a:lnTo>
                          <a:pt x="80" y="146"/>
                        </a:lnTo>
                        <a:lnTo>
                          <a:pt x="169" y="262"/>
                        </a:lnTo>
                        <a:lnTo>
                          <a:pt x="253" y="317"/>
                        </a:lnTo>
                        <a:lnTo>
                          <a:pt x="349" y="401"/>
                        </a:lnTo>
                        <a:lnTo>
                          <a:pt x="412" y="424"/>
                        </a:lnTo>
                        <a:lnTo>
                          <a:pt x="376" y="424"/>
                        </a:lnTo>
                        <a:lnTo>
                          <a:pt x="290" y="385"/>
                        </a:lnTo>
                        <a:lnTo>
                          <a:pt x="314" y="447"/>
                        </a:lnTo>
                        <a:lnTo>
                          <a:pt x="260" y="354"/>
                        </a:lnTo>
                        <a:lnTo>
                          <a:pt x="230" y="343"/>
                        </a:lnTo>
                        <a:lnTo>
                          <a:pt x="244" y="393"/>
                        </a:lnTo>
                        <a:lnTo>
                          <a:pt x="198" y="313"/>
                        </a:lnTo>
                        <a:lnTo>
                          <a:pt x="132" y="243"/>
                        </a:lnTo>
                        <a:lnTo>
                          <a:pt x="142" y="298"/>
                        </a:lnTo>
                        <a:lnTo>
                          <a:pt x="96" y="196"/>
                        </a:lnTo>
                        <a:lnTo>
                          <a:pt x="93" y="236"/>
                        </a:lnTo>
                        <a:lnTo>
                          <a:pt x="73" y="162"/>
                        </a:lnTo>
                        <a:lnTo>
                          <a:pt x="26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Freeform 59"/>
                  <p:cNvSpPr/>
                  <p:nvPr/>
                </p:nvSpPr>
                <p:spPr>
                  <a:xfrm>
                    <a:off x="5703840" y="5257800"/>
                    <a:ext cx="189000" cy="20232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359" h="288">
                        <a:moveTo>
                          <a:pt x="0" y="0"/>
                        </a:moveTo>
                        <a:lnTo>
                          <a:pt x="68" y="71"/>
                        </a:lnTo>
                        <a:lnTo>
                          <a:pt x="148" y="134"/>
                        </a:lnTo>
                        <a:lnTo>
                          <a:pt x="227" y="177"/>
                        </a:lnTo>
                        <a:lnTo>
                          <a:pt x="313" y="229"/>
                        </a:lnTo>
                        <a:lnTo>
                          <a:pt x="359" y="244"/>
                        </a:lnTo>
                        <a:lnTo>
                          <a:pt x="323" y="244"/>
                        </a:lnTo>
                        <a:lnTo>
                          <a:pt x="339" y="288"/>
                        </a:lnTo>
                        <a:lnTo>
                          <a:pt x="289" y="241"/>
                        </a:lnTo>
                        <a:lnTo>
                          <a:pt x="284" y="271"/>
                        </a:lnTo>
                        <a:lnTo>
                          <a:pt x="237" y="209"/>
                        </a:lnTo>
                        <a:lnTo>
                          <a:pt x="237" y="256"/>
                        </a:lnTo>
                        <a:lnTo>
                          <a:pt x="188" y="177"/>
                        </a:lnTo>
                        <a:lnTo>
                          <a:pt x="148" y="158"/>
                        </a:lnTo>
                        <a:lnTo>
                          <a:pt x="125" y="158"/>
                        </a:lnTo>
                        <a:lnTo>
                          <a:pt x="150" y="222"/>
                        </a:lnTo>
                        <a:lnTo>
                          <a:pt x="111" y="169"/>
                        </a:lnTo>
                        <a:lnTo>
                          <a:pt x="105" y="122"/>
                        </a:lnTo>
                        <a:lnTo>
                          <a:pt x="63" y="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60"/>
                  <p:cNvSpPr/>
                  <p:nvPr/>
                </p:nvSpPr>
                <p:spPr>
                  <a:xfrm>
                    <a:off x="5769000" y="5518080"/>
                    <a:ext cx="223920" cy="202320"/>
                  </a:xfrm>
                  <a:custGeom>
                    <a:avLst/>
                    <a:gdLst>
                      <a:gd name="textAreaLeft" fmla="*/ 0 w 223920"/>
                      <a:gd name="textAreaRight" fmla="*/ 224280 w 22392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421" h="288">
                        <a:moveTo>
                          <a:pt x="0" y="0"/>
                        </a:moveTo>
                        <a:lnTo>
                          <a:pt x="82" y="79"/>
                        </a:lnTo>
                        <a:lnTo>
                          <a:pt x="159" y="126"/>
                        </a:lnTo>
                        <a:lnTo>
                          <a:pt x="264" y="173"/>
                        </a:lnTo>
                        <a:lnTo>
                          <a:pt x="323" y="205"/>
                        </a:lnTo>
                        <a:lnTo>
                          <a:pt x="421" y="233"/>
                        </a:lnTo>
                        <a:lnTo>
                          <a:pt x="365" y="237"/>
                        </a:lnTo>
                        <a:lnTo>
                          <a:pt x="369" y="279"/>
                        </a:lnTo>
                        <a:lnTo>
                          <a:pt x="339" y="217"/>
                        </a:lnTo>
                        <a:lnTo>
                          <a:pt x="323" y="288"/>
                        </a:lnTo>
                        <a:lnTo>
                          <a:pt x="305" y="217"/>
                        </a:lnTo>
                        <a:lnTo>
                          <a:pt x="200" y="166"/>
                        </a:lnTo>
                        <a:lnTo>
                          <a:pt x="200" y="237"/>
                        </a:lnTo>
                        <a:lnTo>
                          <a:pt x="174" y="162"/>
                        </a:lnTo>
                        <a:lnTo>
                          <a:pt x="85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Freeform 61"/>
                  <p:cNvSpPr/>
                  <p:nvPr/>
                </p:nvSpPr>
                <p:spPr>
                  <a:xfrm>
                    <a:off x="5834160" y="5808600"/>
                    <a:ext cx="257040" cy="147240"/>
                  </a:xfrm>
                  <a:custGeom>
                    <a:avLst/>
                    <a:gdLst>
                      <a:gd name="textAreaLeft" fmla="*/ 0 w 257040"/>
                      <a:gd name="textAreaRight" fmla="*/ 257400 w 25704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487" h="212">
                        <a:moveTo>
                          <a:pt x="487" y="125"/>
                        </a:moveTo>
                        <a:lnTo>
                          <a:pt x="333" y="108"/>
                        </a:lnTo>
                        <a:lnTo>
                          <a:pt x="232" y="78"/>
                        </a:lnTo>
                        <a:lnTo>
                          <a:pt x="83" y="19"/>
                        </a:lnTo>
                        <a:lnTo>
                          <a:pt x="0" y="0"/>
                        </a:lnTo>
                        <a:lnTo>
                          <a:pt x="79" y="35"/>
                        </a:lnTo>
                        <a:lnTo>
                          <a:pt x="159" y="66"/>
                        </a:lnTo>
                        <a:lnTo>
                          <a:pt x="168" y="144"/>
                        </a:lnTo>
                        <a:lnTo>
                          <a:pt x="172" y="63"/>
                        </a:lnTo>
                        <a:lnTo>
                          <a:pt x="248" y="101"/>
                        </a:lnTo>
                        <a:lnTo>
                          <a:pt x="264" y="212"/>
                        </a:lnTo>
                        <a:lnTo>
                          <a:pt x="264" y="108"/>
                        </a:lnTo>
                        <a:lnTo>
                          <a:pt x="353" y="129"/>
                        </a:lnTo>
                        <a:lnTo>
                          <a:pt x="389" y="180"/>
                        </a:lnTo>
                        <a:lnTo>
                          <a:pt x="377" y="129"/>
                        </a:lnTo>
                        <a:lnTo>
                          <a:pt x="446" y="184"/>
                        </a:lnTo>
                        <a:lnTo>
                          <a:pt x="416" y="129"/>
                        </a:lnTo>
                        <a:lnTo>
                          <a:pt x="487" y="125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Freeform 62"/>
                  <p:cNvSpPr/>
                  <p:nvPr/>
                </p:nvSpPr>
                <p:spPr>
                  <a:xfrm>
                    <a:off x="5843520" y="6011280"/>
                    <a:ext cx="287280" cy="188280"/>
                  </a:xfrm>
                  <a:custGeom>
                    <a:avLst/>
                    <a:gdLst>
                      <a:gd name="textAreaLeft" fmla="*/ 0 w 287280"/>
                      <a:gd name="textAreaRight" fmla="*/ 287640 w 287280"/>
                      <a:gd name="textAreaTop" fmla="*/ 0 h 188280"/>
                      <a:gd name="textAreaBottom" fmla="*/ 188640 h 188280"/>
                    </a:gdLst>
                    <a:ahLst/>
                    <a:rect l="textAreaLeft" t="textAreaTop" r="textAreaRight" b="textAreaBottom"/>
                    <a:pathLst>
                      <a:path w="545" h="268">
                        <a:moveTo>
                          <a:pt x="545" y="166"/>
                        </a:moveTo>
                        <a:lnTo>
                          <a:pt x="434" y="149"/>
                        </a:lnTo>
                        <a:lnTo>
                          <a:pt x="298" y="122"/>
                        </a:lnTo>
                        <a:lnTo>
                          <a:pt x="121" y="68"/>
                        </a:lnTo>
                        <a:lnTo>
                          <a:pt x="0" y="0"/>
                        </a:lnTo>
                        <a:lnTo>
                          <a:pt x="134" y="100"/>
                        </a:lnTo>
                        <a:lnTo>
                          <a:pt x="196" y="170"/>
                        </a:lnTo>
                        <a:lnTo>
                          <a:pt x="250" y="240"/>
                        </a:lnTo>
                        <a:lnTo>
                          <a:pt x="210" y="154"/>
                        </a:lnTo>
                        <a:lnTo>
                          <a:pt x="184" y="115"/>
                        </a:lnTo>
                        <a:lnTo>
                          <a:pt x="280" y="162"/>
                        </a:lnTo>
                        <a:lnTo>
                          <a:pt x="298" y="208"/>
                        </a:lnTo>
                        <a:lnTo>
                          <a:pt x="325" y="260"/>
                        </a:lnTo>
                        <a:lnTo>
                          <a:pt x="298" y="162"/>
                        </a:lnTo>
                        <a:lnTo>
                          <a:pt x="339" y="170"/>
                        </a:lnTo>
                        <a:lnTo>
                          <a:pt x="359" y="212"/>
                        </a:lnTo>
                        <a:lnTo>
                          <a:pt x="375" y="256"/>
                        </a:lnTo>
                        <a:lnTo>
                          <a:pt x="351" y="162"/>
                        </a:lnTo>
                        <a:lnTo>
                          <a:pt x="464" y="173"/>
                        </a:lnTo>
                        <a:lnTo>
                          <a:pt x="499" y="268"/>
                        </a:lnTo>
                        <a:lnTo>
                          <a:pt x="473" y="185"/>
                        </a:lnTo>
                        <a:lnTo>
                          <a:pt x="545" y="166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63"/>
                  <p:cNvSpPr/>
                  <p:nvPr/>
                </p:nvSpPr>
                <p:spPr>
                  <a:xfrm>
                    <a:off x="5879880" y="6262920"/>
                    <a:ext cx="324000" cy="203400"/>
                  </a:xfrm>
                  <a:custGeom>
                    <a:avLst/>
                    <a:gdLst>
                      <a:gd name="textAreaLeft" fmla="*/ 0 w 324000"/>
                      <a:gd name="textAreaRight" fmla="*/ 324360 w 32400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612" h="290">
                        <a:moveTo>
                          <a:pt x="0" y="0"/>
                        </a:moveTo>
                        <a:lnTo>
                          <a:pt x="109" y="79"/>
                        </a:lnTo>
                        <a:lnTo>
                          <a:pt x="234" y="134"/>
                        </a:lnTo>
                        <a:lnTo>
                          <a:pt x="347" y="177"/>
                        </a:lnTo>
                        <a:lnTo>
                          <a:pt x="478" y="215"/>
                        </a:lnTo>
                        <a:lnTo>
                          <a:pt x="612" y="231"/>
                        </a:lnTo>
                        <a:lnTo>
                          <a:pt x="474" y="231"/>
                        </a:lnTo>
                        <a:lnTo>
                          <a:pt x="511" y="259"/>
                        </a:lnTo>
                        <a:lnTo>
                          <a:pt x="443" y="223"/>
                        </a:lnTo>
                        <a:lnTo>
                          <a:pt x="359" y="200"/>
                        </a:lnTo>
                        <a:lnTo>
                          <a:pt x="425" y="247"/>
                        </a:lnTo>
                        <a:lnTo>
                          <a:pt x="359" y="219"/>
                        </a:lnTo>
                        <a:lnTo>
                          <a:pt x="300" y="181"/>
                        </a:lnTo>
                        <a:lnTo>
                          <a:pt x="314" y="239"/>
                        </a:lnTo>
                        <a:lnTo>
                          <a:pt x="373" y="290"/>
                        </a:lnTo>
                        <a:lnTo>
                          <a:pt x="284" y="231"/>
                        </a:lnTo>
                        <a:lnTo>
                          <a:pt x="257" y="177"/>
                        </a:lnTo>
                        <a:lnTo>
                          <a:pt x="149" y="1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Freeform 64"/>
                <p:cNvSpPr/>
                <p:nvPr/>
              </p:nvSpPr>
              <p:spPr>
                <a:xfrm>
                  <a:off x="5460840" y="5091840"/>
                  <a:ext cx="273240" cy="1490040"/>
                </a:xfrm>
                <a:custGeom>
                  <a:avLst/>
                  <a:gdLst>
                    <a:gd name="textAreaLeft" fmla="*/ 0 w 273240"/>
                    <a:gd name="textAreaRight" fmla="*/ 273600 w 273240"/>
                    <a:gd name="textAreaTop" fmla="*/ 0 h 1490040"/>
                    <a:gd name="textAreaBottom" fmla="*/ 1490400 h 1490040"/>
                  </a:gdLst>
                  <a:ahLst/>
                  <a:rect l="textAreaLeft" t="textAreaTop" r="textAreaRight" b="textAreaBottom"/>
                  <a:pathLst>
                    <a:path w="517" h="2122">
                      <a:moveTo>
                        <a:pt x="425" y="1592"/>
                      </a:moveTo>
                      <a:lnTo>
                        <a:pt x="510" y="1842"/>
                      </a:lnTo>
                      <a:lnTo>
                        <a:pt x="425" y="1802"/>
                      </a:lnTo>
                      <a:lnTo>
                        <a:pt x="495" y="1989"/>
                      </a:lnTo>
                      <a:lnTo>
                        <a:pt x="417" y="1864"/>
                      </a:lnTo>
                      <a:lnTo>
                        <a:pt x="438" y="2044"/>
                      </a:lnTo>
                      <a:lnTo>
                        <a:pt x="389" y="1912"/>
                      </a:lnTo>
                      <a:lnTo>
                        <a:pt x="375" y="2075"/>
                      </a:lnTo>
                      <a:lnTo>
                        <a:pt x="325" y="1833"/>
                      </a:lnTo>
                      <a:lnTo>
                        <a:pt x="290" y="2122"/>
                      </a:lnTo>
                      <a:lnTo>
                        <a:pt x="276" y="1833"/>
                      </a:lnTo>
                      <a:lnTo>
                        <a:pt x="184" y="1997"/>
                      </a:lnTo>
                      <a:lnTo>
                        <a:pt x="241" y="1763"/>
                      </a:lnTo>
                      <a:lnTo>
                        <a:pt x="134" y="1895"/>
                      </a:lnTo>
                      <a:lnTo>
                        <a:pt x="212" y="1700"/>
                      </a:lnTo>
                      <a:lnTo>
                        <a:pt x="70" y="1794"/>
                      </a:lnTo>
                      <a:lnTo>
                        <a:pt x="119" y="1622"/>
                      </a:lnTo>
                      <a:lnTo>
                        <a:pt x="0" y="1600"/>
                      </a:lnTo>
                      <a:lnTo>
                        <a:pt x="106" y="9"/>
                      </a:lnTo>
                      <a:lnTo>
                        <a:pt x="319" y="0"/>
                      </a:lnTo>
                      <a:lnTo>
                        <a:pt x="517" y="1638"/>
                      </a:lnTo>
                      <a:lnTo>
                        <a:pt x="425" y="1592"/>
                      </a:lnTo>
                      <a:close/>
                    </a:path>
                  </a:pathLst>
                </a:custGeom>
                <a:solidFill>
                  <a:srgbClr val="0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Group 96"/>
              <p:cNvGrpSpPr/>
              <p:nvPr/>
            </p:nvGrpSpPr>
            <p:grpSpPr>
              <a:xfrm>
                <a:off x="5791320" y="4648320"/>
                <a:ext cx="3350880" cy="2209680"/>
                <a:chOff x="5791320" y="4648320"/>
                <a:chExt cx="3350880" cy="2209680"/>
              </a:xfrm>
            </p:grpSpPr>
            <p:grpSp>
              <p:nvGrpSpPr>
                <p:cNvPr id="494" name="Group 97"/>
                <p:cNvGrpSpPr/>
                <p:nvPr/>
              </p:nvGrpSpPr>
              <p:grpSpPr>
                <a:xfrm>
                  <a:off x="7310160" y="4901400"/>
                  <a:ext cx="352440" cy="1956600"/>
                  <a:chOff x="7310160" y="4901400"/>
                  <a:chExt cx="352440" cy="1956600"/>
                </a:xfrm>
              </p:grpSpPr>
              <p:sp>
                <p:nvSpPr>
                  <p:cNvPr id="495" name="Freeform 98"/>
                  <p:cNvSpPr/>
                  <p:nvPr/>
                </p:nvSpPr>
                <p:spPr>
                  <a:xfrm>
                    <a:off x="7310160" y="4901400"/>
                    <a:ext cx="352440" cy="1956600"/>
                  </a:xfrm>
                  <a:custGeom>
                    <a:avLst/>
                    <a:gdLst>
                      <a:gd name="textAreaLeft" fmla="*/ 0 w 352440"/>
                      <a:gd name="textAreaRight" fmla="*/ 352800 w 352440"/>
                      <a:gd name="textAreaTop" fmla="*/ 0 h 1956600"/>
                      <a:gd name="textAreaBottom" fmla="*/ 1956960 h 1956600"/>
                    </a:gdLst>
                    <a:ahLst/>
                    <a:rect l="textAreaLeft" t="textAreaTop" r="textAreaRight" b="textAreaBottom"/>
                    <a:pathLst>
                      <a:path w="268" h="2783">
                        <a:moveTo>
                          <a:pt x="102" y="0"/>
                        </a:moveTo>
                        <a:lnTo>
                          <a:pt x="32" y="1408"/>
                        </a:lnTo>
                        <a:lnTo>
                          <a:pt x="39" y="1768"/>
                        </a:lnTo>
                        <a:lnTo>
                          <a:pt x="38" y="2044"/>
                        </a:lnTo>
                        <a:lnTo>
                          <a:pt x="39" y="2121"/>
                        </a:lnTo>
                        <a:lnTo>
                          <a:pt x="42" y="2238"/>
                        </a:lnTo>
                        <a:lnTo>
                          <a:pt x="32" y="2355"/>
                        </a:lnTo>
                        <a:lnTo>
                          <a:pt x="35" y="2504"/>
                        </a:lnTo>
                        <a:lnTo>
                          <a:pt x="26" y="2635"/>
                        </a:lnTo>
                        <a:lnTo>
                          <a:pt x="0" y="2747"/>
                        </a:lnTo>
                        <a:lnTo>
                          <a:pt x="62" y="2756"/>
                        </a:lnTo>
                        <a:lnTo>
                          <a:pt x="111" y="2783"/>
                        </a:lnTo>
                        <a:lnTo>
                          <a:pt x="181" y="2774"/>
                        </a:lnTo>
                        <a:lnTo>
                          <a:pt x="232" y="2774"/>
                        </a:lnTo>
                        <a:lnTo>
                          <a:pt x="268" y="2744"/>
                        </a:lnTo>
                        <a:lnTo>
                          <a:pt x="260" y="2630"/>
                        </a:lnTo>
                        <a:lnTo>
                          <a:pt x="247" y="2504"/>
                        </a:lnTo>
                        <a:lnTo>
                          <a:pt x="247" y="2274"/>
                        </a:lnTo>
                        <a:lnTo>
                          <a:pt x="247" y="2206"/>
                        </a:lnTo>
                        <a:lnTo>
                          <a:pt x="247" y="2044"/>
                        </a:lnTo>
                        <a:lnTo>
                          <a:pt x="247" y="1899"/>
                        </a:lnTo>
                        <a:lnTo>
                          <a:pt x="233" y="1759"/>
                        </a:lnTo>
                        <a:lnTo>
                          <a:pt x="240" y="1155"/>
                        </a:lnTo>
                        <a:lnTo>
                          <a:pt x="240" y="398"/>
                        </a:lnTo>
                        <a:lnTo>
                          <a:pt x="220" y="100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Freeform 99"/>
                  <p:cNvSpPr/>
                  <p:nvPr/>
                </p:nvSpPr>
                <p:spPr>
                  <a:xfrm>
                    <a:off x="7436520" y="6148440"/>
                    <a:ext cx="217800" cy="687240"/>
                  </a:xfrm>
                  <a:custGeom>
                    <a:avLst/>
                    <a:gdLst>
                      <a:gd name="textAreaLeft" fmla="*/ 0 w 217800"/>
                      <a:gd name="textAreaRight" fmla="*/ 218160 w 217800"/>
                      <a:gd name="textAreaTop" fmla="*/ 0 h 687240"/>
                      <a:gd name="textAreaBottom" fmla="*/ 687600 h 687240"/>
                    </a:gdLst>
                    <a:ahLst/>
                    <a:rect l="textAreaLeft" t="textAreaTop" r="textAreaRight" b="textAreaBottom"/>
                    <a:pathLst>
                      <a:path w="163" h="979">
                        <a:moveTo>
                          <a:pt x="110" y="0"/>
                        </a:moveTo>
                        <a:lnTo>
                          <a:pt x="59" y="50"/>
                        </a:lnTo>
                        <a:lnTo>
                          <a:pt x="0" y="82"/>
                        </a:lnTo>
                        <a:lnTo>
                          <a:pt x="38" y="85"/>
                        </a:lnTo>
                        <a:lnTo>
                          <a:pt x="97" y="73"/>
                        </a:lnTo>
                        <a:lnTo>
                          <a:pt x="73" y="126"/>
                        </a:lnTo>
                        <a:lnTo>
                          <a:pt x="18" y="172"/>
                        </a:lnTo>
                        <a:lnTo>
                          <a:pt x="84" y="176"/>
                        </a:lnTo>
                        <a:lnTo>
                          <a:pt x="108" y="203"/>
                        </a:lnTo>
                        <a:lnTo>
                          <a:pt x="80" y="248"/>
                        </a:lnTo>
                        <a:lnTo>
                          <a:pt x="31" y="284"/>
                        </a:lnTo>
                        <a:lnTo>
                          <a:pt x="110" y="293"/>
                        </a:lnTo>
                        <a:lnTo>
                          <a:pt x="117" y="334"/>
                        </a:lnTo>
                        <a:lnTo>
                          <a:pt x="110" y="375"/>
                        </a:lnTo>
                        <a:lnTo>
                          <a:pt x="53" y="429"/>
                        </a:lnTo>
                        <a:lnTo>
                          <a:pt x="18" y="429"/>
                        </a:lnTo>
                        <a:lnTo>
                          <a:pt x="77" y="451"/>
                        </a:lnTo>
                        <a:lnTo>
                          <a:pt x="115" y="456"/>
                        </a:lnTo>
                        <a:lnTo>
                          <a:pt x="90" y="501"/>
                        </a:lnTo>
                        <a:lnTo>
                          <a:pt x="49" y="546"/>
                        </a:lnTo>
                        <a:lnTo>
                          <a:pt x="115" y="591"/>
                        </a:lnTo>
                        <a:lnTo>
                          <a:pt x="115" y="699"/>
                        </a:lnTo>
                        <a:lnTo>
                          <a:pt x="84" y="813"/>
                        </a:lnTo>
                        <a:lnTo>
                          <a:pt x="121" y="843"/>
                        </a:lnTo>
                        <a:lnTo>
                          <a:pt x="53" y="866"/>
                        </a:lnTo>
                        <a:lnTo>
                          <a:pt x="128" y="880"/>
                        </a:lnTo>
                        <a:lnTo>
                          <a:pt x="38" y="916"/>
                        </a:lnTo>
                        <a:lnTo>
                          <a:pt x="132" y="930"/>
                        </a:lnTo>
                        <a:lnTo>
                          <a:pt x="70" y="957"/>
                        </a:lnTo>
                        <a:lnTo>
                          <a:pt x="38" y="979"/>
                        </a:lnTo>
                        <a:lnTo>
                          <a:pt x="104" y="979"/>
                        </a:lnTo>
                        <a:lnTo>
                          <a:pt x="163" y="971"/>
                        </a:lnTo>
                        <a:lnTo>
                          <a:pt x="150" y="871"/>
                        </a:lnTo>
                        <a:lnTo>
                          <a:pt x="135" y="790"/>
                        </a:lnTo>
                        <a:lnTo>
                          <a:pt x="139" y="667"/>
                        </a:lnTo>
                        <a:lnTo>
                          <a:pt x="135" y="506"/>
                        </a:lnTo>
                        <a:lnTo>
                          <a:pt x="141" y="380"/>
                        </a:lnTo>
                        <a:lnTo>
                          <a:pt x="135" y="222"/>
                        </a:lnTo>
                        <a:lnTo>
                          <a:pt x="125" y="149"/>
                        </a:lnTo>
                        <a:lnTo>
                          <a:pt x="125" y="73"/>
                        </a:lnTo>
                        <a:lnTo>
                          <a:pt x="11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100"/>
                <p:cNvGrpSpPr/>
                <p:nvPr/>
              </p:nvGrpSpPr>
              <p:grpSpPr>
                <a:xfrm>
                  <a:off x="5791320" y="4648320"/>
                  <a:ext cx="1799280" cy="1958040"/>
                  <a:chOff x="5791320" y="4648320"/>
                  <a:chExt cx="1799280" cy="1958040"/>
                </a:xfrm>
              </p:grpSpPr>
              <p:sp>
                <p:nvSpPr>
                  <p:cNvPr id="498" name="Freeform 101"/>
                  <p:cNvSpPr/>
                  <p:nvPr/>
                </p:nvSpPr>
                <p:spPr>
                  <a:xfrm>
                    <a:off x="6723360" y="4648320"/>
                    <a:ext cx="867240" cy="532800"/>
                  </a:xfrm>
                  <a:custGeom>
                    <a:avLst/>
                    <a:gdLst>
                      <a:gd name="textAreaLeft" fmla="*/ 0 w 867240"/>
                      <a:gd name="textAreaRight" fmla="*/ 867600 w 867240"/>
                      <a:gd name="textAreaTop" fmla="*/ 0 h 532800"/>
                      <a:gd name="textAreaBottom" fmla="*/ 533160 h 532800"/>
                    </a:gdLst>
                    <a:ahLst/>
                    <a:rect l="textAreaLeft" t="textAreaTop" r="textAreaRight" b="textAreaBottom"/>
                    <a:pathLst>
                      <a:path w="657" h="758">
                        <a:moveTo>
                          <a:pt x="525" y="117"/>
                        </a:moveTo>
                        <a:lnTo>
                          <a:pt x="476" y="216"/>
                        </a:lnTo>
                        <a:lnTo>
                          <a:pt x="421" y="306"/>
                        </a:lnTo>
                        <a:lnTo>
                          <a:pt x="331" y="396"/>
                        </a:lnTo>
                        <a:lnTo>
                          <a:pt x="241" y="469"/>
                        </a:lnTo>
                        <a:lnTo>
                          <a:pt x="117" y="541"/>
                        </a:lnTo>
                        <a:lnTo>
                          <a:pt x="0" y="568"/>
                        </a:lnTo>
                        <a:lnTo>
                          <a:pt x="7" y="586"/>
                        </a:lnTo>
                        <a:lnTo>
                          <a:pt x="110" y="577"/>
                        </a:lnTo>
                        <a:lnTo>
                          <a:pt x="69" y="630"/>
                        </a:lnTo>
                        <a:lnTo>
                          <a:pt x="27" y="667"/>
                        </a:lnTo>
                        <a:lnTo>
                          <a:pt x="82" y="649"/>
                        </a:lnTo>
                        <a:lnTo>
                          <a:pt x="137" y="586"/>
                        </a:lnTo>
                        <a:lnTo>
                          <a:pt x="130" y="641"/>
                        </a:lnTo>
                        <a:lnTo>
                          <a:pt x="89" y="694"/>
                        </a:lnTo>
                        <a:lnTo>
                          <a:pt x="40" y="749"/>
                        </a:lnTo>
                        <a:lnTo>
                          <a:pt x="69" y="749"/>
                        </a:lnTo>
                        <a:lnTo>
                          <a:pt x="137" y="676"/>
                        </a:lnTo>
                        <a:lnTo>
                          <a:pt x="172" y="613"/>
                        </a:lnTo>
                        <a:lnTo>
                          <a:pt x="152" y="694"/>
                        </a:lnTo>
                        <a:lnTo>
                          <a:pt x="104" y="758"/>
                        </a:lnTo>
                        <a:lnTo>
                          <a:pt x="172" y="703"/>
                        </a:lnTo>
                        <a:lnTo>
                          <a:pt x="207" y="641"/>
                        </a:lnTo>
                        <a:lnTo>
                          <a:pt x="214" y="667"/>
                        </a:lnTo>
                        <a:lnTo>
                          <a:pt x="207" y="721"/>
                        </a:lnTo>
                        <a:lnTo>
                          <a:pt x="227" y="721"/>
                        </a:lnTo>
                        <a:lnTo>
                          <a:pt x="256" y="658"/>
                        </a:lnTo>
                        <a:lnTo>
                          <a:pt x="276" y="649"/>
                        </a:lnTo>
                        <a:lnTo>
                          <a:pt x="269" y="703"/>
                        </a:lnTo>
                        <a:lnTo>
                          <a:pt x="256" y="730"/>
                        </a:lnTo>
                        <a:lnTo>
                          <a:pt x="283" y="730"/>
                        </a:lnTo>
                        <a:lnTo>
                          <a:pt x="311" y="667"/>
                        </a:lnTo>
                        <a:lnTo>
                          <a:pt x="338" y="613"/>
                        </a:lnTo>
                        <a:lnTo>
                          <a:pt x="331" y="667"/>
                        </a:lnTo>
                        <a:lnTo>
                          <a:pt x="311" y="703"/>
                        </a:lnTo>
                        <a:lnTo>
                          <a:pt x="353" y="676"/>
                        </a:lnTo>
                        <a:lnTo>
                          <a:pt x="386" y="550"/>
                        </a:lnTo>
                        <a:lnTo>
                          <a:pt x="394" y="595"/>
                        </a:lnTo>
                        <a:lnTo>
                          <a:pt x="380" y="649"/>
                        </a:lnTo>
                        <a:lnTo>
                          <a:pt x="366" y="685"/>
                        </a:lnTo>
                        <a:lnTo>
                          <a:pt x="386" y="703"/>
                        </a:lnTo>
                        <a:lnTo>
                          <a:pt x="415" y="649"/>
                        </a:lnTo>
                        <a:lnTo>
                          <a:pt x="428" y="595"/>
                        </a:lnTo>
                        <a:lnTo>
                          <a:pt x="435" y="641"/>
                        </a:lnTo>
                        <a:lnTo>
                          <a:pt x="421" y="667"/>
                        </a:lnTo>
                        <a:lnTo>
                          <a:pt x="435" y="685"/>
                        </a:lnTo>
                        <a:lnTo>
                          <a:pt x="450" y="641"/>
                        </a:lnTo>
                        <a:lnTo>
                          <a:pt x="470" y="595"/>
                        </a:lnTo>
                        <a:lnTo>
                          <a:pt x="505" y="504"/>
                        </a:lnTo>
                        <a:lnTo>
                          <a:pt x="511" y="531"/>
                        </a:lnTo>
                        <a:lnTo>
                          <a:pt x="505" y="595"/>
                        </a:lnTo>
                        <a:lnTo>
                          <a:pt x="490" y="658"/>
                        </a:lnTo>
                        <a:lnTo>
                          <a:pt x="511" y="658"/>
                        </a:lnTo>
                        <a:lnTo>
                          <a:pt x="525" y="586"/>
                        </a:lnTo>
                        <a:lnTo>
                          <a:pt x="538" y="495"/>
                        </a:lnTo>
                        <a:lnTo>
                          <a:pt x="553" y="559"/>
                        </a:lnTo>
                        <a:lnTo>
                          <a:pt x="553" y="604"/>
                        </a:lnTo>
                        <a:lnTo>
                          <a:pt x="573" y="559"/>
                        </a:lnTo>
                        <a:lnTo>
                          <a:pt x="567" y="486"/>
                        </a:lnTo>
                        <a:lnTo>
                          <a:pt x="580" y="423"/>
                        </a:lnTo>
                        <a:lnTo>
                          <a:pt x="595" y="522"/>
                        </a:lnTo>
                        <a:lnTo>
                          <a:pt x="595" y="577"/>
                        </a:lnTo>
                        <a:lnTo>
                          <a:pt x="608" y="550"/>
                        </a:lnTo>
                        <a:lnTo>
                          <a:pt x="615" y="469"/>
                        </a:lnTo>
                        <a:lnTo>
                          <a:pt x="615" y="369"/>
                        </a:lnTo>
                        <a:lnTo>
                          <a:pt x="615" y="297"/>
                        </a:lnTo>
                        <a:lnTo>
                          <a:pt x="635" y="360"/>
                        </a:lnTo>
                        <a:lnTo>
                          <a:pt x="629" y="423"/>
                        </a:lnTo>
                        <a:lnTo>
                          <a:pt x="650" y="433"/>
                        </a:lnTo>
                        <a:lnTo>
                          <a:pt x="657" y="369"/>
                        </a:lnTo>
                        <a:lnTo>
                          <a:pt x="650" y="261"/>
                        </a:lnTo>
                        <a:lnTo>
                          <a:pt x="622" y="162"/>
                        </a:lnTo>
                        <a:lnTo>
                          <a:pt x="615" y="98"/>
                        </a:lnTo>
                        <a:lnTo>
                          <a:pt x="615" y="0"/>
                        </a:lnTo>
                        <a:lnTo>
                          <a:pt x="525" y="11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Freeform 102"/>
                  <p:cNvSpPr/>
                  <p:nvPr/>
                </p:nvSpPr>
                <p:spPr>
                  <a:xfrm>
                    <a:off x="6549120" y="4888440"/>
                    <a:ext cx="967320" cy="543960"/>
                  </a:xfrm>
                  <a:custGeom>
                    <a:avLst/>
                    <a:gdLst>
                      <a:gd name="textAreaLeft" fmla="*/ 0 w 967320"/>
                      <a:gd name="textAreaRight" fmla="*/ 967680 w 967320"/>
                      <a:gd name="textAreaTop" fmla="*/ 0 h 543960"/>
                      <a:gd name="textAreaBottom" fmla="*/ 544320 h 543960"/>
                    </a:gdLst>
                    <a:ahLst/>
                    <a:rect l="textAreaLeft" t="textAreaTop" r="textAreaRight" b="textAreaBottom"/>
                    <a:pathLst>
                      <a:path w="732" h="774">
                        <a:moveTo>
                          <a:pt x="586" y="118"/>
                        </a:moveTo>
                        <a:lnTo>
                          <a:pt x="532" y="220"/>
                        </a:lnTo>
                        <a:lnTo>
                          <a:pt x="470" y="312"/>
                        </a:lnTo>
                        <a:lnTo>
                          <a:pt x="370" y="406"/>
                        </a:lnTo>
                        <a:lnTo>
                          <a:pt x="269" y="478"/>
                        </a:lnTo>
                        <a:lnTo>
                          <a:pt x="131" y="552"/>
                        </a:lnTo>
                        <a:lnTo>
                          <a:pt x="0" y="579"/>
                        </a:lnTo>
                        <a:lnTo>
                          <a:pt x="7" y="599"/>
                        </a:lnTo>
                        <a:lnTo>
                          <a:pt x="124" y="590"/>
                        </a:lnTo>
                        <a:lnTo>
                          <a:pt x="77" y="644"/>
                        </a:lnTo>
                        <a:lnTo>
                          <a:pt x="30" y="682"/>
                        </a:lnTo>
                        <a:lnTo>
                          <a:pt x="93" y="664"/>
                        </a:lnTo>
                        <a:lnTo>
                          <a:pt x="153" y="599"/>
                        </a:lnTo>
                        <a:lnTo>
                          <a:pt x="147" y="655"/>
                        </a:lnTo>
                        <a:lnTo>
                          <a:pt x="101" y="709"/>
                        </a:lnTo>
                        <a:lnTo>
                          <a:pt x="46" y="765"/>
                        </a:lnTo>
                        <a:lnTo>
                          <a:pt x="77" y="765"/>
                        </a:lnTo>
                        <a:lnTo>
                          <a:pt x="153" y="691"/>
                        </a:lnTo>
                        <a:lnTo>
                          <a:pt x="192" y="626"/>
                        </a:lnTo>
                        <a:lnTo>
                          <a:pt x="170" y="709"/>
                        </a:lnTo>
                        <a:lnTo>
                          <a:pt x="116" y="774"/>
                        </a:lnTo>
                        <a:lnTo>
                          <a:pt x="192" y="719"/>
                        </a:lnTo>
                        <a:lnTo>
                          <a:pt x="230" y="655"/>
                        </a:lnTo>
                        <a:lnTo>
                          <a:pt x="238" y="682"/>
                        </a:lnTo>
                        <a:lnTo>
                          <a:pt x="230" y="737"/>
                        </a:lnTo>
                        <a:lnTo>
                          <a:pt x="253" y="737"/>
                        </a:lnTo>
                        <a:lnTo>
                          <a:pt x="285" y="673"/>
                        </a:lnTo>
                        <a:lnTo>
                          <a:pt x="308" y="664"/>
                        </a:lnTo>
                        <a:lnTo>
                          <a:pt x="302" y="719"/>
                        </a:lnTo>
                        <a:lnTo>
                          <a:pt x="285" y="747"/>
                        </a:lnTo>
                        <a:lnTo>
                          <a:pt x="316" y="747"/>
                        </a:lnTo>
                        <a:lnTo>
                          <a:pt x="347" y="682"/>
                        </a:lnTo>
                        <a:lnTo>
                          <a:pt x="378" y="626"/>
                        </a:lnTo>
                        <a:lnTo>
                          <a:pt x="370" y="682"/>
                        </a:lnTo>
                        <a:lnTo>
                          <a:pt x="347" y="719"/>
                        </a:lnTo>
                        <a:lnTo>
                          <a:pt x="393" y="691"/>
                        </a:lnTo>
                        <a:lnTo>
                          <a:pt x="431" y="561"/>
                        </a:lnTo>
                        <a:lnTo>
                          <a:pt x="439" y="608"/>
                        </a:lnTo>
                        <a:lnTo>
                          <a:pt x="424" y="664"/>
                        </a:lnTo>
                        <a:lnTo>
                          <a:pt x="408" y="700"/>
                        </a:lnTo>
                        <a:lnTo>
                          <a:pt x="431" y="719"/>
                        </a:lnTo>
                        <a:lnTo>
                          <a:pt x="462" y="664"/>
                        </a:lnTo>
                        <a:lnTo>
                          <a:pt x="478" y="608"/>
                        </a:lnTo>
                        <a:lnTo>
                          <a:pt x="486" y="655"/>
                        </a:lnTo>
                        <a:lnTo>
                          <a:pt x="470" y="682"/>
                        </a:lnTo>
                        <a:lnTo>
                          <a:pt x="486" y="700"/>
                        </a:lnTo>
                        <a:lnTo>
                          <a:pt x="502" y="655"/>
                        </a:lnTo>
                        <a:lnTo>
                          <a:pt x="525" y="608"/>
                        </a:lnTo>
                        <a:lnTo>
                          <a:pt x="563" y="515"/>
                        </a:lnTo>
                        <a:lnTo>
                          <a:pt x="571" y="543"/>
                        </a:lnTo>
                        <a:lnTo>
                          <a:pt x="563" y="608"/>
                        </a:lnTo>
                        <a:lnTo>
                          <a:pt x="548" y="673"/>
                        </a:lnTo>
                        <a:lnTo>
                          <a:pt x="571" y="673"/>
                        </a:lnTo>
                        <a:lnTo>
                          <a:pt x="586" y="599"/>
                        </a:lnTo>
                        <a:lnTo>
                          <a:pt x="602" y="506"/>
                        </a:lnTo>
                        <a:lnTo>
                          <a:pt x="617" y="570"/>
                        </a:lnTo>
                        <a:lnTo>
                          <a:pt x="617" y="617"/>
                        </a:lnTo>
                        <a:lnTo>
                          <a:pt x="639" y="570"/>
                        </a:lnTo>
                        <a:lnTo>
                          <a:pt x="631" y="498"/>
                        </a:lnTo>
                        <a:lnTo>
                          <a:pt x="648" y="433"/>
                        </a:lnTo>
                        <a:lnTo>
                          <a:pt x="662" y="534"/>
                        </a:lnTo>
                        <a:lnTo>
                          <a:pt x="662" y="590"/>
                        </a:lnTo>
                        <a:lnTo>
                          <a:pt x="678" y="561"/>
                        </a:lnTo>
                        <a:lnTo>
                          <a:pt x="687" y="478"/>
                        </a:lnTo>
                        <a:lnTo>
                          <a:pt x="687" y="377"/>
                        </a:lnTo>
                        <a:lnTo>
                          <a:pt x="687" y="303"/>
                        </a:lnTo>
                        <a:lnTo>
                          <a:pt x="709" y="368"/>
                        </a:lnTo>
                        <a:lnTo>
                          <a:pt x="703" y="433"/>
                        </a:lnTo>
                        <a:lnTo>
                          <a:pt x="726" y="441"/>
                        </a:lnTo>
                        <a:lnTo>
                          <a:pt x="732" y="377"/>
                        </a:lnTo>
                        <a:lnTo>
                          <a:pt x="726" y="267"/>
                        </a:lnTo>
                        <a:lnTo>
                          <a:pt x="695" y="165"/>
                        </a:lnTo>
                        <a:lnTo>
                          <a:pt x="687" y="100"/>
                        </a:lnTo>
                        <a:lnTo>
                          <a:pt x="687" y="0"/>
                        </a:lnTo>
                        <a:lnTo>
                          <a:pt x="586" y="118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Freeform 103"/>
                  <p:cNvSpPr/>
                  <p:nvPr/>
                </p:nvSpPr>
                <p:spPr>
                  <a:xfrm>
                    <a:off x="6255000" y="5141520"/>
                    <a:ext cx="1244880" cy="597240"/>
                  </a:xfrm>
                  <a:custGeom>
                    <a:avLst/>
                    <a:gdLst>
                      <a:gd name="textAreaLeft" fmla="*/ 0 w 1244880"/>
                      <a:gd name="textAreaRight" fmla="*/ 1245240 w 1244880"/>
                      <a:gd name="textAreaTop" fmla="*/ 0 h 597240"/>
                      <a:gd name="textAreaBottom" fmla="*/ 597600 h 597240"/>
                    </a:gdLst>
                    <a:ahLst/>
                    <a:rect l="textAreaLeft" t="textAreaTop" r="textAreaRight" b="textAreaBottom"/>
                    <a:pathLst>
                      <a:path w="940" h="849">
                        <a:moveTo>
                          <a:pt x="751" y="130"/>
                        </a:moveTo>
                        <a:lnTo>
                          <a:pt x="681" y="242"/>
                        </a:lnTo>
                        <a:lnTo>
                          <a:pt x="602" y="343"/>
                        </a:lnTo>
                        <a:lnTo>
                          <a:pt x="474" y="446"/>
                        </a:lnTo>
                        <a:lnTo>
                          <a:pt x="345" y="525"/>
                        </a:lnTo>
                        <a:lnTo>
                          <a:pt x="167" y="606"/>
                        </a:lnTo>
                        <a:lnTo>
                          <a:pt x="0" y="637"/>
                        </a:lnTo>
                        <a:lnTo>
                          <a:pt x="8" y="657"/>
                        </a:lnTo>
                        <a:lnTo>
                          <a:pt x="158" y="648"/>
                        </a:lnTo>
                        <a:lnTo>
                          <a:pt x="97" y="707"/>
                        </a:lnTo>
                        <a:lnTo>
                          <a:pt x="38" y="749"/>
                        </a:lnTo>
                        <a:lnTo>
                          <a:pt x="117" y="728"/>
                        </a:lnTo>
                        <a:lnTo>
                          <a:pt x="195" y="657"/>
                        </a:lnTo>
                        <a:lnTo>
                          <a:pt x="187" y="720"/>
                        </a:lnTo>
                        <a:lnTo>
                          <a:pt x="128" y="778"/>
                        </a:lnTo>
                        <a:lnTo>
                          <a:pt x="58" y="839"/>
                        </a:lnTo>
                        <a:lnTo>
                          <a:pt x="97" y="839"/>
                        </a:lnTo>
                        <a:lnTo>
                          <a:pt x="195" y="758"/>
                        </a:lnTo>
                        <a:lnTo>
                          <a:pt x="247" y="688"/>
                        </a:lnTo>
                        <a:lnTo>
                          <a:pt x="217" y="778"/>
                        </a:lnTo>
                        <a:lnTo>
                          <a:pt x="147" y="849"/>
                        </a:lnTo>
                        <a:lnTo>
                          <a:pt x="247" y="790"/>
                        </a:lnTo>
                        <a:lnTo>
                          <a:pt x="295" y="720"/>
                        </a:lnTo>
                        <a:lnTo>
                          <a:pt x="306" y="749"/>
                        </a:lnTo>
                        <a:lnTo>
                          <a:pt x="295" y="809"/>
                        </a:lnTo>
                        <a:lnTo>
                          <a:pt x="325" y="809"/>
                        </a:lnTo>
                        <a:lnTo>
                          <a:pt x="365" y="739"/>
                        </a:lnTo>
                        <a:lnTo>
                          <a:pt x="393" y="728"/>
                        </a:lnTo>
                        <a:lnTo>
                          <a:pt x="385" y="790"/>
                        </a:lnTo>
                        <a:lnTo>
                          <a:pt x="365" y="820"/>
                        </a:lnTo>
                        <a:lnTo>
                          <a:pt x="404" y="820"/>
                        </a:lnTo>
                        <a:lnTo>
                          <a:pt x="444" y="749"/>
                        </a:lnTo>
                        <a:lnTo>
                          <a:pt x="485" y="688"/>
                        </a:lnTo>
                        <a:lnTo>
                          <a:pt x="474" y="749"/>
                        </a:lnTo>
                        <a:lnTo>
                          <a:pt x="444" y="790"/>
                        </a:lnTo>
                        <a:lnTo>
                          <a:pt x="504" y="758"/>
                        </a:lnTo>
                        <a:lnTo>
                          <a:pt x="553" y="616"/>
                        </a:lnTo>
                        <a:lnTo>
                          <a:pt x="563" y="667"/>
                        </a:lnTo>
                        <a:lnTo>
                          <a:pt x="544" y="728"/>
                        </a:lnTo>
                        <a:lnTo>
                          <a:pt x="523" y="768"/>
                        </a:lnTo>
                        <a:lnTo>
                          <a:pt x="553" y="790"/>
                        </a:lnTo>
                        <a:lnTo>
                          <a:pt x="593" y="728"/>
                        </a:lnTo>
                        <a:lnTo>
                          <a:pt x="613" y="667"/>
                        </a:lnTo>
                        <a:lnTo>
                          <a:pt x="622" y="720"/>
                        </a:lnTo>
                        <a:lnTo>
                          <a:pt x="602" y="749"/>
                        </a:lnTo>
                        <a:lnTo>
                          <a:pt x="622" y="768"/>
                        </a:lnTo>
                        <a:lnTo>
                          <a:pt x="642" y="720"/>
                        </a:lnTo>
                        <a:lnTo>
                          <a:pt x="673" y="667"/>
                        </a:lnTo>
                        <a:lnTo>
                          <a:pt x="722" y="565"/>
                        </a:lnTo>
                        <a:lnTo>
                          <a:pt x="731" y="597"/>
                        </a:lnTo>
                        <a:lnTo>
                          <a:pt x="722" y="667"/>
                        </a:lnTo>
                        <a:lnTo>
                          <a:pt x="702" y="739"/>
                        </a:lnTo>
                        <a:lnTo>
                          <a:pt x="731" y="739"/>
                        </a:lnTo>
                        <a:lnTo>
                          <a:pt x="751" y="657"/>
                        </a:lnTo>
                        <a:lnTo>
                          <a:pt x="772" y="555"/>
                        </a:lnTo>
                        <a:lnTo>
                          <a:pt x="790" y="625"/>
                        </a:lnTo>
                        <a:lnTo>
                          <a:pt x="790" y="676"/>
                        </a:lnTo>
                        <a:lnTo>
                          <a:pt x="820" y="625"/>
                        </a:lnTo>
                        <a:lnTo>
                          <a:pt x="811" y="546"/>
                        </a:lnTo>
                        <a:lnTo>
                          <a:pt x="831" y="474"/>
                        </a:lnTo>
                        <a:lnTo>
                          <a:pt x="851" y="587"/>
                        </a:lnTo>
                        <a:lnTo>
                          <a:pt x="851" y="648"/>
                        </a:lnTo>
                        <a:lnTo>
                          <a:pt x="871" y="616"/>
                        </a:lnTo>
                        <a:lnTo>
                          <a:pt x="879" y="525"/>
                        </a:lnTo>
                        <a:lnTo>
                          <a:pt x="879" y="414"/>
                        </a:lnTo>
                        <a:lnTo>
                          <a:pt x="879" y="332"/>
                        </a:lnTo>
                        <a:lnTo>
                          <a:pt x="909" y="404"/>
                        </a:lnTo>
                        <a:lnTo>
                          <a:pt x="899" y="474"/>
                        </a:lnTo>
                        <a:lnTo>
                          <a:pt x="930" y="484"/>
                        </a:lnTo>
                        <a:lnTo>
                          <a:pt x="940" y="414"/>
                        </a:lnTo>
                        <a:lnTo>
                          <a:pt x="930" y="293"/>
                        </a:lnTo>
                        <a:lnTo>
                          <a:pt x="890" y="181"/>
                        </a:lnTo>
                        <a:lnTo>
                          <a:pt x="879" y="109"/>
                        </a:lnTo>
                        <a:lnTo>
                          <a:pt x="879" y="0"/>
                        </a:lnTo>
                        <a:lnTo>
                          <a:pt x="751" y="13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Freeform 104"/>
                  <p:cNvSpPr/>
                  <p:nvPr/>
                </p:nvSpPr>
                <p:spPr>
                  <a:xfrm>
                    <a:off x="6001560" y="5428440"/>
                    <a:ext cx="1462680" cy="677160"/>
                  </a:xfrm>
                  <a:custGeom>
                    <a:avLst/>
                    <a:gdLst>
                      <a:gd name="textAreaLeft" fmla="*/ 0 w 1462680"/>
                      <a:gd name="textAreaRight" fmla="*/ 1463040 w 1462680"/>
                      <a:gd name="textAreaTop" fmla="*/ 0 h 677160"/>
                      <a:gd name="textAreaBottom" fmla="*/ 677520 h 677160"/>
                    </a:gdLst>
                    <a:ahLst/>
                    <a:rect l="textAreaLeft" t="textAreaTop" r="textAreaRight" b="textAreaBottom"/>
                    <a:pathLst>
                      <a:path w="1107" h="966">
                        <a:moveTo>
                          <a:pt x="1010" y="73"/>
                        </a:moveTo>
                        <a:lnTo>
                          <a:pt x="865" y="252"/>
                        </a:lnTo>
                        <a:lnTo>
                          <a:pt x="622" y="415"/>
                        </a:lnTo>
                        <a:lnTo>
                          <a:pt x="457" y="478"/>
                        </a:lnTo>
                        <a:lnTo>
                          <a:pt x="325" y="515"/>
                        </a:lnTo>
                        <a:lnTo>
                          <a:pt x="117" y="559"/>
                        </a:lnTo>
                        <a:lnTo>
                          <a:pt x="56" y="586"/>
                        </a:lnTo>
                        <a:lnTo>
                          <a:pt x="69" y="595"/>
                        </a:lnTo>
                        <a:lnTo>
                          <a:pt x="186" y="586"/>
                        </a:lnTo>
                        <a:lnTo>
                          <a:pt x="152" y="650"/>
                        </a:lnTo>
                        <a:lnTo>
                          <a:pt x="89" y="722"/>
                        </a:lnTo>
                        <a:lnTo>
                          <a:pt x="0" y="758"/>
                        </a:lnTo>
                        <a:lnTo>
                          <a:pt x="62" y="758"/>
                        </a:lnTo>
                        <a:lnTo>
                          <a:pt x="173" y="694"/>
                        </a:lnTo>
                        <a:lnTo>
                          <a:pt x="138" y="758"/>
                        </a:lnTo>
                        <a:lnTo>
                          <a:pt x="97" y="813"/>
                        </a:lnTo>
                        <a:lnTo>
                          <a:pt x="34" y="866"/>
                        </a:lnTo>
                        <a:lnTo>
                          <a:pt x="76" y="875"/>
                        </a:lnTo>
                        <a:lnTo>
                          <a:pt x="194" y="758"/>
                        </a:lnTo>
                        <a:lnTo>
                          <a:pt x="243" y="694"/>
                        </a:lnTo>
                        <a:lnTo>
                          <a:pt x="201" y="831"/>
                        </a:lnTo>
                        <a:lnTo>
                          <a:pt x="166" y="911"/>
                        </a:lnTo>
                        <a:lnTo>
                          <a:pt x="131" y="966"/>
                        </a:lnTo>
                        <a:lnTo>
                          <a:pt x="166" y="966"/>
                        </a:lnTo>
                        <a:lnTo>
                          <a:pt x="214" y="848"/>
                        </a:lnTo>
                        <a:lnTo>
                          <a:pt x="298" y="704"/>
                        </a:lnTo>
                        <a:lnTo>
                          <a:pt x="311" y="794"/>
                        </a:lnTo>
                        <a:lnTo>
                          <a:pt x="298" y="866"/>
                        </a:lnTo>
                        <a:lnTo>
                          <a:pt x="276" y="939"/>
                        </a:lnTo>
                        <a:lnTo>
                          <a:pt x="325" y="884"/>
                        </a:lnTo>
                        <a:lnTo>
                          <a:pt x="338" y="803"/>
                        </a:lnTo>
                        <a:lnTo>
                          <a:pt x="346" y="685"/>
                        </a:lnTo>
                        <a:lnTo>
                          <a:pt x="373" y="749"/>
                        </a:lnTo>
                        <a:lnTo>
                          <a:pt x="366" y="884"/>
                        </a:lnTo>
                        <a:lnTo>
                          <a:pt x="353" y="957"/>
                        </a:lnTo>
                        <a:lnTo>
                          <a:pt x="395" y="893"/>
                        </a:lnTo>
                        <a:lnTo>
                          <a:pt x="401" y="813"/>
                        </a:lnTo>
                        <a:lnTo>
                          <a:pt x="415" y="911"/>
                        </a:lnTo>
                        <a:lnTo>
                          <a:pt x="435" y="813"/>
                        </a:lnTo>
                        <a:lnTo>
                          <a:pt x="477" y="685"/>
                        </a:lnTo>
                        <a:lnTo>
                          <a:pt x="492" y="749"/>
                        </a:lnTo>
                        <a:lnTo>
                          <a:pt x="477" y="866"/>
                        </a:lnTo>
                        <a:lnTo>
                          <a:pt x="443" y="930"/>
                        </a:lnTo>
                        <a:lnTo>
                          <a:pt x="512" y="857"/>
                        </a:lnTo>
                        <a:lnTo>
                          <a:pt x="519" y="749"/>
                        </a:lnTo>
                        <a:lnTo>
                          <a:pt x="547" y="614"/>
                        </a:lnTo>
                        <a:lnTo>
                          <a:pt x="554" y="713"/>
                        </a:lnTo>
                        <a:lnTo>
                          <a:pt x="547" y="866"/>
                        </a:lnTo>
                        <a:lnTo>
                          <a:pt x="512" y="939"/>
                        </a:lnTo>
                        <a:lnTo>
                          <a:pt x="574" y="884"/>
                        </a:lnTo>
                        <a:lnTo>
                          <a:pt x="609" y="722"/>
                        </a:lnTo>
                        <a:lnTo>
                          <a:pt x="609" y="794"/>
                        </a:lnTo>
                        <a:lnTo>
                          <a:pt x="602" y="857"/>
                        </a:lnTo>
                        <a:lnTo>
                          <a:pt x="644" y="822"/>
                        </a:lnTo>
                        <a:lnTo>
                          <a:pt x="644" y="785"/>
                        </a:lnTo>
                        <a:lnTo>
                          <a:pt x="706" y="659"/>
                        </a:lnTo>
                        <a:lnTo>
                          <a:pt x="788" y="577"/>
                        </a:lnTo>
                        <a:lnTo>
                          <a:pt x="768" y="659"/>
                        </a:lnTo>
                        <a:lnTo>
                          <a:pt x="747" y="694"/>
                        </a:lnTo>
                        <a:lnTo>
                          <a:pt x="788" y="694"/>
                        </a:lnTo>
                        <a:lnTo>
                          <a:pt x="809" y="605"/>
                        </a:lnTo>
                        <a:lnTo>
                          <a:pt x="836" y="559"/>
                        </a:lnTo>
                        <a:lnTo>
                          <a:pt x="906" y="442"/>
                        </a:lnTo>
                        <a:lnTo>
                          <a:pt x="878" y="533"/>
                        </a:lnTo>
                        <a:lnTo>
                          <a:pt x="871" y="595"/>
                        </a:lnTo>
                        <a:lnTo>
                          <a:pt x="836" y="641"/>
                        </a:lnTo>
                        <a:lnTo>
                          <a:pt x="871" y="650"/>
                        </a:lnTo>
                        <a:lnTo>
                          <a:pt x="920" y="541"/>
                        </a:lnTo>
                        <a:lnTo>
                          <a:pt x="955" y="451"/>
                        </a:lnTo>
                        <a:lnTo>
                          <a:pt x="997" y="370"/>
                        </a:lnTo>
                        <a:lnTo>
                          <a:pt x="982" y="469"/>
                        </a:lnTo>
                        <a:lnTo>
                          <a:pt x="962" y="533"/>
                        </a:lnTo>
                        <a:lnTo>
                          <a:pt x="1010" y="506"/>
                        </a:lnTo>
                        <a:lnTo>
                          <a:pt x="1023" y="352"/>
                        </a:lnTo>
                        <a:lnTo>
                          <a:pt x="1045" y="451"/>
                        </a:lnTo>
                        <a:lnTo>
                          <a:pt x="1072" y="289"/>
                        </a:lnTo>
                        <a:lnTo>
                          <a:pt x="1107" y="280"/>
                        </a:lnTo>
                        <a:lnTo>
                          <a:pt x="1058" y="217"/>
                        </a:lnTo>
                        <a:lnTo>
                          <a:pt x="1093" y="0"/>
                        </a:lnTo>
                        <a:lnTo>
                          <a:pt x="1010" y="73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105"/>
                  <p:cNvSpPr/>
                  <p:nvPr/>
                </p:nvSpPr>
                <p:spPr>
                  <a:xfrm>
                    <a:off x="5891040" y="5674320"/>
                    <a:ext cx="1525320" cy="709560"/>
                  </a:xfrm>
                  <a:custGeom>
                    <a:avLst/>
                    <a:gdLst>
                      <a:gd name="textAreaLeft" fmla="*/ 0 w 1525320"/>
                      <a:gd name="textAreaRight" fmla="*/ 1525680 w 1525320"/>
                      <a:gd name="textAreaTop" fmla="*/ 0 h 709560"/>
                      <a:gd name="textAreaBottom" fmla="*/ 709920 h 709560"/>
                    </a:gdLst>
                    <a:ahLst/>
                    <a:rect l="textAreaLeft" t="textAreaTop" r="textAreaRight" b="textAreaBottom"/>
                    <a:pathLst>
                      <a:path w="1154" h="1010">
                        <a:moveTo>
                          <a:pt x="1054" y="75"/>
                        </a:moveTo>
                        <a:lnTo>
                          <a:pt x="902" y="263"/>
                        </a:lnTo>
                        <a:lnTo>
                          <a:pt x="649" y="433"/>
                        </a:lnTo>
                        <a:lnTo>
                          <a:pt x="476" y="499"/>
                        </a:lnTo>
                        <a:lnTo>
                          <a:pt x="339" y="537"/>
                        </a:lnTo>
                        <a:lnTo>
                          <a:pt x="122" y="586"/>
                        </a:lnTo>
                        <a:lnTo>
                          <a:pt x="58" y="614"/>
                        </a:lnTo>
                        <a:lnTo>
                          <a:pt x="71" y="622"/>
                        </a:lnTo>
                        <a:lnTo>
                          <a:pt x="195" y="614"/>
                        </a:lnTo>
                        <a:lnTo>
                          <a:pt x="157" y="680"/>
                        </a:lnTo>
                        <a:lnTo>
                          <a:pt x="93" y="755"/>
                        </a:lnTo>
                        <a:lnTo>
                          <a:pt x="0" y="792"/>
                        </a:lnTo>
                        <a:lnTo>
                          <a:pt x="64" y="792"/>
                        </a:lnTo>
                        <a:lnTo>
                          <a:pt x="180" y="727"/>
                        </a:lnTo>
                        <a:lnTo>
                          <a:pt x="144" y="792"/>
                        </a:lnTo>
                        <a:lnTo>
                          <a:pt x="101" y="849"/>
                        </a:lnTo>
                        <a:lnTo>
                          <a:pt x="36" y="905"/>
                        </a:lnTo>
                        <a:lnTo>
                          <a:pt x="78" y="915"/>
                        </a:lnTo>
                        <a:lnTo>
                          <a:pt x="202" y="792"/>
                        </a:lnTo>
                        <a:lnTo>
                          <a:pt x="253" y="727"/>
                        </a:lnTo>
                        <a:lnTo>
                          <a:pt x="209" y="868"/>
                        </a:lnTo>
                        <a:lnTo>
                          <a:pt x="172" y="954"/>
                        </a:lnTo>
                        <a:lnTo>
                          <a:pt x="136" y="1010"/>
                        </a:lnTo>
                        <a:lnTo>
                          <a:pt x="172" y="1010"/>
                        </a:lnTo>
                        <a:lnTo>
                          <a:pt x="223" y="887"/>
                        </a:lnTo>
                        <a:lnTo>
                          <a:pt x="309" y="736"/>
                        </a:lnTo>
                        <a:lnTo>
                          <a:pt x="324" y="830"/>
                        </a:lnTo>
                        <a:lnTo>
                          <a:pt x="309" y="905"/>
                        </a:lnTo>
                        <a:lnTo>
                          <a:pt x="288" y="982"/>
                        </a:lnTo>
                        <a:lnTo>
                          <a:pt x="339" y="924"/>
                        </a:lnTo>
                        <a:lnTo>
                          <a:pt x="353" y="839"/>
                        </a:lnTo>
                        <a:lnTo>
                          <a:pt x="361" y="717"/>
                        </a:lnTo>
                        <a:lnTo>
                          <a:pt x="389" y="783"/>
                        </a:lnTo>
                        <a:lnTo>
                          <a:pt x="381" y="924"/>
                        </a:lnTo>
                        <a:lnTo>
                          <a:pt x="367" y="999"/>
                        </a:lnTo>
                        <a:lnTo>
                          <a:pt x="410" y="933"/>
                        </a:lnTo>
                        <a:lnTo>
                          <a:pt x="419" y="849"/>
                        </a:lnTo>
                        <a:lnTo>
                          <a:pt x="432" y="954"/>
                        </a:lnTo>
                        <a:lnTo>
                          <a:pt x="454" y="849"/>
                        </a:lnTo>
                        <a:lnTo>
                          <a:pt x="498" y="717"/>
                        </a:lnTo>
                        <a:lnTo>
                          <a:pt x="511" y="783"/>
                        </a:lnTo>
                        <a:lnTo>
                          <a:pt x="498" y="905"/>
                        </a:lnTo>
                        <a:lnTo>
                          <a:pt x="462" y="971"/>
                        </a:lnTo>
                        <a:lnTo>
                          <a:pt x="534" y="896"/>
                        </a:lnTo>
                        <a:lnTo>
                          <a:pt x="541" y="783"/>
                        </a:lnTo>
                        <a:lnTo>
                          <a:pt x="569" y="642"/>
                        </a:lnTo>
                        <a:lnTo>
                          <a:pt x="576" y="746"/>
                        </a:lnTo>
                        <a:lnTo>
                          <a:pt x="569" y="905"/>
                        </a:lnTo>
                        <a:lnTo>
                          <a:pt x="534" y="982"/>
                        </a:lnTo>
                        <a:lnTo>
                          <a:pt x="599" y="924"/>
                        </a:lnTo>
                        <a:lnTo>
                          <a:pt x="635" y="755"/>
                        </a:lnTo>
                        <a:lnTo>
                          <a:pt x="635" y="830"/>
                        </a:lnTo>
                        <a:lnTo>
                          <a:pt x="627" y="896"/>
                        </a:lnTo>
                        <a:lnTo>
                          <a:pt x="670" y="858"/>
                        </a:lnTo>
                        <a:lnTo>
                          <a:pt x="670" y="821"/>
                        </a:lnTo>
                        <a:lnTo>
                          <a:pt x="735" y="689"/>
                        </a:lnTo>
                        <a:lnTo>
                          <a:pt x="822" y="603"/>
                        </a:lnTo>
                        <a:lnTo>
                          <a:pt x="801" y="689"/>
                        </a:lnTo>
                        <a:lnTo>
                          <a:pt x="779" y="727"/>
                        </a:lnTo>
                        <a:lnTo>
                          <a:pt x="822" y="727"/>
                        </a:lnTo>
                        <a:lnTo>
                          <a:pt x="844" y="631"/>
                        </a:lnTo>
                        <a:lnTo>
                          <a:pt x="872" y="586"/>
                        </a:lnTo>
                        <a:lnTo>
                          <a:pt x="945" y="462"/>
                        </a:lnTo>
                        <a:lnTo>
                          <a:pt x="917" y="556"/>
                        </a:lnTo>
                        <a:lnTo>
                          <a:pt x="910" y="622"/>
                        </a:lnTo>
                        <a:lnTo>
                          <a:pt x="872" y="670"/>
                        </a:lnTo>
                        <a:lnTo>
                          <a:pt x="910" y="680"/>
                        </a:lnTo>
                        <a:lnTo>
                          <a:pt x="960" y="565"/>
                        </a:lnTo>
                        <a:lnTo>
                          <a:pt x="996" y="472"/>
                        </a:lnTo>
                        <a:lnTo>
                          <a:pt x="1039" y="387"/>
                        </a:lnTo>
                        <a:lnTo>
                          <a:pt x="1024" y="490"/>
                        </a:lnTo>
                        <a:lnTo>
                          <a:pt x="1003" y="556"/>
                        </a:lnTo>
                        <a:lnTo>
                          <a:pt x="1054" y="528"/>
                        </a:lnTo>
                        <a:lnTo>
                          <a:pt x="1067" y="366"/>
                        </a:lnTo>
                        <a:lnTo>
                          <a:pt x="1089" y="472"/>
                        </a:lnTo>
                        <a:lnTo>
                          <a:pt x="1119" y="300"/>
                        </a:lnTo>
                        <a:lnTo>
                          <a:pt x="1154" y="291"/>
                        </a:lnTo>
                        <a:lnTo>
                          <a:pt x="1104" y="225"/>
                        </a:lnTo>
                        <a:lnTo>
                          <a:pt x="1140" y="0"/>
                        </a:lnTo>
                        <a:lnTo>
                          <a:pt x="1054" y="75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Freeform 106"/>
                  <p:cNvSpPr/>
                  <p:nvPr/>
                </p:nvSpPr>
                <p:spPr>
                  <a:xfrm>
                    <a:off x="5791320" y="5936040"/>
                    <a:ext cx="1621800" cy="670320"/>
                  </a:xfrm>
                  <a:custGeom>
                    <a:avLst/>
                    <a:gdLst>
                      <a:gd name="textAreaLeft" fmla="*/ 0 w 1621800"/>
                      <a:gd name="textAreaRight" fmla="*/ 1622160 w 1621800"/>
                      <a:gd name="textAreaTop" fmla="*/ 0 h 670320"/>
                      <a:gd name="textAreaBottom" fmla="*/ 670680 h 670320"/>
                    </a:gdLst>
                    <a:ahLst/>
                    <a:rect l="textAreaLeft" t="textAreaTop" r="textAreaRight" b="textAreaBottom"/>
                    <a:pathLst>
                      <a:path w="1228" h="954">
                        <a:moveTo>
                          <a:pt x="983" y="145"/>
                        </a:moveTo>
                        <a:lnTo>
                          <a:pt x="892" y="272"/>
                        </a:lnTo>
                        <a:lnTo>
                          <a:pt x="789" y="385"/>
                        </a:lnTo>
                        <a:lnTo>
                          <a:pt x="621" y="501"/>
                        </a:lnTo>
                        <a:lnTo>
                          <a:pt x="453" y="591"/>
                        </a:lnTo>
                        <a:lnTo>
                          <a:pt x="217" y="683"/>
                        </a:lnTo>
                        <a:lnTo>
                          <a:pt x="0" y="716"/>
                        </a:lnTo>
                        <a:lnTo>
                          <a:pt x="11" y="740"/>
                        </a:lnTo>
                        <a:lnTo>
                          <a:pt x="206" y="729"/>
                        </a:lnTo>
                        <a:lnTo>
                          <a:pt x="127" y="795"/>
                        </a:lnTo>
                        <a:lnTo>
                          <a:pt x="49" y="842"/>
                        </a:lnTo>
                        <a:lnTo>
                          <a:pt x="154" y="819"/>
                        </a:lnTo>
                        <a:lnTo>
                          <a:pt x="256" y="740"/>
                        </a:lnTo>
                        <a:lnTo>
                          <a:pt x="245" y="809"/>
                        </a:lnTo>
                        <a:lnTo>
                          <a:pt x="169" y="875"/>
                        </a:lnTo>
                        <a:lnTo>
                          <a:pt x="77" y="944"/>
                        </a:lnTo>
                        <a:lnTo>
                          <a:pt x="127" y="944"/>
                        </a:lnTo>
                        <a:lnTo>
                          <a:pt x="256" y="854"/>
                        </a:lnTo>
                        <a:lnTo>
                          <a:pt x="322" y="773"/>
                        </a:lnTo>
                        <a:lnTo>
                          <a:pt x="285" y="875"/>
                        </a:lnTo>
                        <a:lnTo>
                          <a:pt x="193" y="954"/>
                        </a:lnTo>
                        <a:lnTo>
                          <a:pt x="322" y="889"/>
                        </a:lnTo>
                        <a:lnTo>
                          <a:pt x="387" y="809"/>
                        </a:lnTo>
                        <a:lnTo>
                          <a:pt x="400" y="842"/>
                        </a:lnTo>
                        <a:lnTo>
                          <a:pt x="387" y="911"/>
                        </a:lnTo>
                        <a:lnTo>
                          <a:pt x="426" y="911"/>
                        </a:lnTo>
                        <a:lnTo>
                          <a:pt x="478" y="832"/>
                        </a:lnTo>
                        <a:lnTo>
                          <a:pt x="516" y="819"/>
                        </a:lnTo>
                        <a:lnTo>
                          <a:pt x="505" y="889"/>
                        </a:lnTo>
                        <a:lnTo>
                          <a:pt x="478" y="921"/>
                        </a:lnTo>
                        <a:lnTo>
                          <a:pt x="530" y="921"/>
                        </a:lnTo>
                        <a:lnTo>
                          <a:pt x="582" y="842"/>
                        </a:lnTo>
                        <a:lnTo>
                          <a:pt x="635" y="773"/>
                        </a:lnTo>
                        <a:lnTo>
                          <a:pt x="621" y="842"/>
                        </a:lnTo>
                        <a:lnTo>
                          <a:pt x="582" y="889"/>
                        </a:lnTo>
                        <a:lnTo>
                          <a:pt x="659" y="854"/>
                        </a:lnTo>
                        <a:lnTo>
                          <a:pt x="723" y="693"/>
                        </a:lnTo>
                        <a:lnTo>
                          <a:pt x="738" y="752"/>
                        </a:lnTo>
                        <a:lnTo>
                          <a:pt x="713" y="819"/>
                        </a:lnTo>
                        <a:lnTo>
                          <a:pt x="684" y="865"/>
                        </a:lnTo>
                        <a:lnTo>
                          <a:pt x="723" y="889"/>
                        </a:lnTo>
                        <a:lnTo>
                          <a:pt x="776" y="819"/>
                        </a:lnTo>
                        <a:lnTo>
                          <a:pt x="803" y="752"/>
                        </a:lnTo>
                        <a:lnTo>
                          <a:pt x="815" y="809"/>
                        </a:lnTo>
                        <a:lnTo>
                          <a:pt x="789" y="842"/>
                        </a:lnTo>
                        <a:lnTo>
                          <a:pt x="815" y="865"/>
                        </a:lnTo>
                        <a:lnTo>
                          <a:pt x="842" y="809"/>
                        </a:lnTo>
                        <a:lnTo>
                          <a:pt x="881" y="752"/>
                        </a:lnTo>
                        <a:lnTo>
                          <a:pt x="944" y="636"/>
                        </a:lnTo>
                        <a:lnTo>
                          <a:pt x="958" y="671"/>
                        </a:lnTo>
                        <a:lnTo>
                          <a:pt x="944" y="752"/>
                        </a:lnTo>
                        <a:lnTo>
                          <a:pt x="920" y="832"/>
                        </a:lnTo>
                        <a:lnTo>
                          <a:pt x="958" y="832"/>
                        </a:lnTo>
                        <a:lnTo>
                          <a:pt x="983" y="740"/>
                        </a:lnTo>
                        <a:lnTo>
                          <a:pt x="1011" y="626"/>
                        </a:lnTo>
                        <a:lnTo>
                          <a:pt x="1036" y="705"/>
                        </a:lnTo>
                        <a:lnTo>
                          <a:pt x="1036" y="762"/>
                        </a:lnTo>
                        <a:lnTo>
                          <a:pt x="1075" y="705"/>
                        </a:lnTo>
                        <a:lnTo>
                          <a:pt x="1060" y="613"/>
                        </a:lnTo>
                        <a:lnTo>
                          <a:pt x="1088" y="534"/>
                        </a:lnTo>
                        <a:lnTo>
                          <a:pt x="1114" y="660"/>
                        </a:lnTo>
                        <a:lnTo>
                          <a:pt x="1114" y="729"/>
                        </a:lnTo>
                        <a:lnTo>
                          <a:pt x="1139" y="693"/>
                        </a:lnTo>
                        <a:lnTo>
                          <a:pt x="1152" y="591"/>
                        </a:lnTo>
                        <a:lnTo>
                          <a:pt x="1152" y="465"/>
                        </a:lnTo>
                        <a:lnTo>
                          <a:pt x="1152" y="375"/>
                        </a:lnTo>
                        <a:lnTo>
                          <a:pt x="1191" y="454"/>
                        </a:lnTo>
                        <a:lnTo>
                          <a:pt x="1180" y="534"/>
                        </a:lnTo>
                        <a:lnTo>
                          <a:pt x="1217" y="545"/>
                        </a:lnTo>
                        <a:lnTo>
                          <a:pt x="1228" y="465"/>
                        </a:lnTo>
                        <a:lnTo>
                          <a:pt x="1217" y="329"/>
                        </a:lnTo>
                        <a:lnTo>
                          <a:pt x="1165" y="203"/>
                        </a:lnTo>
                        <a:lnTo>
                          <a:pt x="1152" y="124"/>
                        </a:lnTo>
                        <a:lnTo>
                          <a:pt x="1152" y="0"/>
                        </a:lnTo>
                        <a:lnTo>
                          <a:pt x="983" y="145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Freeform 107"/>
                  <p:cNvSpPr/>
                  <p:nvPr/>
                </p:nvSpPr>
                <p:spPr>
                  <a:xfrm>
                    <a:off x="6917760" y="4689000"/>
                    <a:ext cx="570600" cy="361440"/>
                  </a:xfrm>
                  <a:custGeom>
                    <a:avLst/>
                    <a:gdLst>
                      <a:gd name="textAreaLeft" fmla="*/ 0 w 570600"/>
                      <a:gd name="textAreaRight" fmla="*/ 570960 w 570600"/>
                      <a:gd name="textAreaTop" fmla="*/ 0 h 361440"/>
                      <a:gd name="textAreaBottom" fmla="*/ 361800 h 361440"/>
                    </a:gdLst>
                    <a:ahLst/>
                    <a:rect l="textAreaLeft" t="textAreaTop" r="textAreaRight" b="textAreaBottom"/>
                    <a:pathLst>
                      <a:path w="432" h="513">
                        <a:moveTo>
                          <a:pt x="432" y="0"/>
                        </a:moveTo>
                        <a:lnTo>
                          <a:pt x="388" y="67"/>
                        </a:lnTo>
                        <a:lnTo>
                          <a:pt x="350" y="166"/>
                        </a:lnTo>
                        <a:lnTo>
                          <a:pt x="256" y="301"/>
                        </a:lnTo>
                        <a:lnTo>
                          <a:pt x="166" y="364"/>
                        </a:lnTo>
                        <a:lnTo>
                          <a:pt x="66" y="459"/>
                        </a:lnTo>
                        <a:lnTo>
                          <a:pt x="0" y="486"/>
                        </a:lnTo>
                        <a:lnTo>
                          <a:pt x="38" y="486"/>
                        </a:lnTo>
                        <a:lnTo>
                          <a:pt x="128" y="441"/>
                        </a:lnTo>
                        <a:lnTo>
                          <a:pt x="104" y="513"/>
                        </a:lnTo>
                        <a:lnTo>
                          <a:pt x="159" y="405"/>
                        </a:lnTo>
                        <a:lnTo>
                          <a:pt x="190" y="392"/>
                        </a:lnTo>
                        <a:lnTo>
                          <a:pt x="176" y="450"/>
                        </a:lnTo>
                        <a:lnTo>
                          <a:pt x="225" y="360"/>
                        </a:lnTo>
                        <a:lnTo>
                          <a:pt x="293" y="278"/>
                        </a:lnTo>
                        <a:lnTo>
                          <a:pt x="284" y="342"/>
                        </a:lnTo>
                        <a:lnTo>
                          <a:pt x="333" y="225"/>
                        </a:lnTo>
                        <a:lnTo>
                          <a:pt x="335" y="270"/>
                        </a:lnTo>
                        <a:lnTo>
                          <a:pt x="357" y="184"/>
                        </a:lnTo>
                        <a:lnTo>
                          <a:pt x="405" y="94"/>
                        </a:lnTo>
                        <a:lnTo>
                          <a:pt x="432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Freeform 108"/>
                  <p:cNvSpPr/>
                  <p:nvPr/>
                </p:nvSpPr>
                <p:spPr>
                  <a:xfrm>
                    <a:off x="6735240" y="5090760"/>
                    <a:ext cx="499680" cy="23184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31840"/>
                      <a:gd name="textAreaBottom" fmla="*/ 232200 h 231840"/>
                    </a:gdLst>
                    <a:ahLst/>
                    <a:rect l="textAreaLeft" t="textAreaTop" r="textAreaRight" b="textAreaBottom"/>
                    <a:pathLst>
                      <a:path w="377" h="330">
                        <a:moveTo>
                          <a:pt x="377" y="0"/>
                        </a:moveTo>
                        <a:lnTo>
                          <a:pt x="305" y="82"/>
                        </a:lnTo>
                        <a:lnTo>
                          <a:pt x="222" y="154"/>
                        </a:lnTo>
                        <a:lnTo>
                          <a:pt x="139" y="204"/>
                        </a:lnTo>
                        <a:lnTo>
                          <a:pt x="49" y="263"/>
                        </a:lnTo>
                        <a:lnTo>
                          <a:pt x="0" y="281"/>
                        </a:lnTo>
                        <a:lnTo>
                          <a:pt x="39" y="281"/>
                        </a:lnTo>
                        <a:lnTo>
                          <a:pt x="22" y="330"/>
                        </a:lnTo>
                        <a:lnTo>
                          <a:pt x="73" y="277"/>
                        </a:lnTo>
                        <a:lnTo>
                          <a:pt x="80" y="312"/>
                        </a:lnTo>
                        <a:lnTo>
                          <a:pt x="128" y="240"/>
                        </a:lnTo>
                        <a:lnTo>
                          <a:pt x="128" y="295"/>
                        </a:lnTo>
                        <a:lnTo>
                          <a:pt x="181" y="204"/>
                        </a:lnTo>
                        <a:lnTo>
                          <a:pt x="222" y="181"/>
                        </a:lnTo>
                        <a:lnTo>
                          <a:pt x="247" y="181"/>
                        </a:lnTo>
                        <a:lnTo>
                          <a:pt x="218" y="254"/>
                        </a:lnTo>
                        <a:lnTo>
                          <a:pt x="260" y="195"/>
                        </a:lnTo>
                        <a:lnTo>
                          <a:pt x="267" y="140"/>
                        </a:lnTo>
                        <a:lnTo>
                          <a:pt x="313" y="100"/>
                        </a:lnTo>
                        <a:lnTo>
                          <a:pt x="377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Freeform 109"/>
                  <p:cNvSpPr/>
                  <p:nvPr/>
                </p:nvSpPr>
                <p:spPr>
                  <a:xfrm>
                    <a:off x="6477120" y="5388840"/>
                    <a:ext cx="583200" cy="23184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231840"/>
                      <a:gd name="textAreaBottom" fmla="*/ 232200 h 231840"/>
                    </a:gdLst>
                    <a:ahLst/>
                    <a:rect l="textAreaLeft" t="textAreaTop" r="textAreaRight" b="textAreaBottom"/>
                    <a:pathLst>
                      <a:path w="443" h="330">
                        <a:moveTo>
                          <a:pt x="443" y="0"/>
                        </a:moveTo>
                        <a:lnTo>
                          <a:pt x="357" y="91"/>
                        </a:lnTo>
                        <a:lnTo>
                          <a:pt x="276" y="146"/>
                        </a:lnTo>
                        <a:lnTo>
                          <a:pt x="165" y="199"/>
                        </a:lnTo>
                        <a:lnTo>
                          <a:pt x="103" y="236"/>
                        </a:lnTo>
                        <a:lnTo>
                          <a:pt x="0" y="267"/>
                        </a:lnTo>
                        <a:lnTo>
                          <a:pt x="59" y="272"/>
                        </a:lnTo>
                        <a:lnTo>
                          <a:pt x="55" y="321"/>
                        </a:lnTo>
                        <a:lnTo>
                          <a:pt x="86" y="249"/>
                        </a:lnTo>
                        <a:lnTo>
                          <a:pt x="103" y="330"/>
                        </a:lnTo>
                        <a:lnTo>
                          <a:pt x="121" y="249"/>
                        </a:lnTo>
                        <a:lnTo>
                          <a:pt x="231" y="190"/>
                        </a:lnTo>
                        <a:lnTo>
                          <a:pt x="231" y="272"/>
                        </a:lnTo>
                        <a:lnTo>
                          <a:pt x="260" y="186"/>
                        </a:lnTo>
                        <a:lnTo>
                          <a:pt x="352" y="123"/>
                        </a:lnTo>
                        <a:lnTo>
                          <a:pt x="443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Freeform 110"/>
                  <p:cNvSpPr/>
                  <p:nvPr/>
                </p:nvSpPr>
                <p:spPr>
                  <a:xfrm>
                    <a:off x="6215400" y="5721840"/>
                    <a:ext cx="677520" cy="171360"/>
                  </a:xfrm>
                  <a:custGeom>
                    <a:avLst/>
                    <a:gdLst>
                      <a:gd name="textAreaLeft" fmla="*/ 0 w 677520"/>
                      <a:gd name="textAreaRight" fmla="*/ 677880 w 6775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513" h="245">
                        <a:moveTo>
                          <a:pt x="0" y="145"/>
                        </a:moveTo>
                        <a:lnTo>
                          <a:pt x="163" y="128"/>
                        </a:lnTo>
                        <a:lnTo>
                          <a:pt x="270" y="91"/>
                        </a:lnTo>
                        <a:lnTo>
                          <a:pt x="425" y="23"/>
                        </a:lnTo>
                        <a:lnTo>
                          <a:pt x="513" y="0"/>
                        </a:lnTo>
                        <a:lnTo>
                          <a:pt x="429" y="41"/>
                        </a:lnTo>
                        <a:lnTo>
                          <a:pt x="346" y="78"/>
                        </a:lnTo>
                        <a:lnTo>
                          <a:pt x="336" y="167"/>
                        </a:lnTo>
                        <a:lnTo>
                          <a:pt x="332" y="73"/>
                        </a:lnTo>
                        <a:lnTo>
                          <a:pt x="253" y="117"/>
                        </a:lnTo>
                        <a:lnTo>
                          <a:pt x="235" y="245"/>
                        </a:lnTo>
                        <a:lnTo>
                          <a:pt x="235" y="128"/>
                        </a:lnTo>
                        <a:lnTo>
                          <a:pt x="143" y="149"/>
                        </a:lnTo>
                        <a:lnTo>
                          <a:pt x="105" y="208"/>
                        </a:lnTo>
                        <a:lnTo>
                          <a:pt x="118" y="149"/>
                        </a:lnTo>
                        <a:lnTo>
                          <a:pt x="46" y="213"/>
                        </a:lnTo>
                        <a:lnTo>
                          <a:pt x="77" y="149"/>
                        </a:lnTo>
                        <a:lnTo>
                          <a:pt x="0" y="145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Freeform 111"/>
                  <p:cNvSpPr/>
                  <p:nvPr/>
                </p:nvSpPr>
                <p:spPr>
                  <a:xfrm>
                    <a:off x="6108480" y="5956920"/>
                    <a:ext cx="761400" cy="214560"/>
                  </a:xfrm>
                  <a:custGeom>
                    <a:avLst/>
                    <a:gdLst>
                      <a:gd name="textAreaLeft" fmla="*/ 0 w 761400"/>
                      <a:gd name="textAreaRight" fmla="*/ 761760 w 761400"/>
                      <a:gd name="textAreaTop" fmla="*/ 0 h 214560"/>
                      <a:gd name="textAreaBottom" fmla="*/ 214920 h 214560"/>
                    </a:gdLst>
                    <a:ahLst/>
                    <a:rect l="textAreaLeft" t="textAreaTop" r="textAreaRight" b="textAreaBottom"/>
                    <a:pathLst>
                      <a:path w="575" h="307">
                        <a:moveTo>
                          <a:pt x="0" y="190"/>
                        </a:moveTo>
                        <a:lnTo>
                          <a:pt x="119" y="172"/>
                        </a:lnTo>
                        <a:lnTo>
                          <a:pt x="260" y="140"/>
                        </a:lnTo>
                        <a:lnTo>
                          <a:pt x="447" y="78"/>
                        </a:lnTo>
                        <a:lnTo>
                          <a:pt x="575" y="0"/>
                        </a:lnTo>
                        <a:lnTo>
                          <a:pt x="434" y="113"/>
                        </a:lnTo>
                        <a:lnTo>
                          <a:pt x="368" y="195"/>
                        </a:lnTo>
                        <a:lnTo>
                          <a:pt x="313" y="276"/>
                        </a:lnTo>
                        <a:lnTo>
                          <a:pt x="353" y="177"/>
                        </a:lnTo>
                        <a:lnTo>
                          <a:pt x="381" y="131"/>
                        </a:lnTo>
                        <a:lnTo>
                          <a:pt x="280" y="186"/>
                        </a:lnTo>
                        <a:lnTo>
                          <a:pt x="260" y="239"/>
                        </a:lnTo>
                        <a:lnTo>
                          <a:pt x="232" y="298"/>
                        </a:lnTo>
                        <a:lnTo>
                          <a:pt x="260" y="186"/>
                        </a:lnTo>
                        <a:lnTo>
                          <a:pt x="219" y="195"/>
                        </a:lnTo>
                        <a:lnTo>
                          <a:pt x="198" y="244"/>
                        </a:lnTo>
                        <a:lnTo>
                          <a:pt x="181" y="294"/>
                        </a:lnTo>
                        <a:lnTo>
                          <a:pt x="205" y="186"/>
                        </a:lnTo>
                        <a:lnTo>
                          <a:pt x="88" y="199"/>
                        </a:lnTo>
                        <a:lnTo>
                          <a:pt x="49" y="307"/>
                        </a:lnTo>
                        <a:lnTo>
                          <a:pt x="77" y="213"/>
                        </a:lnTo>
                        <a:lnTo>
                          <a:pt x="0" y="19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Freeform 112"/>
                  <p:cNvSpPr/>
                  <p:nvPr/>
                </p:nvSpPr>
                <p:spPr>
                  <a:xfrm>
                    <a:off x="5918760" y="6246360"/>
                    <a:ext cx="847440" cy="233280"/>
                  </a:xfrm>
                  <a:custGeom>
                    <a:avLst/>
                    <a:gdLst>
                      <a:gd name="textAreaLeft" fmla="*/ 0 w 847440"/>
                      <a:gd name="textAreaRight" fmla="*/ 847800 w 84744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644" h="334">
                        <a:moveTo>
                          <a:pt x="644" y="0"/>
                        </a:moveTo>
                        <a:lnTo>
                          <a:pt x="530" y="91"/>
                        </a:lnTo>
                        <a:lnTo>
                          <a:pt x="399" y="153"/>
                        </a:lnTo>
                        <a:lnTo>
                          <a:pt x="281" y="203"/>
                        </a:lnTo>
                        <a:lnTo>
                          <a:pt x="143" y="249"/>
                        </a:lnTo>
                        <a:lnTo>
                          <a:pt x="0" y="266"/>
                        </a:lnTo>
                        <a:lnTo>
                          <a:pt x="145" y="266"/>
                        </a:lnTo>
                        <a:lnTo>
                          <a:pt x="108" y="298"/>
                        </a:lnTo>
                        <a:lnTo>
                          <a:pt x="180" y="257"/>
                        </a:lnTo>
                        <a:lnTo>
                          <a:pt x="267" y="229"/>
                        </a:lnTo>
                        <a:lnTo>
                          <a:pt x="198" y="284"/>
                        </a:lnTo>
                        <a:lnTo>
                          <a:pt x="267" y="252"/>
                        </a:lnTo>
                        <a:lnTo>
                          <a:pt x="330" y="208"/>
                        </a:lnTo>
                        <a:lnTo>
                          <a:pt x="315" y="275"/>
                        </a:lnTo>
                        <a:lnTo>
                          <a:pt x="253" y="334"/>
                        </a:lnTo>
                        <a:lnTo>
                          <a:pt x="346" y="266"/>
                        </a:lnTo>
                        <a:lnTo>
                          <a:pt x="374" y="203"/>
                        </a:lnTo>
                        <a:lnTo>
                          <a:pt x="489" y="131"/>
                        </a:lnTo>
                        <a:lnTo>
                          <a:pt x="644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Group 113"/>
                <p:cNvGrpSpPr/>
                <p:nvPr/>
              </p:nvGrpSpPr>
              <p:grpSpPr>
                <a:xfrm>
                  <a:off x="7472880" y="4648320"/>
                  <a:ext cx="1669320" cy="1970280"/>
                  <a:chOff x="7472880" y="4648320"/>
                  <a:chExt cx="1669320" cy="1970280"/>
                </a:xfrm>
              </p:grpSpPr>
              <p:sp>
                <p:nvSpPr>
                  <p:cNvPr id="511" name="Freeform 114"/>
                  <p:cNvSpPr/>
                  <p:nvPr/>
                </p:nvSpPr>
                <p:spPr>
                  <a:xfrm>
                    <a:off x="7472880" y="4648320"/>
                    <a:ext cx="804600" cy="535320"/>
                  </a:xfrm>
                  <a:custGeom>
                    <a:avLst/>
                    <a:gdLst>
                      <a:gd name="textAreaLeft" fmla="*/ 0 w 804600"/>
                      <a:gd name="textAreaRight" fmla="*/ 804960 w 804600"/>
                      <a:gd name="textAreaTop" fmla="*/ 0 h 535320"/>
                      <a:gd name="textAreaBottom" fmla="*/ 535680 h 535320"/>
                    </a:gdLst>
                    <a:ahLst/>
                    <a:rect l="textAreaLeft" t="textAreaTop" r="textAreaRight" b="textAreaBottom"/>
                    <a:pathLst>
                      <a:path w="610" h="762">
                        <a:moveTo>
                          <a:pt x="121" y="117"/>
                        </a:moveTo>
                        <a:lnTo>
                          <a:pt x="165" y="218"/>
                        </a:lnTo>
                        <a:lnTo>
                          <a:pt x="218" y="308"/>
                        </a:lnTo>
                        <a:lnTo>
                          <a:pt x="301" y="397"/>
                        </a:lnTo>
                        <a:lnTo>
                          <a:pt x="385" y="471"/>
                        </a:lnTo>
                        <a:lnTo>
                          <a:pt x="500" y="544"/>
                        </a:lnTo>
                        <a:lnTo>
                          <a:pt x="610" y="571"/>
                        </a:lnTo>
                        <a:lnTo>
                          <a:pt x="603" y="588"/>
                        </a:lnTo>
                        <a:lnTo>
                          <a:pt x="507" y="579"/>
                        </a:lnTo>
                        <a:lnTo>
                          <a:pt x="545" y="634"/>
                        </a:lnTo>
                        <a:lnTo>
                          <a:pt x="584" y="671"/>
                        </a:lnTo>
                        <a:lnTo>
                          <a:pt x="533" y="653"/>
                        </a:lnTo>
                        <a:lnTo>
                          <a:pt x="482" y="588"/>
                        </a:lnTo>
                        <a:lnTo>
                          <a:pt x="487" y="643"/>
                        </a:lnTo>
                        <a:lnTo>
                          <a:pt x="526" y="699"/>
                        </a:lnTo>
                        <a:lnTo>
                          <a:pt x="572" y="753"/>
                        </a:lnTo>
                        <a:lnTo>
                          <a:pt x="545" y="753"/>
                        </a:lnTo>
                        <a:lnTo>
                          <a:pt x="482" y="680"/>
                        </a:lnTo>
                        <a:lnTo>
                          <a:pt x="449" y="616"/>
                        </a:lnTo>
                        <a:lnTo>
                          <a:pt x="468" y="699"/>
                        </a:lnTo>
                        <a:lnTo>
                          <a:pt x="513" y="762"/>
                        </a:lnTo>
                        <a:lnTo>
                          <a:pt x="449" y="708"/>
                        </a:lnTo>
                        <a:lnTo>
                          <a:pt x="417" y="643"/>
                        </a:lnTo>
                        <a:lnTo>
                          <a:pt x="410" y="671"/>
                        </a:lnTo>
                        <a:lnTo>
                          <a:pt x="417" y="726"/>
                        </a:lnTo>
                        <a:lnTo>
                          <a:pt x="397" y="726"/>
                        </a:lnTo>
                        <a:lnTo>
                          <a:pt x="373" y="662"/>
                        </a:lnTo>
                        <a:lnTo>
                          <a:pt x="352" y="653"/>
                        </a:lnTo>
                        <a:lnTo>
                          <a:pt x="359" y="708"/>
                        </a:lnTo>
                        <a:lnTo>
                          <a:pt x="373" y="735"/>
                        </a:lnTo>
                        <a:lnTo>
                          <a:pt x="346" y="735"/>
                        </a:lnTo>
                        <a:lnTo>
                          <a:pt x="320" y="671"/>
                        </a:lnTo>
                        <a:lnTo>
                          <a:pt x="295" y="616"/>
                        </a:lnTo>
                        <a:lnTo>
                          <a:pt x="301" y="671"/>
                        </a:lnTo>
                        <a:lnTo>
                          <a:pt x="320" y="708"/>
                        </a:lnTo>
                        <a:lnTo>
                          <a:pt x="282" y="680"/>
                        </a:lnTo>
                        <a:lnTo>
                          <a:pt x="250" y="553"/>
                        </a:lnTo>
                        <a:lnTo>
                          <a:pt x="243" y="597"/>
                        </a:lnTo>
                        <a:lnTo>
                          <a:pt x="255" y="653"/>
                        </a:lnTo>
                        <a:lnTo>
                          <a:pt x="269" y="689"/>
                        </a:lnTo>
                        <a:lnTo>
                          <a:pt x="250" y="708"/>
                        </a:lnTo>
                        <a:lnTo>
                          <a:pt x="225" y="653"/>
                        </a:lnTo>
                        <a:lnTo>
                          <a:pt x="211" y="597"/>
                        </a:lnTo>
                        <a:lnTo>
                          <a:pt x="204" y="643"/>
                        </a:lnTo>
                        <a:lnTo>
                          <a:pt x="218" y="671"/>
                        </a:lnTo>
                        <a:lnTo>
                          <a:pt x="204" y="689"/>
                        </a:lnTo>
                        <a:lnTo>
                          <a:pt x="192" y="643"/>
                        </a:lnTo>
                        <a:lnTo>
                          <a:pt x="172" y="597"/>
                        </a:lnTo>
                        <a:lnTo>
                          <a:pt x="140" y="508"/>
                        </a:lnTo>
                        <a:lnTo>
                          <a:pt x="134" y="535"/>
                        </a:lnTo>
                        <a:lnTo>
                          <a:pt x="140" y="597"/>
                        </a:lnTo>
                        <a:lnTo>
                          <a:pt x="153" y="662"/>
                        </a:lnTo>
                        <a:lnTo>
                          <a:pt x="134" y="662"/>
                        </a:lnTo>
                        <a:lnTo>
                          <a:pt x="121" y="588"/>
                        </a:lnTo>
                        <a:lnTo>
                          <a:pt x="107" y="499"/>
                        </a:lnTo>
                        <a:lnTo>
                          <a:pt x="95" y="562"/>
                        </a:lnTo>
                        <a:lnTo>
                          <a:pt x="95" y="607"/>
                        </a:lnTo>
                        <a:lnTo>
                          <a:pt x="76" y="562"/>
                        </a:lnTo>
                        <a:lnTo>
                          <a:pt x="83" y="489"/>
                        </a:lnTo>
                        <a:lnTo>
                          <a:pt x="70" y="425"/>
                        </a:lnTo>
                        <a:lnTo>
                          <a:pt x="58" y="526"/>
                        </a:lnTo>
                        <a:lnTo>
                          <a:pt x="58" y="579"/>
                        </a:lnTo>
                        <a:lnTo>
                          <a:pt x="44" y="553"/>
                        </a:lnTo>
                        <a:lnTo>
                          <a:pt x="37" y="471"/>
                        </a:lnTo>
                        <a:lnTo>
                          <a:pt x="37" y="371"/>
                        </a:lnTo>
                        <a:lnTo>
                          <a:pt x="37" y="298"/>
                        </a:lnTo>
                        <a:lnTo>
                          <a:pt x="19" y="362"/>
                        </a:lnTo>
                        <a:lnTo>
                          <a:pt x="25" y="425"/>
                        </a:lnTo>
                        <a:lnTo>
                          <a:pt x="5" y="436"/>
                        </a:lnTo>
                        <a:lnTo>
                          <a:pt x="0" y="371"/>
                        </a:lnTo>
                        <a:lnTo>
                          <a:pt x="5" y="262"/>
                        </a:lnTo>
                        <a:lnTo>
                          <a:pt x="31" y="162"/>
                        </a:lnTo>
                        <a:lnTo>
                          <a:pt x="37" y="98"/>
                        </a:lnTo>
                        <a:lnTo>
                          <a:pt x="37" y="0"/>
                        </a:lnTo>
                        <a:lnTo>
                          <a:pt x="121" y="11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Freeform 115"/>
                  <p:cNvSpPr/>
                  <p:nvPr/>
                </p:nvSpPr>
                <p:spPr>
                  <a:xfrm>
                    <a:off x="7540200" y="4889880"/>
                    <a:ext cx="899640" cy="547920"/>
                  </a:xfrm>
                  <a:custGeom>
                    <a:avLst/>
                    <a:gdLst>
                      <a:gd name="textAreaLeft" fmla="*/ 0 w 899640"/>
                      <a:gd name="textAreaRight" fmla="*/ 900000 w 899640"/>
                      <a:gd name="textAreaTop" fmla="*/ 0 h 547920"/>
                      <a:gd name="textAreaBottom" fmla="*/ 548280 h 547920"/>
                    </a:gdLst>
                    <a:ahLst/>
                    <a:rect l="textAreaLeft" t="textAreaTop" r="textAreaRight" b="textAreaBottom"/>
                    <a:pathLst>
                      <a:path w="680" h="781">
                        <a:moveTo>
                          <a:pt x="136" y="120"/>
                        </a:moveTo>
                        <a:lnTo>
                          <a:pt x="186" y="223"/>
                        </a:lnTo>
                        <a:lnTo>
                          <a:pt x="243" y="316"/>
                        </a:lnTo>
                        <a:lnTo>
                          <a:pt x="337" y="409"/>
                        </a:lnTo>
                        <a:lnTo>
                          <a:pt x="430" y="483"/>
                        </a:lnTo>
                        <a:lnTo>
                          <a:pt x="559" y="558"/>
                        </a:lnTo>
                        <a:lnTo>
                          <a:pt x="680" y="584"/>
                        </a:lnTo>
                        <a:lnTo>
                          <a:pt x="673" y="605"/>
                        </a:lnTo>
                        <a:lnTo>
                          <a:pt x="564" y="595"/>
                        </a:lnTo>
                        <a:lnTo>
                          <a:pt x="610" y="649"/>
                        </a:lnTo>
                        <a:lnTo>
                          <a:pt x="652" y="688"/>
                        </a:lnTo>
                        <a:lnTo>
                          <a:pt x="594" y="668"/>
                        </a:lnTo>
                        <a:lnTo>
                          <a:pt x="537" y="605"/>
                        </a:lnTo>
                        <a:lnTo>
                          <a:pt x="544" y="660"/>
                        </a:lnTo>
                        <a:lnTo>
                          <a:pt x="586" y="714"/>
                        </a:lnTo>
                        <a:lnTo>
                          <a:pt x="637" y="772"/>
                        </a:lnTo>
                        <a:lnTo>
                          <a:pt x="610" y="772"/>
                        </a:lnTo>
                        <a:lnTo>
                          <a:pt x="537" y="696"/>
                        </a:lnTo>
                        <a:lnTo>
                          <a:pt x="501" y="632"/>
                        </a:lnTo>
                        <a:lnTo>
                          <a:pt x="521" y="714"/>
                        </a:lnTo>
                        <a:lnTo>
                          <a:pt x="572" y="781"/>
                        </a:lnTo>
                        <a:lnTo>
                          <a:pt x="501" y="724"/>
                        </a:lnTo>
                        <a:lnTo>
                          <a:pt x="466" y="660"/>
                        </a:lnTo>
                        <a:lnTo>
                          <a:pt x="458" y="688"/>
                        </a:lnTo>
                        <a:lnTo>
                          <a:pt x="466" y="744"/>
                        </a:lnTo>
                        <a:lnTo>
                          <a:pt x="444" y="744"/>
                        </a:lnTo>
                        <a:lnTo>
                          <a:pt x="415" y="677"/>
                        </a:lnTo>
                        <a:lnTo>
                          <a:pt x="393" y="668"/>
                        </a:lnTo>
                        <a:lnTo>
                          <a:pt x="400" y="724"/>
                        </a:lnTo>
                        <a:lnTo>
                          <a:pt x="415" y="752"/>
                        </a:lnTo>
                        <a:lnTo>
                          <a:pt x="385" y="752"/>
                        </a:lnTo>
                        <a:lnTo>
                          <a:pt x="357" y="688"/>
                        </a:lnTo>
                        <a:lnTo>
                          <a:pt x="329" y="632"/>
                        </a:lnTo>
                        <a:lnTo>
                          <a:pt x="337" y="688"/>
                        </a:lnTo>
                        <a:lnTo>
                          <a:pt x="357" y="724"/>
                        </a:lnTo>
                        <a:lnTo>
                          <a:pt x="314" y="696"/>
                        </a:lnTo>
                        <a:lnTo>
                          <a:pt x="279" y="567"/>
                        </a:lnTo>
                        <a:lnTo>
                          <a:pt x="272" y="614"/>
                        </a:lnTo>
                        <a:lnTo>
                          <a:pt x="286" y="668"/>
                        </a:lnTo>
                        <a:lnTo>
                          <a:pt x="300" y="705"/>
                        </a:lnTo>
                        <a:lnTo>
                          <a:pt x="279" y="724"/>
                        </a:lnTo>
                        <a:lnTo>
                          <a:pt x="249" y="668"/>
                        </a:lnTo>
                        <a:lnTo>
                          <a:pt x="234" y="614"/>
                        </a:lnTo>
                        <a:lnTo>
                          <a:pt x="229" y="660"/>
                        </a:lnTo>
                        <a:lnTo>
                          <a:pt x="243" y="688"/>
                        </a:lnTo>
                        <a:lnTo>
                          <a:pt x="229" y="705"/>
                        </a:lnTo>
                        <a:lnTo>
                          <a:pt x="214" y="660"/>
                        </a:lnTo>
                        <a:lnTo>
                          <a:pt x="193" y="614"/>
                        </a:lnTo>
                        <a:lnTo>
                          <a:pt x="158" y="518"/>
                        </a:lnTo>
                        <a:lnTo>
                          <a:pt x="150" y="549"/>
                        </a:lnTo>
                        <a:lnTo>
                          <a:pt x="158" y="614"/>
                        </a:lnTo>
                        <a:lnTo>
                          <a:pt x="171" y="677"/>
                        </a:lnTo>
                        <a:lnTo>
                          <a:pt x="150" y="677"/>
                        </a:lnTo>
                        <a:lnTo>
                          <a:pt x="136" y="605"/>
                        </a:lnTo>
                        <a:lnTo>
                          <a:pt x="120" y="509"/>
                        </a:lnTo>
                        <a:lnTo>
                          <a:pt x="107" y="575"/>
                        </a:lnTo>
                        <a:lnTo>
                          <a:pt x="107" y="623"/>
                        </a:lnTo>
                        <a:lnTo>
                          <a:pt x="85" y="575"/>
                        </a:lnTo>
                        <a:lnTo>
                          <a:pt x="93" y="500"/>
                        </a:lnTo>
                        <a:lnTo>
                          <a:pt x="78" y="435"/>
                        </a:lnTo>
                        <a:lnTo>
                          <a:pt x="63" y="540"/>
                        </a:lnTo>
                        <a:lnTo>
                          <a:pt x="63" y="595"/>
                        </a:lnTo>
                        <a:lnTo>
                          <a:pt x="49" y="567"/>
                        </a:lnTo>
                        <a:lnTo>
                          <a:pt x="42" y="483"/>
                        </a:lnTo>
                        <a:lnTo>
                          <a:pt x="42" y="381"/>
                        </a:lnTo>
                        <a:lnTo>
                          <a:pt x="42" y="307"/>
                        </a:lnTo>
                        <a:lnTo>
                          <a:pt x="22" y="372"/>
                        </a:lnTo>
                        <a:lnTo>
                          <a:pt x="27" y="435"/>
                        </a:lnTo>
                        <a:lnTo>
                          <a:pt x="7" y="444"/>
                        </a:lnTo>
                        <a:lnTo>
                          <a:pt x="0" y="381"/>
                        </a:lnTo>
                        <a:lnTo>
                          <a:pt x="7" y="269"/>
                        </a:lnTo>
                        <a:lnTo>
                          <a:pt x="35" y="167"/>
                        </a:lnTo>
                        <a:lnTo>
                          <a:pt x="42" y="102"/>
                        </a:lnTo>
                        <a:lnTo>
                          <a:pt x="42" y="0"/>
                        </a:lnTo>
                        <a:lnTo>
                          <a:pt x="136" y="12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Freeform 116"/>
                  <p:cNvSpPr/>
                  <p:nvPr/>
                </p:nvSpPr>
                <p:spPr>
                  <a:xfrm>
                    <a:off x="7556400" y="5145840"/>
                    <a:ext cx="1153440" cy="601560"/>
                  </a:xfrm>
                  <a:custGeom>
                    <a:avLst/>
                    <a:gdLst>
                      <a:gd name="textAreaLeft" fmla="*/ 0 w 1153440"/>
                      <a:gd name="textAreaRight" fmla="*/ 1153800 w 1153440"/>
                      <a:gd name="textAreaTop" fmla="*/ 0 h 601560"/>
                      <a:gd name="textAreaBottom" fmla="*/ 601920 h 601560"/>
                    </a:gdLst>
                    <a:ahLst/>
                    <a:rect l="textAreaLeft" t="textAreaTop" r="textAreaRight" b="textAreaBottom"/>
                    <a:pathLst>
                      <a:path w="873" h="856">
                        <a:moveTo>
                          <a:pt x="175" y="129"/>
                        </a:moveTo>
                        <a:lnTo>
                          <a:pt x="240" y="243"/>
                        </a:lnTo>
                        <a:lnTo>
                          <a:pt x="313" y="344"/>
                        </a:lnTo>
                        <a:lnTo>
                          <a:pt x="432" y="448"/>
                        </a:lnTo>
                        <a:lnTo>
                          <a:pt x="552" y="527"/>
                        </a:lnTo>
                        <a:lnTo>
                          <a:pt x="718" y="610"/>
                        </a:lnTo>
                        <a:lnTo>
                          <a:pt x="873" y="641"/>
                        </a:lnTo>
                        <a:lnTo>
                          <a:pt x="866" y="661"/>
                        </a:lnTo>
                        <a:lnTo>
                          <a:pt x="726" y="652"/>
                        </a:lnTo>
                        <a:lnTo>
                          <a:pt x="782" y="711"/>
                        </a:lnTo>
                        <a:lnTo>
                          <a:pt x="839" y="753"/>
                        </a:lnTo>
                        <a:lnTo>
                          <a:pt x="764" y="732"/>
                        </a:lnTo>
                        <a:lnTo>
                          <a:pt x="691" y="661"/>
                        </a:lnTo>
                        <a:lnTo>
                          <a:pt x="699" y="723"/>
                        </a:lnTo>
                        <a:lnTo>
                          <a:pt x="754" y="782"/>
                        </a:lnTo>
                        <a:lnTo>
                          <a:pt x="819" y="844"/>
                        </a:lnTo>
                        <a:lnTo>
                          <a:pt x="782" y="844"/>
                        </a:lnTo>
                        <a:lnTo>
                          <a:pt x="691" y="762"/>
                        </a:lnTo>
                        <a:lnTo>
                          <a:pt x="644" y="692"/>
                        </a:lnTo>
                        <a:lnTo>
                          <a:pt x="672" y="782"/>
                        </a:lnTo>
                        <a:lnTo>
                          <a:pt x="735" y="856"/>
                        </a:lnTo>
                        <a:lnTo>
                          <a:pt x="644" y="793"/>
                        </a:lnTo>
                        <a:lnTo>
                          <a:pt x="598" y="723"/>
                        </a:lnTo>
                        <a:lnTo>
                          <a:pt x="590" y="753"/>
                        </a:lnTo>
                        <a:lnTo>
                          <a:pt x="598" y="815"/>
                        </a:lnTo>
                        <a:lnTo>
                          <a:pt x="571" y="815"/>
                        </a:lnTo>
                        <a:lnTo>
                          <a:pt x="533" y="743"/>
                        </a:lnTo>
                        <a:lnTo>
                          <a:pt x="508" y="732"/>
                        </a:lnTo>
                        <a:lnTo>
                          <a:pt x="515" y="793"/>
                        </a:lnTo>
                        <a:lnTo>
                          <a:pt x="533" y="825"/>
                        </a:lnTo>
                        <a:lnTo>
                          <a:pt x="497" y="825"/>
                        </a:lnTo>
                        <a:lnTo>
                          <a:pt x="461" y="753"/>
                        </a:lnTo>
                        <a:lnTo>
                          <a:pt x="422" y="692"/>
                        </a:lnTo>
                        <a:lnTo>
                          <a:pt x="432" y="753"/>
                        </a:lnTo>
                        <a:lnTo>
                          <a:pt x="461" y="793"/>
                        </a:lnTo>
                        <a:lnTo>
                          <a:pt x="406" y="762"/>
                        </a:lnTo>
                        <a:lnTo>
                          <a:pt x="358" y="620"/>
                        </a:lnTo>
                        <a:lnTo>
                          <a:pt x="349" y="671"/>
                        </a:lnTo>
                        <a:lnTo>
                          <a:pt x="368" y="732"/>
                        </a:lnTo>
                        <a:lnTo>
                          <a:pt x="388" y="773"/>
                        </a:lnTo>
                        <a:lnTo>
                          <a:pt x="358" y="793"/>
                        </a:lnTo>
                        <a:lnTo>
                          <a:pt x="323" y="732"/>
                        </a:lnTo>
                        <a:lnTo>
                          <a:pt x="303" y="671"/>
                        </a:lnTo>
                        <a:lnTo>
                          <a:pt x="295" y="723"/>
                        </a:lnTo>
                        <a:lnTo>
                          <a:pt x="313" y="753"/>
                        </a:lnTo>
                        <a:lnTo>
                          <a:pt x="295" y="773"/>
                        </a:lnTo>
                        <a:lnTo>
                          <a:pt x="276" y="723"/>
                        </a:lnTo>
                        <a:lnTo>
                          <a:pt x="248" y="671"/>
                        </a:lnTo>
                        <a:lnTo>
                          <a:pt x="204" y="568"/>
                        </a:lnTo>
                        <a:lnTo>
                          <a:pt x="193" y="601"/>
                        </a:lnTo>
                        <a:lnTo>
                          <a:pt x="204" y="671"/>
                        </a:lnTo>
                        <a:lnTo>
                          <a:pt x="221" y="743"/>
                        </a:lnTo>
                        <a:lnTo>
                          <a:pt x="193" y="743"/>
                        </a:lnTo>
                        <a:lnTo>
                          <a:pt x="175" y="661"/>
                        </a:lnTo>
                        <a:lnTo>
                          <a:pt x="156" y="558"/>
                        </a:lnTo>
                        <a:lnTo>
                          <a:pt x="139" y="629"/>
                        </a:lnTo>
                        <a:lnTo>
                          <a:pt x="139" y="681"/>
                        </a:lnTo>
                        <a:lnTo>
                          <a:pt x="111" y="629"/>
                        </a:lnTo>
                        <a:lnTo>
                          <a:pt x="120" y="549"/>
                        </a:lnTo>
                        <a:lnTo>
                          <a:pt x="100" y="476"/>
                        </a:lnTo>
                        <a:lnTo>
                          <a:pt x="84" y="591"/>
                        </a:lnTo>
                        <a:lnTo>
                          <a:pt x="84" y="652"/>
                        </a:lnTo>
                        <a:lnTo>
                          <a:pt x="64" y="620"/>
                        </a:lnTo>
                        <a:lnTo>
                          <a:pt x="55" y="527"/>
                        </a:lnTo>
                        <a:lnTo>
                          <a:pt x="55" y="417"/>
                        </a:lnTo>
                        <a:lnTo>
                          <a:pt x="55" y="334"/>
                        </a:lnTo>
                        <a:lnTo>
                          <a:pt x="27" y="405"/>
                        </a:lnTo>
                        <a:lnTo>
                          <a:pt x="37" y="476"/>
                        </a:lnTo>
                        <a:lnTo>
                          <a:pt x="10" y="487"/>
                        </a:lnTo>
                        <a:lnTo>
                          <a:pt x="0" y="417"/>
                        </a:lnTo>
                        <a:lnTo>
                          <a:pt x="10" y="294"/>
                        </a:lnTo>
                        <a:lnTo>
                          <a:pt x="46" y="182"/>
                        </a:lnTo>
                        <a:lnTo>
                          <a:pt x="55" y="110"/>
                        </a:lnTo>
                        <a:lnTo>
                          <a:pt x="55" y="0"/>
                        </a:lnTo>
                        <a:lnTo>
                          <a:pt x="175" y="129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117"/>
                  <p:cNvSpPr/>
                  <p:nvPr/>
                </p:nvSpPr>
                <p:spPr>
                  <a:xfrm>
                    <a:off x="7591320" y="5432400"/>
                    <a:ext cx="1356480" cy="682920"/>
                  </a:xfrm>
                  <a:custGeom>
                    <a:avLst/>
                    <a:gdLst>
                      <a:gd name="textAreaLeft" fmla="*/ 0 w 1356480"/>
                      <a:gd name="textAreaRight" fmla="*/ 1356840 w 1356480"/>
                      <a:gd name="textAreaTop" fmla="*/ 0 h 682920"/>
                      <a:gd name="textAreaBottom" fmla="*/ 683280 h 682920"/>
                    </a:gdLst>
                    <a:ahLst/>
                    <a:rect l="textAreaLeft" t="textAreaTop" r="textAreaRight" b="textAreaBottom"/>
                    <a:pathLst>
                      <a:path w="1027" h="972">
                        <a:moveTo>
                          <a:pt x="90" y="71"/>
                        </a:moveTo>
                        <a:lnTo>
                          <a:pt x="225" y="253"/>
                        </a:lnTo>
                        <a:lnTo>
                          <a:pt x="450" y="418"/>
                        </a:lnTo>
                        <a:lnTo>
                          <a:pt x="603" y="481"/>
                        </a:lnTo>
                        <a:lnTo>
                          <a:pt x="724" y="517"/>
                        </a:lnTo>
                        <a:lnTo>
                          <a:pt x="918" y="561"/>
                        </a:lnTo>
                        <a:lnTo>
                          <a:pt x="976" y="589"/>
                        </a:lnTo>
                        <a:lnTo>
                          <a:pt x="964" y="598"/>
                        </a:lnTo>
                        <a:lnTo>
                          <a:pt x="853" y="589"/>
                        </a:lnTo>
                        <a:lnTo>
                          <a:pt x="886" y="653"/>
                        </a:lnTo>
                        <a:lnTo>
                          <a:pt x="944" y="726"/>
                        </a:lnTo>
                        <a:lnTo>
                          <a:pt x="1027" y="761"/>
                        </a:lnTo>
                        <a:lnTo>
                          <a:pt x="969" y="761"/>
                        </a:lnTo>
                        <a:lnTo>
                          <a:pt x="867" y="699"/>
                        </a:lnTo>
                        <a:lnTo>
                          <a:pt x="899" y="761"/>
                        </a:lnTo>
                        <a:lnTo>
                          <a:pt x="937" y="816"/>
                        </a:lnTo>
                        <a:lnTo>
                          <a:pt x="995" y="872"/>
                        </a:lnTo>
                        <a:lnTo>
                          <a:pt x="957" y="881"/>
                        </a:lnTo>
                        <a:lnTo>
                          <a:pt x="847" y="761"/>
                        </a:lnTo>
                        <a:lnTo>
                          <a:pt x="802" y="699"/>
                        </a:lnTo>
                        <a:lnTo>
                          <a:pt x="841" y="835"/>
                        </a:lnTo>
                        <a:lnTo>
                          <a:pt x="874" y="917"/>
                        </a:lnTo>
                        <a:lnTo>
                          <a:pt x="905" y="972"/>
                        </a:lnTo>
                        <a:lnTo>
                          <a:pt x="874" y="972"/>
                        </a:lnTo>
                        <a:lnTo>
                          <a:pt x="829" y="853"/>
                        </a:lnTo>
                        <a:lnTo>
                          <a:pt x="751" y="708"/>
                        </a:lnTo>
                        <a:lnTo>
                          <a:pt x="738" y="798"/>
                        </a:lnTo>
                        <a:lnTo>
                          <a:pt x="751" y="872"/>
                        </a:lnTo>
                        <a:lnTo>
                          <a:pt x="770" y="944"/>
                        </a:lnTo>
                        <a:lnTo>
                          <a:pt x="724" y="890"/>
                        </a:lnTo>
                        <a:lnTo>
                          <a:pt x="712" y="807"/>
                        </a:lnTo>
                        <a:lnTo>
                          <a:pt x="707" y="690"/>
                        </a:lnTo>
                        <a:lnTo>
                          <a:pt x="680" y="753"/>
                        </a:lnTo>
                        <a:lnTo>
                          <a:pt x="686" y="890"/>
                        </a:lnTo>
                        <a:lnTo>
                          <a:pt x="700" y="963"/>
                        </a:lnTo>
                        <a:lnTo>
                          <a:pt x="661" y="899"/>
                        </a:lnTo>
                        <a:lnTo>
                          <a:pt x="654" y="816"/>
                        </a:lnTo>
                        <a:lnTo>
                          <a:pt x="642" y="917"/>
                        </a:lnTo>
                        <a:lnTo>
                          <a:pt x="622" y="816"/>
                        </a:lnTo>
                        <a:lnTo>
                          <a:pt x="584" y="690"/>
                        </a:lnTo>
                        <a:lnTo>
                          <a:pt x="572" y="753"/>
                        </a:lnTo>
                        <a:lnTo>
                          <a:pt x="584" y="872"/>
                        </a:lnTo>
                        <a:lnTo>
                          <a:pt x="616" y="935"/>
                        </a:lnTo>
                        <a:lnTo>
                          <a:pt x="552" y="863"/>
                        </a:lnTo>
                        <a:lnTo>
                          <a:pt x="545" y="753"/>
                        </a:lnTo>
                        <a:lnTo>
                          <a:pt x="520" y="618"/>
                        </a:lnTo>
                        <a:lnTo>
                          <a:pt x="513" y="717"/>
                        </a:lnTo>
                        <a:lnTo>
                          <a:pt x="520" y="872"/>
                        </a:lnTo>
                        <a:lnTo>
                          <a:pt x="552" y="944"/>
                        </a:lnTo>
                        <a:lnTo>
                          <a:pt x="494" y="890"/>
                        </a:lnTo>
                        <a:lnTo>
                          <a:pt x="462" y="726"/>
                        </a:lnTo>
                        <a:lnTo>
                          <a:pt x="462" y="798"/>
                        </a:lnTo>
                        <a:lnTo>
                          <a:pt x="467" y="863"/>
                        </a:lnTo>
                        <a:lnTo>
                          <a:pt x="429" y="825"/>
                        </a:lnTo>
                        <a:lnTo>
                          <a:pt x="429" y="789"/>
                        </a:lnTo>
                        <a:lnTo>
                          <a:pt x="371" y="663"/>
                        </a:lnTo>
                        <a:lnTo>
                          <a:pt x="295" y="581"/>
                        </a:lnTo>
                        <a:lnTo>
                          <a:pt x="315" y="663"/>
                        </a:lnTo>
                        <a:lnTo>
                          <a:pt x="332" y="699"/>
                        </a:lnTo>
                        <a:lnTo>
                          <a:pt x="295" y="699"/>
                        </a:lnTo>
                        <a:lnTo>
                          <a:pt x="275" y="607"/>
                        </a:lnTo>
                        <a:lnTo>
                          <a:pt x="250" y="561"/>
                        </a:lnTo>
                        <a:lnTo>
                          <a:pt x="186" y="444"/>
                        </a:lnTo>
                        <a:lnTo>
                          <a:pt x="211" y="535"/>
                        </a:lnTo>
                        <a:lnTo>
                          <a:pt x="218" y="598"/>
                        </a:lnTo>
                        <a:lnTo>
                          <a:pt x="250" y="644"/>
                        </a:lnTo>
                        <a:lnTo>
                          <a:pt x="218" y="653"/>
                        </a:lnTo>
                        <a:lnTo>
                          <a:pt x="172" y="544"/>
                        </a:lnTo>
                        <a:lnTo>
                          <a:pt x="140" y="453"/>
                        </a:lnTo>
                        <a:lnTo>
                          <a:pt x="102" y="370"/>
                        </a:lnTo>
                        <a:lnTo>
                          <a:pt x="114" y="472"/>
                        </a:lnTo>
                        <a:lnTo>
                          <a:pt x="135" y="535"/>
                        </a:lnTo>
                        <a:lnTo>
                          <a:pt x="90" y="508"/>
                        </a:lnTo>
                        <a:lnTo>
                          <a:pt x="75" y="353"/>
                        </a:lnTo>
                        <a:lnTo>
                          <a:pt x="58" y="453"/>
                        </a:lnTo>
                        <a:lnTo>
                          <a:pt x="31" y="290"/>
                        </a:lnTo>
                        <a:lnTo>
                          <a:pt x="0" y="281"/>
                        </a:lnTo>
                        <a:lnTo>
                          <a:pt x="44" y="218"/>
                        </a:lnTo>
                        <a:lnTo>
                          <a:pt x="12" y="0"/>
                        </a:lnTo>
                        <a:lnTo>
                          <a:pt x="90" y="71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Freeform 118"/>
                  <p:cNvSpPr/>
                  <p:nvPr/>
                </p:nvSpPr>
                <p:spPr>
                  <a:xfrm>
                    <a:off x="7635600" y="5681160"/>
                    <a:ext cx="1414800" cy="714240"/>
                  </a:xfrm>
                  <a:custGeom>
                    <a:avLst/>
                    <a:gdLst>
                      <a:gd name="textAreaLeft" fmla="*/ 0 w 1414800"/>
                      <a:gd name="textAreaRight" fmla="*/ 1415160 w 1414800"/>
                      <a:gd name="textAreaTop" fmla="*/ 0 h 714240"/>
                      <a:gd name="textAreaBottom" fmla="*/ 714600 h 714240"/>
                    </a:gdLst>
                    <a:ahLst/>
                    <a:rect l="textAreaLeft" t="textAreaTop" r="textAreaRight" b="textAreaBottom"/>
                    <a:pathLst>
                      <a:path w="1072" h="1016">
                        <a:moveTo>
                          <a:pt x="93" y="77"/>
                        </a:moveTo>
                        <a:lnTo>
                          <a:pt x="234" y="266"/>
                        </a:lnTo>
                        <a:lnTo>
                          <a:pt x="469" y="436"/>
                        </a:lnTo>
                        <a:lnTo>
                          <a:pt x="630" y="504"/>
                        </a:lnTo>
                        <a:lnTo>
                          <a:pt x="757" y="541"/>
                        </a:lnTo>
                        <a:lnTo>
                          <a:pt x="959" y="589"/>
                        </a:lnTo>
                        <a:lnTo>
                          <a:pt x="1019" y="619"/>
                        </a:lnTo>
                        <a:lnTo>
                          <a:pt x="1006" y="627"/>
                        </a:lnTo>
                        <a:lnTo>
                          <a:pt x="891" y="619"/>
                        </a:lnTo>
                        <a:lnTo>
                          <a:pt x="925" y="685"/>
                        </a:lnTo>
                        <a:lnTo>
                          <a:pt x="986" y="761"/>
                        </a:lnTo>
                        <a:lnTo>
                          <a:pt x="1072" y="798"/>
                        </a:lnTo>
                        <a:lnTo>
                          <a:pt x="1013" y="798"/>
                        </a:lnTo>
                        <a:lnTo>
                          <a:pt x="905" y="732"/>
                        </a:lnTo>
                        <a:lnTo>
                          <a:pt x="939" y="798"/>
                        </a:lnTo>
                        <a:lnTo>
                          <a:pt x="979" y="855"/>
                        </a:lnTo>
                        <a:lnTo>
                          <a:pt x="1038" y="913"/>
                        </a:lnTo>
                        <a:lnTo>
                          <a:pt x="999" y="923"/>
                        </a:lnTo>
                        <a:lnTo>
                          <a:pt x="885" y="798"/>
                        </a:lnTo>
                        <a:lnTo>
                          <a:pt x="838" y="732"/>
                        </a:lnTo>
                        <a:lnTo>
                          <a:pt x="878" y="873"/>
                        </a:lnTo>
                        <a:lnTo>
                          <a:pt x="912" y="961"/>
                        </a:lnTo>
                        <a:lnTo>
                          <a:pt x="947" y="1016"/>
                        </a:lnTo>
                        <a:lnTo>
                          <a:pt x="912" y="1016"/>
                        </a:lnTo>
                        <a:lnTo>
                          <a:pt x="864" y="894"/>
                        </a:lnTo>
                        <a:lnTo>
                          <a:pt x="784" y="741"/>
                        </a:lnTo>
                        <a:lnTo>
                          <a:pt x="772" y="836"/>
                        </a:lnTo>
                        <a:lnTo>
                          <a:pt x="784" y="913"/>
                        </a:lnTo>
                        <a:lnTo>
                          <a:pt x="805" y="989"/>
                        </a:lnTo>
                        <a:lnTo>
                          <a:pt x="757" y="932"/>
                        </a:lnTo>
                        <a:lnTo>
                          <a:pt x="745" y="845"/>
                        </a:lnTo>
                        <a:lnTo>
                          <a:pt x="737" y="723"/>
                        </a:lnTo>
                        <a:lnTo>
                          <a:pt x="710" y="789"/>
                        </a:lnTo>
                        <a:lnTo>
                          <a:pt x="718" y="932"/>
                        </a:lnTo>
                        <a:lnTo>
                          <a:pt x="731" y="1007"/>
                        </a:lnTo>
                        <a:lnTo>
                          <a:pt x="691" y="941"/>
                        </a:lnTo>
                        <a:lnTo>
                          <a:pt x="684" y="855"/>
                        </a:lnTo>
                        <a:lnTo>
                          <a:pt x="671" y="961"/>
                        </a:lnTo>
                        <a:lnTo>
                          <a:pt x="650" y="855"/>
                        </a:lnTo>
                        <a:lnTo>
                          <a:pt x="610" y="723"/>
                        </a:lnTo>
                        <a:lnTo>
                          <a:pt x="597" y="789"/>
                        </a:lnTo>
                        <a:lnTo>
                          <a:pt x="610" y="913"/>
                        </a:lnTo>
                        <a:lnTo>
                          <a:pt x="644" y="979"/>
                        </a:lnTo>
                        <a:lnTo>
                          <a:pt x="576" y="903"/>
                        </a:lnTo>
                        <a:lnTo>
                          <a:pt x="571" y="789"/>
                        </a:lnTo>
                        <a:lnTo>
                          <a:pt x="543" y="647"/>
                        </a:lnTo>
                        <a:lnTo>
                          <a:pt x="537" y="752"/>
                        </a:lnTo>
                        <a:lnTo>
                          <a:pt x="543" y="913"/>
                        </a:lnTo>
                        <a:lnTo>
                          <a:pt x="576" y="989"/>
                        </a:lnTo>
                        <a:lnTo>
                          <a:pt x="516" y="932"/>
                        </a:lnTo>
                        <a:lnTo>
                          <a:pt x="482" y="761"/>
                        </a:lnTo>
                        <a:lnTo>
                          <a:pt x="482" y="836"/>
                        </a:lnTo>
                        <a:lnTo>
                          <a:pt x="490" y="903"/>
                        </a:lnTo>
                        <a:lnTo>
                          <a:pt x="450" y="864"/>
                        </a:lnTo>
                        <a:lnTo>
                          <a:pt x="450" y="827"/>
                        </a:lnTo>
                        <a:lnTo>
                          <a:pt x="389" y="695"/>
                        </a:lnTo>
                        <a:lnTo>
                          <a:pt x="308" y="607"/>
                        </a:lnTo>
                        <a:lnTo>
                          <a:pt x="329" y="695"/>
                        </a:lnTo>
                        <a:lnTo>
                          <a:pt x="348" y="732"/>
                        </a:lnTo>
                        <a:lnTo>
                          <a:pt x="308" y="732"/>
                        </a:lnTo>
                        <a:lnTo>
                          <a:pt x="288" y="636"/>
                        </a:lnTo>
                        <a:lnTo>
                          <a:pt x="261" y="589"/>
                        </a:lnTo>
                        <a:lnTo>
                          <a:pt x="194" y="464"/>
                        </a:lnTo>
                        <a:lnTo>
                          <a:pt x="221" y="561"/>
                        </a:lnTo>
                        <a:lnTo>
                          <a:pt x="226" y="627"/>
                        </a:lnTo>
                        <a:lnTo>
                          <a:pt x="261" y="673"/>
                        </a:lnTo>
                        <a:lnTo>
                          <a:pt x="226" y="685"/>
                        </a:lnTo>
                        <a:lnTo>
                          <a:pt x="181" y="570"/>
                        </a:lnTo>
                        <a:lnTo>
                          <a:pt x="147" y="477"/>
                        </a:lnTo>
                        <a:lnTo>
                          <a:pt x="107" y="389"/>
                        </a:lnTo>
                        <a:lnTo>
                          <a:pt x="120" y="495"/>
                        </a:lnTo>
                        <a:lnTo>
                          <a:pt x="140" y="561"/>
                        </a:lnTo>
                        <a:lnTo>
                          <a:pt x="93" y="532"/>
                        </a:lnTo>
                        <a:lnTo>
                          <a:pt x="81" y="370"/>
                        </a:lnTo>
                        <a:lnTo>
                          <a:pt x="59" y="477"/>
                        </a:lnTo>
                        <a:lnTo>
                          <a:pt x="34" y="304"/>
                        </a:lnTo>
                        <a:lnTo>
                          <a:pt x="0" y="295"/>
                        </a:lnTo>
                        <a:lnTo>
                          <a:pt x="46" y="228"/>
                        </a:lnTo>
                        <a:lnTo>
                          <a:pt x="12" y="0"/>
                        </a:lnTo>
                        <a:lnTo>
                          <a:pt x="93" y="7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Freeform 119"/>
                  <p:cNvSpPr/>
                  <p:nvPr/>
                </p:nvSpPr>
                <p:spPr>
                  <a:xfrm>
                    <a:off x="7635600" y="5942880"/>
                    <a:ext cx="1506600" cy="675720"/>
                  </a:xfrm>
                  <a:custGeom>
                    <a:avLst/>
                    <a:gdLst>
                      <a:gd name="textAreaLeft" fmla="*/ 0 w 1506600"/>
                      <a:gd name="textAreaRight" fmla="*/ 1506960 w 1506600"/>
                      <a:gd name="textAreaTop" fmla="*/ 0 h 675720"/>
                      <a:gd name="textAreaBottom" fmla="*/ 676080 h 675720"/>
                    </a:gdLst>
                    <a:ahLst/>
                    <a:rect l="textAreaLeft" t="textAreaTop" r="textAreaRight" b="textAreaBottom"/>
                    <a:pathLst>
                      <a:path w="1140" h="961">
                        <a:moveTo>
                          <a:pt x="227" y="147"/>
                        </a:moveTo>
                        <a:lnTo>
                          <a:pt x="313" y="274"/>
                        </a:lnTo>
                        <a:lnTo>
                          <a:pt x="407" y="388"/>
                        </a:lnTo>
                        <a:lnTo>
                          <a:pt x="564" y="504"/>
                        </a:lnTo>
                        <a:lnTo>
                          <a:pt x="720" y="596"/>
                        </a:lnTo>
                        <a:lnTo>
                          <a:pt x="939" y="687"/>
                        </a:lnTo>
                        <a:lnTo>
                          <a:pt x="1140" y="721"/>
                        </a:lnTo>
                        <a:lnTo>
                          <a:pt x="1130" y="745"/>
                        </a:lnTo>
                        <a:lnTo>
                          <a:pt x="949" y="733"/>
                        </a:lnTo>
                        <a:lnTo>
                          <a:pt x="1023" y="801"/>
                        </a:lnTo>
                        <a:lnTo>
                          <a:pt x="1095" y="848"/>
                        </a:lnTo>
                        <a:lnTo>
                          <a:pt x="997" y="825"/>
                        </a:lnTo>
                        <a:lnTo>
                          <a:pt x="902" y="745"/>
                        </a:lnTo>
                        <a:lnTo>
                          <a:pt x="914" y="815"/>
                        </a:lnTo>
                        <a:lnTo>
                          <a:pt x="985" y="881"/>
                        </a:lnTo>
                        <a:lnTo>
                          <a:pt x="1068" y="950"/>
                        </a:lnTo>
                        <a:lnTo>
                          <a:pt x="1023" y="950"/>
                        </a:lnTo>
                        <a:lnTo>
                          <a:pt x="902" y="861"/>
                        </a:lnTo>
                        <a:lnTo>
                          <a:pt x="841" y="779"/>
                        </a:lnTo>
                        <a:lnTo>
                          <a:pt x="876" y="881"/>
                        </a:lnTo>
                        <a:lnTo>
                          <a:pt x="961" y="961"/>
                        </a:lnTo>
                        <a:lnTo>
                          <a:pt x="841" y="895"/>
                        </a:lnTo>
                        <a:lnTo>
                          <a:pt x="780" y="815"/>
                        </a:lnTo>
                        <a:lnTo>
                          <a:pt x="770" y="848"/>
                        </a:lnTo>
                        <a:lnTo>
                          <a:pt x="780" y="917"/>
                        </a:lnTo>
                        <a:lnTo>
                          <a:pt x="747" y="917"/>
                        </a:lnTo>
                        <a:lnTo>
                          <a:pt x="697" y="838"/>
                        </a:lnTo>
                        <a:lnTo>
                          <a:pt x="661" y="825"/>
                        </a:lnTo>
                        <a:lnTo>
                          <a:pt x="673" y="895"/>
                        </a:lnTo>
                        <a:lnTo>
                          <a:pt x="697" y="928"/>
                        </a:lnTo>
                        <a:lnTo>
                          <a:pt x="648" y="928"/>
                        </a:lnTo>
                        <a:lnTo>
                          <a:pt x="600" y="848"/>
                        </a:lnTo>
                        <a:lnTo>
                          <a:pt x="552" y="779"/>
                        </a:lnTo>
                        <a:lnTo>
                          <a:pt x="564" y="848"/>
                        </a:lnTo>
                        <a:lnTo>
                          <a:pt x="600" y="895"/>
                        </a:lnTo>
                        <a:lnTo>
                          <a:pt x="529" y="861"/>
                        </a:lnTo>
                        <a:lnTo>
                          <a:pt x="468" y="698"/>
                        </a:lnTo>
                        <a:lnTo>
                          <a:pt x="456" y="757"/>
                        </a:lnTo>
                        <a:lnTo>
                          <a:pt x="479" y="825"/>
                        </a:lnTo>
                        <a:lnTo>
                          <a:pt x="506" y="871"/>
                        </a:lnTo>
                        <a:lnTo>
                          <a:pt x="468" y="895"/>
                        </a:lnTo>
                        <a:lnTo>
                          <a:pt x="420" y="825"/>
                        </a:lnTo>
                        <a:lnTo>
                          <a:pt x="394" y="757"/>
                        </a:lnTo>
                        <a:lnTo>
                          <a:pt x="385" y="815"/>
                        </a:lnTo>
                        <a:lnTo>
                          <a:pt x="407" y="848"/>
                        </a:lnTo>
                        <a:lnTo>
                          <a:pt x="385" y="871"/>
                        </a:lnTo>
                        <a:lnTo>
                          <a:pt x="359" y="815"/>
                        </a:lnTo>
                        <a:lnTo>
                          <a:pt x="323" y="757"/>
                        </a:lnTo>
                        <a:lnTo>
                          <a:pt x="265" y="640"/>
                        </a:lnTo>
                        <a:lnTo>
                          <a:pt x="251" y="676"/>
                        </a:lnTo>
                        <a:lnTo>
                          <a:pt x="265" y="757"/>
                        </a:lnTo>
                        <a:lnTo>
                          <a:pt x="286" y="838"/>
                        </a:lnTo>
                        <a:lnTo>
                          <a:pt x="251" y="838"/>
                        </a:lnTo>
                        <a:lnTo>
                          <a:pt x="227" y="745"/>
                        </a:lnTo>
                        <a:lnTo>
                          <a:pt x="201" y="630"/>
                        </a:lnTo>
                        <a:lnTo>
                          <a:pt x="179" y="709"/>
                        </a:lnTo>
                        <a:lnTo>
                          <a:pt x="179" y="768"/>
                        </a:lnTo>
                        <a:lnTo>
                          <a:pt x="144" y="709"/>
                        </a:lnTo>
                        <a:lnTo>
                          <a:pt x="156" y="617"/>
                        </a:lnTo>
                        <a:lnTo>
                          <a:pt x="130" y="538"/>
                        </a:lnTo>
                        <a:lnTo>
                          <a:pt x="106" y="665"/>
                        </a:lnTo>
                        <a:lnTo>
                          <a:pt x="106" y="733"/>
                        </a:lnTo>
                        <a:lnTo>
                          <a:pt x="82" y="698"/>
                        </a:lnTo>
                        <a:lnTo>
                          <a:pt x="71" y="596"/>
                        </a:lnTo>
                        <a:lnTo>
                          <a:pt x="71" y="467"/>
                        </a:lnTo>
                        <a:lnTo>
                          <a:pt x="71" y="377"/>
                        </a:lnTo>
                        <a:lnTo>
                          <a:pt x="35" y="457"/>
                        </a:lnTo>
                        <a:lnTo>
                          <a:pt x="45" y="538"/>
                        </a:lnTo>
                        <a:lnTo>
                          <a:pt x="10" y="550"/>
                        </a:lnTo>
                        <a:lnTo>
                          <a:pt x="0" y="467"/>
                        </a:lnTo>
                        <a:lnTo>
                          <a:pt x="10" y="332"/>
                        </a:lnTo>
                        <a:lnTo>
                          <a:pt x="57" y="205"/>
                        </a:lnTo>
                        <a:lnTo>
                          <a:pt x="71" y="125"/>
                        </a:lnTo>
                        <a:lnTo>
                          <a:pt x="71" y="0"/>
                        </a:lnTo>
                        <a:lnTo>
                          <a:pt x="227" y="147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Freeform 120"/>
                  <p:cNvSpPr/>
                  <p:nvPr/>
                </p:nvSpPr>
                <p:spPr>
                  <a:xfrm>
                    <a:off x="7564320" y="4689000"/>
                    <a:ext cx="530280" cy="363960"/>
                  </a:xfrm>
                  <a:custGeom>
                    <a:avLst/>
                    <a:gdLst>
                      <a:gd name="textAreaLeft" fmla="*/ 0 w 530280"/>
                      <a:gd name="textAreaRight" fmla="*/ 530640 w 530280"/>
                      <a:gd name="textAreaTop" fmla="*/ 0 h 363960"/>
                      <a:gd name="textAreaBottom" fmla="*/ 364320 h 363960"/>
                    </a:gdLst>
                    <a:ahLst/>
                    <a:rect l="textAreaLeft" t="textAreaTop" r="textAreaRight" b="textAreaBottom"/>
                    <a:pathLst>
                      <a:path w="401" h="517">
                        <a:moveTo>
                          <a:pt x="0" y="0"/>
                        </a:moveTo>
                        <a:lnTo>
                          <a:pt x="41" y="67"/>
                        </a:lnTo>
                        <a:lnTo>
                          <a:pt x="78" y="168"/>
                        </a:lnTo>
                        <a:lnTo>
                          <a:pt x="164" y="303"/>
                        </a:lnTo>
                        <a:lnTo>
                          <a:pt x="246" y="366"/>
                        </a:lnTo>
                        <a:lnTo>
                          <a:pt x="340" y="462"/>
                        </a:lnTo>
                        <a:lnTo>
                          <a:pt x="401" y="489"/>
                        </a:lnTo>
                        <a:lnTo>
                          <a:pt x="367" y="489"/>
                        </a:lnTo>
                        <a:lnTo>
                          <a:pt x="282" y="444"/>
                        </a:lnTo>
                        <a:lnTo>
                          <a:pt x="305" y="517"/>
                        </a:lnTo>
                        <a:lnTo>
                          <a:pt x="254" y="408"/>
                        </a:lnTo>
                        <a:lnTo>
                          <a:pt x="225" y="394"/>
                        </a:lnTo>
                        <a:lnTo>
                          <a:pt x="238" y="453"/>
                        </a:lnTo>
                        <a:lnTo>
                          <a:pt x="192" y="361"/>
                        </a:lnTo>
                        <a:lnTo>
                          <a:pt x="128" y="280"/>
                        </a:lnTo>
                        <a:lnTo>
                          <a:pt x="138" y="343"/>
                        </a:lnTo>
                        <a:lnTo>
                          <a:pt x="94" y="226"/>
                        </a:lnTo>
                        <a:lnTo>
                          <a:pt x="90" y="271"/>
                        </a:lnTo>
                        <a:lnTo>
                          <a:pt x="70" y="186"/>
                        </a:lnTo>
                        <a:lnTo>
                          <a:pt x="25" y="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Freeform 121"/>
                  <p:cNvSpPr/>
                  <p:nvPr/>
                </p:nvSpPr>
                <p:spPr>
                  <a:xfrm>
                    <a:off x="7801920" y="5093640"/>
                    <a:ext cx="463680" cy="233280"/>
                  </a:xfrm>
                  <a:custGeom>
                    <a:avLst/>
                    <a:gdLst>
                      <a:gd name="textAreaLeft" fmla="*/ 0 w 463680"/>
                      <a:gd name="textAreaRight" fmla="*/ 464040 w 46368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350" h="333">
                        <a:moveTo>
                          <a:pt x="0" y="0"/>
                        </a:moveTo>
                        <a:lnTo>
                          <a:pt x="66" y="83"/>
                        </a:lnTo>
                        <a:lnTo>
                          <a:pt x="144" y="154"/>
                        </a:lnTo>
                        <a:lnTo>
                          <a:pt x="221" y="204"/>
                        </a:lnTo>
                        <a:lnTo>
                          <a:pt x="306" y="265"/>
                        </a:lnTo>
                        <a:lnTo>
                          <a:pt x="350" y="283"/>
                        </a:lnTo>
                        <a:lnTo>
                          <a:pt x="315" y="283"/>
                        </a:lnTo>
                        <a:lnTo>
                          <a:pt x="331" y="333"/>
                        </a:lnTo>
                        <a:lnTo>
                          <a:pt x="283" y="278"/>
                        </a:lnTo>
                        <a:lnTo>
                          <a:pt x="276" y="315"/>
                        </a:lnTo>
                        <a:lnTo>
                          <a:pt x="232" y="242"/>
                        </a:lnTo>
                        <a:lnTo>
                          <a:pt x="232" y="296"/>
                        </a:lnTo>
                        <a:lnTo>
                          <a:pt x="183" y="204"/>
                        </a:lnTo>
                        <a:lnTo>
                          <a:pt x="144" y="182"/>
                        </a:lnTo>
                        <a:lnTo>
                          <a:pt x="123" y="182"/>
                        </a:lnTo>
                        <a:lnTo>
                          <a:pt x="147" y="256"/>
                        </a:lnTo>
                        <a:lnTo>
                          <a:pt x="109" y="195"/>
                        </a:lnTo>
                        <a:lnTo>
                          <a:pt x="102" y="142"/>
                        </a:lnTo>
                        <a:lnTo>
                          <a:pt x="61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Freeform 122"/>
                  <p:cNvSpPr/>
                  <p:nvPr/>
                </p:nvSpPr>
                <p:spPr>
                  <a:xfrm>
                    <a:off x="7964640" y="5393160"/>
                    <a:ext cx="542880" cy="234720"/>
                  </a:xfrm>
                  <a:custGeom>
                    <a:avLst/>
                    <a:gdLst>
                      <a:gd name="textAreaLeft" fmla="*/ 0 w 542880"/>
                      <a:gd name="textAreaRight" fmla="*/ 543240 w 542880"/>
                      <a:gd name="textAreaTop" fmla="*/ 0 h 234720"/>
                      <a:gd name="textAreaBottom" fmla="*/ 235080 h 234720"/>
                    </a:gdLst>
                    <a:ahLst/>
                    <a:rect l="textAreaLeft" t="textAreaTop" r="textAreaRight" b="textAreaBottom"/>
                    <a:pathLst>
                      <a:path w="409" h="332">
                        <a:moveTo>
                          <a:pt x="0" y="0"/>
                        </a:moveTo>
                        <a:lnTo>
                          <a:pt x="79" y="92"/>
                        </a:lnTo>
                        <a:lnTo>
                          <a:pt x="153" y="146"/>
                        </a:lnTo>
                        <a:lnTo>
                          <a:pt x="257" y="200"/>
                        </a:lnTo>
                        <a:lnTo>
                          <a:pt x="313" y="238"/>
                        </a:lnTo>
                        <a:lnTo>
                          <a:pt x="409" y="269"/>
                        </a:lnTo>
                        <a:lnTo>
                          <a:pt x="355" y="274"/>
                        </a:lnTo>
                        <a:lnTo>
                          <a:pt x="359" y="323"/>
                        </a:lnTo>
                        <a:lnTo>
                          <a:pt x="329" y="251"/>
                        </a:lnTo>
                        <a:lnTo>
                          <a:pt x="313" y="332"/>
                        </a:lnTo>
                        <a:lnTo>
                          <a:pt x="297" y="251"/>
                        </a:lnTo>
                        <a:lnTo>
                          <a:pt x="195" y="191"/>
                        </a:lnTo>
                        <a:lnTo>
                          <a:pt x="195" y="274"/>
                        </a:lnTo>
                        <a:lnTo>
                          <a:pt x="168" y="187"/>
                        </a:lnTo>
                        <a:lnTo>
                          <a:pt x="82" y="1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Freeform 123"/>
                  <p:cNvSpPr/>
                  <p:nvPr/>
                </p:nvSpPr>
                <p:spPr>
                  <a:xfrm>
                    <a:off x="8122680" y="5730480"/>
                    <a:ext cx="626400" cy="171360"/>
                  </a:xfrm>
                  <a:custGeom>
                    <a:avLst/>
                    <a:gdLst>
                      <a:gd name="textAreaLeft" fmla="*/ 0 w 626400"/>
                      <a:gd name="textAreaRight" fmla="*/ 626760 w 626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475" h="244">
                        <a:moveTo>
                          <a:pt x="475" y="144"/>
                        </a:moveTo>
                        <a:lnTo>
                          <a:pt x="323" y="126"/>
                        </a:lnTo>
                        <a:lnTo>
                          <a:pt x="225" y="89"/>
                        </a:lnTo>
                        <a:lnTo>
                          <a:pt x="81" y="21"/>
                        </a:lnTo>
                        <a:lnTo>
                          <a:pt x="0" y="0"/>
                        </a:lnTo>
                        <a:lnTo>
                          <a:pt x="77" y="39"/>
                        </a:lnTo>
                        <a:lnTo>
                          <a:pt x="155" y="76"/>
                        </a:lnTo>
                        <a:lnTo>
                          <a:pt x="163" y="166"/>
                        </a:lnTo>
                        <a:lnTo>
                          <a:pt x="167" y="71"/>
                        </a:lnTo>
                        <a:lnTo>
                          <a:pt x="241" y="117"/>
                        </a:lnTo>
                        <a:lnTo>
                          <a:pt x="257" y="244"/>
                        </a:lnTo>
                        <a:lnTo>
                          <a:pt x="257" y="126"/>
                        </a:lnTo>
                        <a:lnTo>
                          <a:pt x="343" y="149"/>
                        </a:lnTo>
                        <a:lnTo>
                          <a:pt x="380" y="209"/>
                        </a:lnTo>
                        <a:lnTo>
                          <a:pt x="366" y="149"/>
                        </a:lnTo>
                        <a:lnTo>
                          <a:pt x="434" y="212"/>
                        </a:lnTo>
                        <a:lnTo>
                          <a:pt x="404" y="149"/>
                        </a:lnTo>
                        <a:lnTo>
                          <a:pt x="475" y="144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Freeform 124"/>
                  <p:cNvSpPr/>
                  <p:nvPr/>
                </p:nvSpPr>
                <p:spPr>
                  <a:xfrm>
                    <a:off x="8142480" y="5965200"/>
                    <a:ext cx="702000" cy="217800"/>
                  </a:xfrm>
                  <a:custGeom>
                    <a:avLst/>
                    <a:gdLst>
                      <a:gd name="textAreaLeft" fmla="*/ 0 w 702000"/>
                      <a:gd name="textAreaRight" fmla="*/ 702360 w 702000"/>
                      <a:gd name="textAreaTop" fmla="*/ 0 h 217800"/>
                      <a:gd name="textAreaBottom" fmla="*/ 218160 h 217800"/>
                    </a:gdLst>
                    <a:ahLst/>
                    <a:rect l="textAreaLeft" t="textAreaTop" r="textAreaRight" b="textAreaBottom"/>
                    <a:pathLst>
                      <a:path w="532" h="309">
                        <a:moveTo>
                          <a:pt x="532" y="191"/>
                        </a:moveTo>
                        <a:lnTo>
                          <a:pt x="424" y="173"/>
                        </a:lnTo>
                        <a:lnTo>
                          <a:pt x="291" y="141"/>
                        </a:lnTo>
                        <a:lnTo>
                          <a:pt x="119" y="77"/>
                        </a:lnTo>
                        <a:lnTo>
                          <a:pt x="0" y="0"/>
                        </a:lnTo>
                        <a:lnTo>
                          <a:pt x="131" y="114"/>
                        </a:lnTo>
                        <a:lnTo>
                          <a:pt x="193" y="194"/>
                        </a:lnTo>
                        <a:lnTo>
                          <a:pt x="244" y="276"/>
                        </a:lnTo>
                        <a:lnTo>
                          <a:pt x="205" y="177"/>
                        </a:lnTo>
                        <a:lnTo>
                          <a:pt x="179" y="132"/>
                        </a:lnTo>
                        <a:lnTo>
                          <a:pt x="274" y="186"/>
                        </a:lnTo>
                        <a:lnTo>
                          <a:pt x="291" y="240"/>
                        </a:lnTo>
                        <a:lnTo>
                          <a:pt x="318" y="300"/>
                        </a:lnTo>
                        <a:lnTo>
                          <a:pt x="291" y="186"/>
                        </a:lnTo>
                        <a:lnTo>
                          <a:pt x="331" y="194"/>
                        </a:lnTo>
                        <a:lnTo>
                          <a:pt x="350" y="244"/>
                        </a:lnTo>
                        <a:lnTo>
                          <a:pt x="366" y="296"/>
                        </a:lnTo>
                        <a:lnTo>
                          <a:pt x="344" y="186"/>
                        </a:lnTo>
                        <a:lnTo>
                          <a:pt x="453" y="200"/>
                        </a:lnTo>
                        <a:lnTo>
                          <a:pt x="488" y="309"/>
                        </a:lnTo>
                        <a:lnTo>
                          <a:pt x="462" y="214"/>
                        </a:lnTo>
                        <a:lnTo>
                          <a:pt x="532" y="191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Freeform 125"/>
                  <p:cNvSpPr/>
                  <p:nvPr/>
                </p:nvSpPr>
                <p:spPr>
                  <a:xfrm>
                    <a:off x="8234280" y="6256080"/>
                    <a:ext cx="792720" cy="23616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598" h="337">
                        <a:moveTo>
                          <a:pt x="0" y="0"/>
                        </a:moveTo>
                        <a:lnTo>
                          <a:pt x="107" y="92"/>
                        </a:lnTo>
                        <a:lnTo>
                          <a:pt x="229" y="155"/>
                        </a:lnTo>
                        <a:lnTo>
                          <a:pt x="338" y="204"/>
                        </a:lnTo>
                        <a:lnTo>
                          <a:pt x="466" y="250"/>
                        </a:lnTo>
                        <a:lnTo>
                          <a:pt x="598" y="268"/>
                        </a:lnTo>
                        <a:lnTo>
                          <a:pt x="462" y="268"/>
                        </a:lnTo>
                        <a:lnTo>
                          <a:pt x="498" y="300"/>
                        </a:lnTo>
                        <a:lnTo>
                          <a:pt x="431" y="259"/>
                        </a:lnTo>
                        <a:lnTo>
                          <a:pt x="350" y="231"/>
                        </a:lnTo>
                        <a:lnTo>
                          <a:pt x="415" y="286"/>
                        </a:lnTo>
                        <a:lnTo>
                          <a:pt x="350" y="254"/>
                        </a:lnTo>
                        <a:lnTo>
                          <a:pt x="294" y="209"/>
                        </a:lnTo>
                        <a:lnTo>
                          <a:pt x="306" y="277"/>
                        </a:lnTo>
                        <a:lnTo>
                          <a:pt x="364" y="337"/>
                        </a:lnTo>
                        <a:lnTo>
                          <a:pt x="278" y="268"/>
                        </a:lnTo>
                        <a:lnTo>
                          <a:pt x="251" y="204"/>
                        </a:lnTo>
                        <a:lnTo>
                          <a:pt x="146" y="1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" name="Freeform 126"/>
                <p:cNvSpPr/>
                <p:nvPr/>
              </p:nvSpPr>
              <p:spPr>
                <a:xfrm>
                  <a:off x="7211160" y="4901400"/>
                  <a:ext cx="666360" cy="1724760"/>
                </a:xfrm>
                <a:custGeom>
                  <a:avLst/>
                  <a:gdLst>
                    <a:gd name="textAreaLeft" fmla="*/ 0 w 666360"/>
                    <a:gd name="textAreaRight" fmla="*/ 666720 w 666360"/>
                    <a:gd name="textAreaTop" fmla="*/ 0 h 1724760"/>
                    <a:gd name="textAreaBottom" fmla="*/ 1725120 h 1724760"/>
                  </a:gdLst>
                  <a:ahLst/>
                  <a:rect l="textAreaLeft" t="textAreaTop" r="textAreaRight" b="textAreaBottom"/>
                  <a:pathLst>
                    <a:path w="505" h="2454">
                      <a:moveTo>
                        <a:pt x="414" y="1841"/>
                      </a:moveTo>
                      <a:lnTo>
                        <a:pt x="498" y="2130"/>
                      </a:lnTo>
                      <a:lnTo>
                        <a:pt x="414" y="2084"/>
                      </a:lnTo>
                      <a:lnTo>
                        <a:pt x="483" y="2300"/>
                      </a:lnTo>
                      <a:lnTo>
                        <a:pt x="408" y="2156"/>
                      </a:lnTo>
                      <a:lnTo>
                        <a:pt x="428" y="2364"/>
                      </a:lnTo>
                      <a:lnTo>
                        <a:pt x="379" y="2211"/>
                      </a:lnTo>
                      <a:lnTo>
                        <a:pt x="366" y="2400"/>
                      </a:lnTo>
                      <a:lnTo>
                        <a:pt x="317" y="2121"/>
                      </a:lnTo>
                      <a:lnTo>
                        <a:pt x="282" y="2454"/>
                      </a:lnTo>
                      <a:lnTo>
                        <a:pt x="269" y="2121"/>
                      </a:lnTo>
                      <a:lnTo>
                        <a:pt x="179" y="2311"/>
                      </a:lnTo>
                      <a:lnTo>
                        <a:pt x="234" y="2039"/>
                      </a:lnTo>
                      <a:lnTo>
                        <a:pt x="130" y="2192"/>
                      </a:lnTo>
                      <a:lnTo>
                        <a:pt x="207" y="1967"/>
                      </a:lnTo>
                      <a:lnTo>
                        <a:pt x="68" y="2075"/>
                      </a:lnTo>
                      <a:lnTo>
                        <a:pt x="117" y="1876"/>
                      </a:lnTo>
                      <a:lnTo>
                        <a:pt x="0" y="1850"/>
                      </a:lnTo>
                      <a:lnTo>
                        <a:pt x="103" y="9"/>
                      </a:lnTo>
                      <a:lnTo>
                        <a:pt x="311" y="0"/>
                      </a:lnTo>
                      <a:lnTo>
                        <a:pt x="505" y="1895"/>
                      </a:lnTo>
                      <a:lnTo>
                        <a:pt x="414" y="1841"/>
                      </a:lnTo>
                      <a:close/>
                    </a:path>
                  </a:pathLst>
                </a:custGeom>
                <a:solidFill>
                  <a:srgbClr val="33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4" name="Rectangle 12"/>
          <p:cNvSpPr/>
          <p:nvPr/>
        </p:nvSpPr>
        <p:spPr>
          <a:xfrm>
            <a:off x="914400" y="1929600"/>
            <a:ext cx="7488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果树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果实样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，可选择树龄、株型、生长势、载果量等较为一致的正常树，在同一果园同一品种选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5-10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株为代表株，在全部收获物中选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、中、小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向阳、背阴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等的果实共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0-20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个组成混合样，重量约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.5kg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2266200" y="134136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七章 植物样品采集技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2511720" y="2492280"/>
            <a:ext cx="4153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植物分析的目的及采集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植物组织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 植物根系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籽粒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五节  瓜果样品的采集和制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0" y="4038480"/>
            <a:ext cx="9144000" cy="2819520"/>
            <a:chOff x="0" y="4038480"/>
            <a:chExt cx="9144000" cy="2819520"/>
          </a:xfrm>
        </p:grpSpPr>
        <p:sp>
          <p:nvSpPr>
            <p:cNvPr id="526" name="Freeform 3"/>
            <p:cNvSpPr/>
            <p:nvPr/>
          </p:nvSpPr>
          <p:spPr>
            <a:xfrm>
              <a:off x="0" y="4215600"/>
              <a:ext cx="2759040" cy="2642040"/>
            </a:xfrm>
            <a:custGeom>
              <a:avLst/>
              <a:gdLst>
                <a:gd name="textAreaLeft" fmla="*/ 0 w 2759040"/>
                <a:gd name="textAreaRight" fmla="*/ 2759400 w 2759040"/>
                <a:gd name="textAreaTop" fmla="*/ 0 h 2642040"/>
                <a:gd name="textAreaBottom" fmla="*/ 2642400 h 2642040"/>
              </a:gdLst>
              <a:ahLst/>
              <a:rect l="textAreaLeft" t="textAreaTop" r="textAreaRight" b="textAreaBottom"/>
              <a:pathLst>
                <a:path w="1738" h="1844">
                  <a:moveTo>
                    <a:pt x="1738" y="1844"/>
                  </a:moveTo>
                  <a:lnTo>
                    <a:pt x="0" y="1844"/>
                  </a:lnTo>
                  <a:lnTo>
                    <a:pt x="0" y="1282"/>
                  </a:lnTo>
                  <a:lnTo>
                    <a:pt x="23" y="1282"/>
                  </a:lnTo>
                  <a:lnTo>
                    <a:pt x="41" y="1282"/>
                  </a:lnTo>
                  <a:lnTo>
                    <a:pt x="55" y="1287"/>
                  </a:lnTo>
                  <a:lnTo>
                    <a:pt x="64" y="1278"/>
                  </a:lnTo>
                  <a:lnTo>
                    <a:pt x="73" y="1265"/>
                  </a:lnTo>
                  <a:lnTo>
                    <a:pt x="91" y="1247"/>
                  </a:lnTo>
                  <a:lnTo>
                    <a:pt x="109" y="1234"/>
                  </a:lnTo>
                  <a:lnTo>
                    <a:pt x="128" y="1229"/>
                  </a:lnTo>
                  <a:lnTo>
                    <a:pt x="155" y="1229"/>
                  </a:lnTo>
                  <a:lnTo>
                    <a:pt x="192" y="1216"/>
                  </a:lnTo>
                  <a:lnTo>
                    <a:pt x="214" y="1207"/>
                  </a:lnTo>
                  <a:lnTo>
                    <a:pt x="210" y="1194"/>
                  </a:lnTo>
                  <a:lnTo>
                    <a:pt x="187" y="1181"/>
                  </a:lnTo>
                  <a:lnTo>
                    <a:pt x="173" y="1167"/>
                  </a:lnTo>
                  <a:lnTo>
                    <a:pt x="173" y="1145"/>
                  </a:lnTo>
                  <a:lnTo>
                    <a:pt x="187" y="1119"/>
                  </a:lnTo>
                  <a:lnTo>
                    <a:pt x="155" y="1097"/>
                  </a:lnTo>
                  <a:lnTo>
                    <a:pt x="150" y="1074"/>
                  </a:lnTo>
                  <a:lnTo>
                    <a:pt x="160" y="1057"/>
                  </a:lnTo>
                  <a:lnTo>
                    <a:pt x="182" y="1048"/>
                  </a:lnTo>
                  <a:lnTo>
                    <a:pt x="210" y="1048"/>
                  </a:lnTo>
                  <a:lnTo>
                    <a:pt x="237" y="1044"/>
                  </a:lnTo>
                  <a:lnTo>
                    <a:pt x="255" y="1039"/>
                  </a:lnTo>
                  <a:lnTo>
                    <a:pt x="269" y="1030"/>
                  </a:lnTo>
                  <a:lnTo>
                    <a:pt x="278" y="1017"/>
                  </a:lnTo>
                  <a:lnTo>
                    <a:pt x="283" y="999"/>
                  </a:lnTo>
                  <a:lnTo>
                    <a:pt x="283" y="982"/>
                  </a:lnTo>
                  <a:lnTo>
                    <a:pt x="274" y="977"/>
                  </a:lnTo>
                  <a:lnTo>
                    <a:pt x="255" y="973"/>
                  </a:lnTo>
                  <a:lnTo>
                    <a:pt x="237" y="968"/>
                  </a:lnTo>
                  <a:lnTo>
                    <a:pt x="223" y="955"/>
                  </a:lnTo>
                  <a:lnTo>
                    <a:pt x="223" y="937"/>
                  </a:lnTo>
                  <a:lnTo>
                    <a:pt x="237" y="924"/>
                  </a:lnTo>
                  <a:lnTo>
                    <a:pt x="260" y="915"/>
                  </a:lnTo>
                  <a:lnTo>
                    <a:pt x="283" y="911"/>
                  </a:lnTo>
                  <a:lnTo>
                    <a:pt x="292" y="902"/>
                  </a:lnTo>
                  <a:lnTo>
                    <a:pt x="287" y="898"/>
                  </a:lnTo>
                  <a:lnTo>
                    <a:pt x="269" y="889"/>
                  </a:lnTo>
                  <a:lnTo>
                    <a:pt x="246" y="880"/>
                  </a:lnTo>
                  <a:lnTo>
                    <a:pt x="223" y="871"/>
                  </a:lnTo>
                  <a:lnTo>
                    <a:pt x="196" y="858"/>
                  </a:lnTo>
                  <a:lnTo>
                    <a:pt x="178" y="845"/>
                  </a:lnTo>
                  <a:lnTo>
                    <a:pt x="164" y="831"/>
                  </a:lnTo>
                  <a:lnTo>
                    <a:pt x="164" y="818"/>
                  </a:lnTo>
                  <a:lnTo>
                    <a:pt x="192" y="800"/>
                  </a:lnTo>
                  <a:lnTo>
                    <a:pt x="233" y="796"/>
                  </a:lnTo>
                  <a:lnTo>
                    <a:pt x="269" y="805"/>
                  </a:lnTo>
                  <a:lnTo>
                    <a:pt x="296" y="809"/>
                  </a:lnTo>
                  <a:lnTo>
                    <a:pt x="306" y="796"/>
                  </a:lnTo>
                  <a:lnTo>
                    <a:pt x="315" y="787"/>
                  </a:lnTo>
                  <a:lnTo>
                    <a:pt x="333" y="778"/>
                  </a:lnTo>
                  <a:lnTo>
                    <a:pt x="347" y="769"/>
                  </a:lnTo>
                  <a:lnTo>
                    <a:pt x="365" y="769"/>
                  </a:lnTo>
                  <a:lnTo>
                    <a:pt x="388" y="769"/>
                  </a:lnTo>
                  <a:lnTo>
                    <a:pt x="410" y="769"/>
                  </a:lnTo>
                  <a:lnTo>
                    <a:pt x="433" y="774"/>
                  </a:lnTo>
                  <a:lnTo>
                    <a:pt x="447" y="752"/>
                  </a:lnTo>
                  <a:lnTo>
                    <a:pt x="456" y="725"/>
                  </a:lnTo>
                  <a:lnTo>
                    <a:pt x="456" y="699"/>
                  </a:lnTo>
                  <a:lnTo>
                    <a:pt x="442" y="672"/>
                  </a:lnTo>
                  <a:lnTo>
                    <a:pt x="429" y="672"/>
                  </a:lnTo>
                  <a:lnTo>
                    <a:pt x="410" y="672"/>
                  </a:lnTo>
                  <a:lnTo>
                    <a:pt x="383" y="668"/>
                  </a:lnTo>
                  <a:lnTo>
                    <a:pt x="360" y="663"/>
                  </a:lnTo>
                  <a:lnTo>
                    <a:pt x="342" y="659"/>
                  </a:lnTo>
                  <a:lnTo>
                    <a:pt x="324" y="650"/>
                  </a:lnTo>
                  <a:lnTo>
                    <a:pt x="315" y="646"/>
                  </a:lnTo>
                  <a:lnTo>
                    <a:pt x="315" y="641"/>
                  </a:lnTo>
                  <a:lnTo>
                    <a:pt x="287" y="646"/>
                  </a:lnTo>
                  <a:lnTo>
                    <a:pt x="269" y="641"/>
                  </a:lnTo>
                  <a:lnTo>
                    <a:pt x="255" y="632"/>
                  </a:lnTo>
                  <a:lnTo>
                    <a:pt x="255" y="619"/>
                  </a:lnTo>
                  <a:lnTo>
                    <a:pt x="265" y="610"/>
                  </a:lnTo>
                  <a:lnTo>
                    <a:pt x="283" y="601"/>
                  </a:lnTo>
                  <a:lnTo>
                    <a:pt x="306" y="592"/>
                  </a:lnTo>
                  <a:lnTo>
                    <a:pt x="337" y="579"/>
                  </a:lnTo>
                  <a:lnTo>
                    <a:pt x="369" y="570"/>
                  </a:lnTo>
                  <a:lnTo>
                    <a:pt x="401" y="561"/>
                  </a:lnTo>
                  <a:lnTo>
                    <a:pt x="433" y="557"/>
                  </a:lnTo>
                  <a:lnTo>
                    <a:pt x="461" y="557"/>
                  </a:lnTo>
                  <a:lnTo>
                    <a:pt x="502" y="548"/>
                  </a:lnTo>
                  <a:lnTo>
                    <a:pt x="520" y="526"/>
                  </a:lnTo>
                  <a:lnTo>
                    <a:pt x="529" y="500"/>
                  </a:lnTo>
                  <a:lnTo>
                    <a:pt x="529" y="477"/>
                  </a:lnTo>
                  <a:lnTo>
                    <a:pt x="515" y="464"/>
                  </a:lnTo>
                  <a:lnTo>
                    <a:pt x="497" y="446"/>
                  </a:lnTo>
                  <a:lnTo>
                    <a:pt x="474" y="433"/>
                  </a:lnTo>
                  <a:lnTo>
                    <a:pt x="465" y="420"/>
                  </a:lnTo>
                  <a:lnTo>
                    <a:pt x="479" y="402"/>
                  </a:lnTo>
                  <a:lnTo>
                    <a:pt x="502" y="389"/>
                  </a:lnTo>
                  <a:lnTo>
                    <a:pt x="529" y="376"/>
                  </a:lnTo>
                  <a:lnTo>
                    <a:pt x="547" y="371"/>
                  </a:lnTo>
                  <a:lnTo>
                    <a:pt x="552" y="349"/>
                  </a:lnTo>
                  <a:lnTo>
                    <a:pt x="552" y="327"/>
                  </a:lnTo>
                  <a:lnTo>
                    <a:pt x="556" y="309"/>
                  </a:lnTo>
                  <a:lnTo>
                    <a:pt x="566" y="305"/>
                  </a:lnTo>
                  <a:lnTo>
                    <a:pt x="579" y="318"/>
                  </a:lnTo>
                  <a:lnTo>
                    <a:pt x="584" y="345"/>
                  </a:lnTo>
                  <a:lnTo>
                    <a:pt x="584" y="380"/>
                  </a:lnTo>
                  <a:lnTo>
                    <a:pt x="584" y="402"/>
                  </a:lnTo>
                  <a:lnTo>
                    <a:pt x="607" y="416"/>
                  </a:lnTo>
                  <a:lnTo>
                    <a:pt x="607" y="433"/>
                  </a:lnTo>
                  <a:lnTo>
                    <a:pt x="607" y="455"/>
                  </a:lnTo>
                  <a:lnTo>
                    <a:pt x="616" y="464"/>
                  </a:lnTo>
                  <a:lnTo>
                    <a:pt x="643" y="473"/>
                  </a:lnTo>
                  <a:lnTo>
                    <a:pt x="680" y="482"/>
                  </a:lnTo>
                  <a:lnTo>
                    <a:pt x="711" y="491"/>
                  </a:lnTo>
                  <a:lnTo>
                    <a:pt x="734" y="500"/>
                  </a:lnTo>
                  <a:lnTo>
                    <a:pt x="748" y="513"/>
                  </a:lnTo>
                  <a:lnTo>
                    <a:pt x="757" y="535"/>
                  </a:lnTo>
                  <a:lnTo>
                    <a:pt x="762" y="561"/>
                  </a:lnTo>
                  <a:lnTo>
                    <a:pt x="762" y="575"/>
                  </a:lnTo>
                  <a:lnTo>
                    <a:pt x="757" y="575"/>
                  </a:lnTo>
                  <a:lnTo>
                    <a:pt x="739" y="570"/>
                  </a:lnTo>
                  <a:lnTo>
                    <a:pt x="721" y="566"/>
                  </a:lnTo>
                  <a:lnTo>
                    <a:pt x="693" y="557"/>
                  </a:lnTo>
                  <a:lnTo>
                    <a:pt x="670" y="557"/>
                  </a:lnTo>
                  <a:lnTo>
                    <a:pt x="643" y="561"/>
                  </a:lnTo>
                  <a:lnTo>
                    <a:pt x="620" y="579"/>
                  </a:lnTo>
                  <a:lnTo>
                    <a:pt x="607" y="610"/>
                  </a:lnTo>
                  <a:lnTo>
                    <a:pt x="616" y="619"/>
                  </a:lnTo>
                  <a:lnTo>
                    <a:pt x="629" y="641"/>
                  </a:lnTo>
                  <a:lnTo>
                    <a:pt x="643" y="659"/>
                  </a:lnTo>
                  <a:lnTo>
                    <a:pt x="652" y="668"/>
                  </a:lnTo>
                  <a:lnTo>
                    <a:pt x="661" y="672"/>
                  </a:lnTo>
                  <a:lnTo>
                    <a:pt x="684" y="672"/>
                  </a:lnTo>
                  <a:lnTo>
                    <a:pt x="711" y="681"/>
                  </a:lnTo>
                  <a:lnTo>
                    <a:pt x="743" y="690"/>
                  </a:lnTo>
                  <a:lnTo>
                    <a:pt x="775" y="707"/>
                  </a:lnTo>
                  <a:lnTo>
                    <a:pt x="798" y="730"/>
                  </a:lnTo>
                  <a:lnTo>
                    <a:pt x="816" y="760"/>
                  </a:lnTo>
                  <a:lnTo>
                    <a:pt x="816" y="796"/>
                  </a:lnTo>
                  <a:lnTo>
                    <a:pt x="794" y="796"/>
                  </a:lnTo>
                  <a:lnTo>
                    <a:pt x="771" y="800"/>
                  </a:lnTo>
                  <a:lnTo>
                    <a:pt x="743" y="800"/>
                  </a:lnTo>
                  <a:lnTo>
                    <a:pt x="721" y="800"/>
                  </a:lnTo>
                  <a:lnTo>
                    <a:pt x="698" y="805"/>
                  </a:lnTo>
                  <a:lnTo>
                    <a:pt x="680" y="809"/>
                  </a:lnTo>
                  <a:lnTo>
                    <a:pt x="666" y="818"/>
                  </a:lnTo>
                  <a:lnTo>
                    <a:pt x="657" y="827"/>
                  </a:lnTo>
                  <a:lnTo>
                    <a:pt x="661" y="849"/>
                  </a:lnTo>
                  <a:lnTo>
                    <a:pt x="675" y="862"/>
                  </a:lnTo>
                  <a:lnTo>
                    <a:pt x="693" y="867"/>
                  </a:lnTo>
                  <a:lnTo>
                    <a:pt x="707" y="871"/>
                  </a:lnTo>
                  <a:lnTo>
                    <a:pt x="707" y="884"/>
                  </a:lnTo>
                  <a:lnTo>
                    <a:pt x="702" y="902"/>
                  </a:lnTo>
                  <a:lnTo>
                    <a:pt x="702" y="911"/>
                  </a:lnTo>
                  <a:lnTo>
                    <a:pt x="707" y="920"/>
                  </a:lnTo>
                  <a:lnTo>
                    <a:pt x="716" y="920"/>
                  </a:lnTo>
                  <a:lnTo>
                    <a:pt x="739" y="929"/>
                  </a:lnTo>
                  <a:lnTo>
                    <a:pt x="762" y="937"/>
                  </a:lnTo>
                  <a:lnTo>
                    <a:pt x="789" y="951"/>
                  </a:lnTo>
                  <a:lnTo>
                    <a:pt x="812" y="973"/>
                  </a:lnTo>
                  <a:lnTo>
                    <a:pt x="825" y="995"/>
                  </a:lnTo>
                  <a:lnTo>
                    <a:pt x="835" y="1021"/>
                  </a:lnTo>
                  <a:lnTo>
                    <a:pt x="825" y="1052"/>
                  </a:lnTo>
                  <a:lnTo>
                    <a:pt x="807" y="1044"/>
                  </a:lnTo>
                  <a:lnTo>
                    <a:pt x="784" y="1039"/>
                  </a:lnTo>
                  <a:lnTo>
                    <a:pt x="752" y="1035"/>
                  </a:lnTo>
                  <a:lnTo>
                    <a:pt x="721" y="1030"/>
                  </a:lnTo>
                  <a:lnTo>
                    <a:pt x="684" y="1035"/>
                  </a:lnTo>
                  <a:lnTo>
                    <a:pt x="652" y="1039"/>
                  </a:lnTo>
                  <a:lnTo>
                    <a:pt x="625" y="1052"/>
                  </a:lnTo>
                  <a:lnTo>
                    <a:pt x="607" y="1074"/>
                  </a:lnTo>
                  <a:lnTo>
                    <a:pt x="620" y="1079"/>
                  </a:lnTo>
                  <a:lnTo>
                    <a:pt x="643" y="1083"/>
                  </a:lnTo>
                  <a:lnTo>
                    <a:pt x="666" y="1083"/>
                  </a:lnTo>
                  <a:lnTo>
                    <a:pt x="680" y="1088"/>
                  </a:lnTo>
                  <a:lnTo>
                    <a:pt x="684" y="1097"/>
                  </a:lnTo>
                  <a:lnTo>
                    <a:pt x="689" y="1114"/>
                  </a:lnTo>
                  <a:lnTo>
                    <a:pt x="689" y="1128"/>
                  </a:lnTo>
                  <a:lnTo>
                    <a:pt x="698" y="1132"/>
                  </a:lnTo>
                  <a:lnTo>
                    <a:pt x="716" y="1132"/>
                  </a:lnTo>
                  <a:lnTo>
                    <a:pt x="743" y="1141"/>
                  </a:lnTo>
                  <a:lnTo>
                    <a:pt x="771" y="1172"/>
                  </a:lnTo>
                  <a:lnTo>
                    <a:pt x="775" y="1234"/>
                  </a:lnTo>
                  <a:lnTo>
                    <a:pt x="748" y="1238"/>
                  </a:lnTo>
                  <a:lnTo>
                    <a:pt x="725" y="1251"/>
                  </a:lnTo>
                  <a:lnTo>
                    <a:pt x="707" y="1269"/>
                  </a:lnTo>
                  <a:lnTo>
                    <a:pt x="698" y="1274"/>
                  </a:lnTo>
                  <a:lnTo>
                    <a:pt x="721" y="1291"/>
                  </a:lnTo>
                  <a:lnTo>
                    <a:pt x="743" y="1318"/>
                  </a:lnTo>
                  <a:lnTo>
                    <a:pt x="766" y="1349"/>
                  </a:lnTo>
                  <a:lnTo>
                    <a:pt x="780" y="1362"/>
                  </a:lnTo>
                  <a:lnTo>
                    <a:pt x="798" y="1362"/>
                  </a:lnTo>
                  <a:lnTo>
                    <a:pt x="821" y="1362"/>
                  </a:lnTo>
                  <a:lnTo>
                    <a:pt x="835" y="1362"/>
                  </a:lnTo>
                  <a:lnTo>
                    <a:pt x="844" y="1358"/>
                  </a:lnTo>
                  <a:lnTo>
                    <a:pt x="844" y="1331"/>
                  </a:lnTo>
                  <a:lnTo>
                    <a:pt x="839" y="1287"/>
                  </a:lnTo>
                  <a:lnTo>
                    <a:pt x="839" y="1238"/>
                  </a:lnTo>
                  <a:lnTo>
                    <a:pt x="844" y="1203"/>
                  </a:lnTo>
                  <a:lnTo>
                    <a:pt x="876" y="1194"/>
                  </a:lnTo>
                  <a:lnTo>
                    <a:pt x="903" y="1189"/>
                  </a:lnTo>
                  <a:lnTo>
                    <a:pt x="930" y="1181"/>
                  </a:lnTo>
                  <a:lnTo>
                    <a:pt x="949" y="1167"/>
                  </a:lnTo>
                  <a:lnTo>
                    <a:pt x="930" y="1150"/>
                  </a:lnTo>
                  <a:lnTo>
                    <a:pt x="912" y="1119"/>
                  </a:lnTo>
                  <a:lnTo>
                    <a:pt x="917" y="1083"/>
                  </a:lnTo>
                  <a:lnTo>
                    <a:pt x="944" y="1048"/>
                  </a:lnTo>
                  <a:lnTo>
                    <a:pt x="917" y="1035"/>
                  </a:lnTo>
                  <a:lnTo>
                    <a:pt x="894" y="1021"/>
                  </a:lnTo>
                  <a:lnTo>
                    <a:pt x="867" y="1004"/>
                  </a:lnTo>
                  <a:lnTo>
                    <a:pt x="844" y="986"/>
                  </a:lnTo>
                  <a:lnTo>
                    <a:pt x="825" y="968"/>
                  </a:lnTo>
                  <a:lnTo>
                    <a:pt x="816" y="951"/>
                  </a:lnTo>
                  <a:lnTo>
                    <a:pt x="816" y="942"/>
                  </a:lnTo>
                  <a:lnTo>
                    <a:pt x="825" y="937"/>
                  </a:lnTo>
                  <a:lnTo>
                    <a:pt x="844" y="937"/>
                  </a:lnTo>
                  <a:lnTo>
                    <a:pt x="862" y="933"/>
                  </a:lnTo>
                  <a:lnTo>
                    <a:pt x="885" y="929"/>
                  </a:lnTo>
                  <a:lnTo>
                    <a:pt x="908" y="924"/>
                  </a:lnTo>
                  <a:lnTo>
                    <a:pt x="926" y="920"/>
                  </a:lnTo>
                  <a:lnTo>
                    <a:pt x="944" y="915"/>
                  </a:lnTo>
                  <a:lnTo>
                    <a:pt x="962" y="915"/>
                  </a:lnTo>
                  <a:lnTo>
                    <a:pt x="971" y="911"/>
                  </a:lnTo>
                  <a:lnTo>
                    <a:pt x="953" y="893"/>
                  </a:lnTo>
                  <a:lnTo>
                    <a:pt x="953" y="880"/>
                  </a:lnTo>
                  <a:lnTo>
                    <a:pt x="971" y="867"/>
                  </a:lnTo>
                  <a:lnTo>
                    <a:pt x="1022" y="862"/>
                  </a:lnTo>
                  <a:lnTo>
                    <a:pt x="1022" y="845"/>
                  </a:lnTo>
                  <a:lnTo>
                    <a:pt x="1022" y="809"/>
                  </a:lnTo>
                  <a:lnTo>
                    <a:pt x="1017" y="769"/>
                  </a:lnTo>
                  <a:lnTo>
                    <a:pt x="1008" y="747"/>
                  </a:lnTo>
                  <a:lnTo>
                    <a:pt x="990" y="738"/>
                  </a:lnTo>
                  <a:lnTo>
                    <a:pt x="953" y="725"/>
                  </a:lnTo>
                  <a:lnTo>
                    <a:pt x="912" y="716"/>
                  </a:lnTo>
                  <a:lnTo>
                    <a:pt x="894" y="707"/>
                  </a:lnTo>
                  <a:lnTo>
                    <a:pt x="889" y="694"/>
                  </a:lnTo>
                  <a:lnTo>
                    <a:pt x="894" y="672"/>
                  </a:lnTo>
                  <a:lnTo>
                    <a:pt x="908" y="654"/>
                  </a:lnTo>
                  <a:lnTo>
                    <a:pt x="930" y="641"/>
                  </a:lnTo>
                  <a:lnTo>
                    <a:pt x="944" y="637"/>
                  </a:lnTo>
                  <a:lnTo>
                    <a:pt x="962" y="637"/>
                  </a:lnTo>
                  <a:lnTo>
                    <a:pt x="985" y="632"/>
                  </a:lnTo>
                  <a:lnTo>
                    <a:pt x="1003" y="632"/>
                  </a:lnTo>
                  <a:lnTo>
                    <a:pt x="1026" y="628"/>
                  </a:lnTo>
                  <a:lnTo>
                    <a:pt x="1044" y="628"/>
                  </a:lnTo>
                  <a:lnTo>
                    <a:pt x="1063" y="623"/>
                  </a:lnTo>
                  <a:lnTo>
                    <a:pt x="1072" y="619"/>
                  </a:lnTo>
                  <a:lnTo>
                    <a:pt x="1104" y="606"/>
                  </a:lnTo>
                  <a:lnTo>
                    <a:pt x="1145" y="584"/>
                  </a:lnTo>
                  <a:lnTo>
                    <a:pt x="1177" y="557"/>
                  </a:lnTo>
                  <a:lnTo>
                    <a:pt x="1190" y="522"/>
                  </a:lnTo>
                  <a:lnTo>
                    <a:pt x="1163" y="513"/>
                  </a:lnTo>
                  <a:lnTo>
                    <a:pt x="1131" y="508"/>
                  </a:lnTo>
                  <a:lnTo>
                    <a:pt x="1095" y="504"/>
                  </a:lnTo>
                  <a:lnTo>
                    <a:pt x="1063" y="504"/>
                  </a:lnTo>
                  <a:lnTo>
                    <a:pt x="1044" y="504"/>
                  </a:lnTo>
                  <a:lnTo>
                    <a:pt x="1026" y="508"/>
                  </a:lnTo>
                  <a:lnTo>
                    <a:pt x="1008" y="508"/>
                  </a:lnTo>
                  <a:lnTo>
                    <a:pt x="985" y="508"/>
                  </a:lnTo>
                  <a:lnTo>
                    <a:pt x="962" y="504"/>
                  </a:lnTo>
                  <a:lnTo>
                    <a:pt x="944" y="504"/>
                  </a:lnTo>
                  <a:lnTo>
                    <a:pt x="935" y="504"/>
                  </a:lnTo>
                  <a:lnTo>
                    <a:pt x="926" y="500"/>
                  </a:lnTo>
                  <a:lnTo>
                    <a:pt x="944" y="482"/>
                  </a:lnTo>
                  <a:lnTo>
                    <a:pt x="967" y="464"/>
                  </a:lnTo>
                  <a:lnTo>
                    <a:pt x="990" y="451"/>
                  </a:lnTo>
                  <a:lnTo>
                    <a:pt x="1008" y="446"/>
                  </a:lnTo>
                  <a:lnTo>
                    <a:pt x="1026" y="446"/>
                  </a:lnTo>
                  <a:lnTo>
                    <a:pt x="1049" y="446"/>
                  </a:lnTo>
                  <a:lnTo>
                    <a:pt x="1072" y="451"/>
                  </a:lnTo>
                  <a:lnTo>
                    <a:pt x="1085" y="451"/>
                  </a:lnTo>
                  <a:lnTo>
                    <a:pt x="1099" y="442"/>
                  </a:lnTo>
                  <a:lnTo>
                    <a:pt x="1117" y="429"/>
                  </a:lnTo>
                  <a:lnTo>
                    <a:pt x="1131" y="416"/>
                  </a:lnTo>
                  <a:lnTo>
                    <a:pt x="1149" y="407"/>
                  </a:lnTo>
                  <a:lnTo>
                    <a:pt x="1172" y="402"/>
                  </a:lnTo>
                  <a:lnTo>
                    <a:pt x="1190" y="402"/>
                  </a:lnTo>
                  <a:lnTo>
                    <a:pt x="1213" y="407"/>
                  </a:lnTo>
                  <a:lnTo>
                    <a:pt x="1236" y="416"/>
                  </a:lnTo>
                  <a:lnTo>
                    <a:pt x="1236" y="393"/>
                  </a:lnTo>
                  <a:lnTo>
                    <a:pt x="1236" y="371"/>
                  </a:lnTo>
                  <a:lnTo>
                    <a:pt x="1236" y="349"/>
                  </a:lnTo>
                  <a:lnTo>
                    <a:pt x="1240" y="336"/>
                  </a:lnTo>
                  <a:lnTo>
                    <a:pt x="1227" y="349"/>
                  </a:lnTo>
                  <a:lnTo>
                    <a:pt x="1209" y="354"/>
                  </a:lnTo>
                  <a:lnTo>
                    <a:pt x="1186" y="349"/>
                  </a:lnTo>
                  <a:lnTo>
                    <a:pt x="1158" y="332"/>
                  </a:lnTo>
                  <a:lnTo>
                    <a:pt x="1131" y="309"/>
                  </a:lnTo>
                  <a:lnTo>
                    <a:pt x="1113" y="292"/>
                  </a:lnTo>
                  <a:lnTo>
                    <a:pt x="1104" y="274"/>
                  </a:lnTo>
                  <a:lnTo>
                    <a:pt x="1108" y="265"/>
                  </a:lnTo>
                  <a:lnTo>
                    <a:pt x="1126" y="256"/>
                  </a:lnTo>
                  <a:lnTo>
                    <a:pt x="1154" y="243"/>
                  </a:lnTo>
                  <a:lnTo>
                    <a:pt x="1186" y="239"/>
                  </a:lnTo>
                  <a:lnTo>
                    <a:pt x="1222" y="239"/>
                  </a:lnTo>
                  <a:lnTo>
                    <a:pt x="1236" y="230"/>
                  </a:lnTo>
                  <a:lnTo>
                    <a:pt x="1259" y="221"/>
                  </a:lnTo>
                  <a:lnTo>
                    <a:pt x="1282" y="217"/>
                  </a:lnTo>
                  <a:lnTo>
                    <a:pt x="1304" y="217"/>
                  </a:lnTo>
                  <a:lnTo>
                    <a:pt x="1300" y="181"/>
                  </a:lnTo>
                  <a:lnTo>
                    <a:pt x="1300" y="146"/>
                  </a:lnTo>
                  <a:lnTo>
                    <a:pt x="1304" y="115"/>
                  </a:lnTo>
                  <a:lnTo>
                    <a:pt x="1313" y="93"/>
                  </a:lnTo>
                  <a:lnTo>
                    <a:pt x="1323" y="66"/>
                  </a:lnTo>
                  <a:lnTo>
                    <a:pt x="1327" y="35"/>
                  </a:lnTo>
                  <a:lnTo>
                    <a:pt x="1332" y="9"/>
                  </a:lnTo>
                  <a:lnTo>
                    <a:pt x="1336" y="0"/>
                  </a:lnTo>
                  <a:lnTo>
                    <a:pt x="1345" y="9"/>
                  </a:lnTo>
                  <a:lnTo>
                    <a:pt x="1354" y="31"/>
                  </a:lnTo>
                  <a:lnTo>
                    <a:pt x="1359" y="57"/>
                  </a:lnTo>
                  <a:lnTo>
                    <a:pt x="1359" y="84"/>
                  </a:lnTo>
                  <a:lnTo>
                    <a:pt x="1359" y="106"/>
                  </a:lnTo>
                  <a:lnTo>
                    <a:pt x="1364" y="128"/>
                  </a:lnTo>
                  <a:lnTo>
                    <a:pt x="1373" y="146"/>
                  </a:lnTo>
                  <a:lnTo>
                    <a:pt x="1382" y="163"/>
                  </a:lnTo>
                  <a:lnTo>
                    <a:pt x="1409" y="150"/>
                  </a:lnTo>
                  <a:lnTo>
                    <a:pt x="1432" y="146"/>
                  </a:lnTo>
                  <a:lnTo>
                    <a:pt x="1450" y="150"/>
                  </a:lnTo>
                  <a:lnTo>
                    <a:pt x="1469" y="159"/>
                  </a:lnTo>
                  <a:lnTo>
                    <a:pt x="1482" y="172"/>
                  </a:lnTo>
                  <a:lnTo>
                    <a:pt x="1491" y="190"/>
                  </a:lnTo>
                  <a:lnTo>
                    <a:pt x="1491" y="203"/>
                  </a:lnTo>
                  <a:lnTo>
                    <a:pt x="1478" y="208"/>
                  </a:lnTo>
                  <a:lnTo>
                    <a:pt x="1455" y="212"/>
                  </a:lnTo>
                  <a:lnTo>
                    <a:pt x="1437" y="221"/>
                  </a:lnTo>
                  <a:lnTo>
                    <a:pt x="1423" y="230"/>
                  </a:lnTo>
                  <a:lnTo>
                    <a:pt x="1414" y="243"/>
                  </a:lnTo>
                  <a:lnTo>
                    <a:pt x="1414" y="274"/>
                  </a:lnTo>
                  <a:lnTo>
                    <a:pt x="1418" y="305"/>
                  </a:lnTo>
                  <a:lnTo>
                    <a:pt x="1427" y="336"/>
                  </a:lnTo>
                  <a:lnTo>
                    <a:pt x="1441" y="358"/>
                  </a:lnTo>
                  <a:lnTo>
                    <a:pt x="1464" y="376"/>
                  </a:lnTo>
                  <a:lnTo>
                    <a:pt x="1487" y="393"/>
                  </a:lnTo>
                  <a:lnTo>
                    <a:pt x="1514" y="407"/>
                  </a:lnTo>
                  <a:lnTo>
                    <a:pt x="1537" y="416"/>
                  </a:lnTo>
                  <a:lnTo>
                    <a:pt x="1555" y="424"/>
                  </a:lnTo>
                  <a:lnTo>
                    <a:pt x="1583" y="442"/>
                  </a:lnTo>
                  <a:lnTo>
                    <a:pt x="1601" y="464"/>
                  </a:lnTo>
                  <a:lnTo>
                    <a:pt x="1610" y="486"/>
                  </a:lnTo>
                  <a:lnTo>
                    <a:pt x="1610" y="504"/>
                  </a:lnTo>
                  <a:lnTo>
                    <a:pt x="1610" y="513"/>
                  </a:lnTo>
                  <a:lnTo>
                    <a:pt x="1601" y="522"/>
                  </a:lnTo>
                  <a:lnTo>
                    <a:pt x="1583" y="531"/>
                  </a:lnTo>
                  <a:lnTo>
                    <a:pt x="1560" y="539"/>
                  </a:lnTo>
                  <a:lnTo>
                    <a:pt x="1532" y="544"/>
                  </a:lnTo>
                  <a:lnTo>
                    <a:pt x="1510" y="548"/>
                  </a:lnTo>
                  <a:lnTo>
                    <a:pt x="1500" y="548"/>
                  </a:lnTo>
                  <a:lnTo>
                    <a:pt x="1491" y="544"/>
                  </a:lnTo>
                  <a:lnTo>
                    <a:pt x="1473" y="544"/>
                  </a:lnTo>
                  <a:lnTo>
                    <a:pt x="1450" y="539"/>
                  </a:lnTo>
                  <a:lnTo>
                    <a:pt x="1427" y="539"/>
                  </a:lnTo>
                  <a:lnTo>
                    <a:pt x="1400" y="535"/>
                  </a:lnTo>
                  <a:lnTo>
                    <a:pt x="1382" y="535"/>
                  </a:lnTo>
                  <a:lnTo>
                    <a:pt x="1364" y="535"/>
                  </a:lnTo>
                  <a:lnTo>
                    <a:pt x="1359" y="535"/>
                  </a:lnTo>
                  <a:lnTo>
                    <a:pt x="1354" y="535"/>
                  </a:lnTo>
                  <a:lnTo>
                    <a:pt x="1345" y="539"/>
                  </a:lnTo>
                  <a:lnTo>
                    <a:pt x="1341" y="548"/>
                  </a:lnTo>
                  <a:lnTo>
                    <a:pt x="1341" y="557"/>
                  </a:lnTo>
                  <a:lnTo>
                    <a:pt x="1350" y="570"/>
                  </a:lnTo>
                  <a:lnTo>
                    <a:pt x="1359" y="584"/>
                  </a:lnTo>
                  <a:lnTo>
                    <a:pt x="1373" y="592"/>
                  </a:lnTo>
                  <a:lnTo>
                    <a:pt x="1391" y="601"/>
                  </a:lnTo>
                  <a:lnTo>
                    <a:pt x="1405" y="601"/>
                  </a:lnTo>
                  <a:lnTo>
                    <a:pt x="1423" y="601"/>
                  </a:lnTo>
                  <a:lnTo>
                    <a:pt x="1446" y="597"/>
                  </a:lnTo>
                  <a:lnTo>
                    <a:pt x="1473" y="597"/>
                  </a:lnTo>
                  <a:lnTo>
                    <a:pt x="1496" y="597"/>
                  </a:lnTo>
                  <a:lnTo>
                    <a:pt x="1523" y="597"/>
                  </a:lnTo>
                  <a:lnTo>
                    <a:pt x="1541" y="597"/>
                  </a:lnTo>
                  <a:lnTo>
                    <a:pt x="1555" y="601"/>
                  </a:lnTo>
                  <a:lnTo>
                    <a:pt x="1569" y="606"/>
                  </a:lnTo>
                  <a:lnTo>
                    <a:pt x="1592" y="615"/>
                  </a:lnTo>
                  <a:lnTo>
                    <a:pt x="1619" y="628"/>
                  </a:lnTo>
                  <a:lnTo>
                    <a:pt x="1642" y="641"/>
                  </a:lnTo>
                  <a:lnTo>
                    <a:pt x="1665" y="654"/>
                  </a:lnTo>
                  <a:lnTo>
                    <a:pt x="1678" y="668"/>
                  </a:lnTo>
                  <a:lnTo>
                    <a:pt x="1687" y="681"/>
                  </a:lnTo>
                  <a:lnTo>
                    <a:pt x="1683" y="694"/>
                  </a:lnTo>
                  <a:lnTo>
                    <a:pt x="1669" y="703"/>
                  </a:lnTo>
                  <a:lnTo>
                    <a:pt x="1646" y="707"/>
                  </a:lnTo>
                  <a:lnTo>
                    <a:pt x="1614" y="716"/>
                  </a:lnTo>
                  <a:lnTo>
                    <a:pt x="1578" y="721"/>
                  </a:lnTo>
                  <a:lnTo>
                    <a:pt x="1546" y="721"/>
                  </a:lnTo>
                  <a:lnTo>
                    <a:pt x="1514" y="721"/>
                  </a:lnTo>
                  <a:lnTo>
                    <a:pt x="1487" y="716"/>
                  </a:lnTo>
                  <a:lnTo>
                    <a:pt x="1469" y="712"/>
                  </a:lnTo>
                  <a:lnTo>
                    <a:pt x="1455" y="716"/>
                  </a:lnTo>
                  <a:lnTo>
                    <a:pt x="1446" y="725"/>
                  </a:lnTo>
                  <a:lnTo>
                    <a:pt x="1441" y="734"/>
                  </a:lnTo>
                  <a:lnTo>
                    <a:pt x="1437" y="747"/>
                  </a:lnTo>
                  <a:lnTo>
                    <a:pt x="1455" y="760"/>
                  </a:lnTo>
                  <a:lnTo>
                    <a:pt x="1473" y="774"/>
                  </a:lnTo>
                  <a:lnTo>
                    <a:pt x="1491" y="783"/>
                  </a:lnTo>
                  <a:lnTo>
                    <a:pt x="1491" y="791"/>
                  </a:lnTo>
                  <a:lnTo>
                    <a:pt x="1478" y="809"/>
                  </a:lnTo>
                  <a:lnTo>
                    <a:pt x="1455" y="831"/>
                  </a:lnTo>
                  <a:lnTo>
                    <a:pt x="1441" y="858"/>
                  </a:lnTo>
                  <a:lnTo>
                    <a:pt x="1446" y="871"/>
                  </a:lnTo>
                  <a:lnTo>
                    <a:pt x="1469" y="875"/>
                  </a:lnTo>
                  <a:lnTo>
                    <a:pt x="1505" y="871"/>
                  </a:lnTo>
                  <a:lnTo>
                    <a:pt x="1537" y="871"/>
                  </a:lnTo>
                  <a:lnTo>
                    <a:pt x="1555" y="875"/>
                  </a:lnTo>
                  <a:lnTo>
                    <a:pt x="1578" y="893"/>
                  </a:lnTo>
                  <a:lnTo>
                    <a:pt x="1610" y="920"/>
                  </a:lnTo>
                  <a:lnTo>
                    <a:pt x="1633" y="946"/>
                  </a:lnTo>
                  <a:lnTo>
                    <a:pt x="1628" y="964"/>
                  </a:lnTo>
                  <a:lnTo>
                    <a:pt x="1614" y="968"/>
                  </a:lnTo>
                  <a:lnTo>
                    <a:pt x="1592" y="968"/>
                  </a:lnTo>
                  <a:lnTo>
                    <a:pt x="1564" y="973"/>
                  </a:lnTo>
                  <a:lnTo>
                    <a:pt x="1537" y="977"/>
                  </a:lnTo>
                  <a:lnTo>
                    <a:pt x="1510" y="982"/>
                  </a:lnTo>
                  <a:lnTo>
                    <a:pt x="1487" y="986"/>
                  </a:lnTo>
                  <a:lnTo>
                    <a:pt x="1469" y="990"/>
                  </a:lnTo>
                  <a:lnTo>
                    <a:pt x="1464" y="995"/>
                  </a:lnTo>
                  <a:lnTo>
                    <a:pt x="1459" y="1004"/>
                  </a:lnTo>
                  <a:lnTo>
                    <a:pt x="1459" y="1008"/>
                  </a:lnTo>
                  <a:lnTo>
                    <a:pt x="1464" y="1017"/>
                  </a:lnTo>
                  <a:lnTo>
                    <a:pt x="1478" y="1026"/>
                  </a:lnTo>
                  <a:lnTo>
                    <a:pt x="1505" y="1035"/>
                  </a:lnTo>
                  <a:lnTo>
                    <a:pt x="1532" y="1044"/>
                  </a:lnTo>
                  <a:lnTo>
                    <a:pt x="1564" y="1057"/>
                  </a:lnTo>
                  <a:lnTo>
                    <a:pt x="1587" y="1070"/>
                  </a:lnTo>
                  <a:lnTo>
                    <a:pt x="1605" y="1088"/>
                  </a:lnTo>
                  <a:lnTo>
                    <a:pt x="1619" y="1110"/>
                  </a:lnTo>
                  <a:lnTo>
                    <a:pt x="1624" y="1128"/>
                  </a:lnTo>
                  <a:lnTo>
                    <a:pt x="1614" y="1136"/>
                  </a:lnTo>
                  <a:lnTo>
                    <a:pt x="1601" y="1132"/>
                  </a:lnTo>
                  <a:lnTo>
                    <a:pt x="1587" y="1128"/>
                  </a:lnTo>
                  <a:lnTo>
                    <a:pt x="1573" y="1128"/>
                  </a:lnTo>
                  <a:lnTo>
                    <a:pt x="1560" y="1123"/>
                  </a:lnTo>
                  <a:lnTo>
                    <a:pt x="1541" y="1119"/>
                  </a:lnTo>
                  <a:lnTo>
                    <a:pt x="1519" y="1123"/>
                  </a:lnTo>
                  <a:lnTo>
                    <a:pt x="1500" y="1132"/>
                  </a:lnTo>
                  <a:lnTo>
                    <a:pt x="1491" y="1141"/>
                  </a:lnTo>
                  <a:lnTo>
                    <a:pt x="1491" y="1150"/>
                  </a:lnTo>
                  <a:lnTo>
                    <a:pt x="1500" y="1167"/>
                  </a:lnTo>
                  <a:lnTo>
                    <a:pt x="1505" y="1185"/>
                  </a:lnTo>
                  <a:lnTo>
                    <a:pt x="1519" y="1194"/>
                  </a:lnTo>
                  <a:lnTo>
                    <a:pt x="1546" y="1194"/>
                  </a:lnTo>
                  <a:lnTo>
                    <a:pt x="1583" y="1194"/>
                  </a:lnTo>
                  <a:lnTo>
                    <a:pt x="1619" y="1194"/>
                  </a:lnTo>
                  <a:lnTo>
                    <a:pt x="1646" y="1185"/>
                  </a:lnTo>
                  <a:lnTo>
                    <a:pt x="1660" y="1198"/>
                  </a:lnTo>
                  <a:lnTo>
                    <a:pt x="1674" y="1212"/>
                  </a:lnTo>
                  <a:lnTo>
                    <a:pt x="1678" y="1225"/>
                  </a:lnTo>
                  <a:lnTo>
                    <a:pt x="1683" y="1234"/>
                  </a:lnTo>
                  <a:lnTo>
                    <a:pt x="1697" y="1256"/>
                  </a:lnTo>
                  <a:lnTo>
                    <a:pt x="1719" y="1291"/>
                  </a:lnTo>
                  <a:lnTo>
                    <a:pt x="1733" y="1322"/>
                  </a:lnTo>
                  <a:lnTo>
                    <a:pt x="1728" y="1344"/>
                  </a:lnTo>
                  <a:lnTo>
                    <a:pt x="1710" y="1349"/>
                  </a:lnTo>
                  <a:lnTo>
                    <a:pt x="1692" y="1344"/>
                  </a:lnTo>
                  <a:lnTo>
                    <a:pt x="1669" y="1344"/>
                  </a:lnTo>
                  <a:lnTo>
                    <a:pt x="1646" y="1340"/>
                  </a:lnTo>
                  <a:lnTo>
                    <a:pt x="1628" y="1331"/>
                  </a:lnTo>
                  <a:lnTo>
                    <a:pt x="1605" y="1327"/>
                  </a:lnTo>
                  <a:lnTo>
                    <a:pt x="1592" y="1322"/>
                  </a:lnTo>
                  <a:lnTo>
                    <a:pt x="1578" y="1322"/>
                  </a:lnTo>
                  <a:lnTo>
                    <a:pt x="1596" y="1344"/>
                  </a:lnTo>
                  <a:lnTo>
                    <a:pt x="1614" y="1371"/>
                  </a:lnTo>
                  <a:lnTo>
                    <a:pt x="1624" y="1393"/>
                  </a:lnTo>
                  <a:lnTo>
                    <a:pt x="1614" y="1411"/>
                  </a:lnTo>
                  <a:lnTo>
                    <a:pt x="1614" y="1419"/>
                  </a:lnTo>
                  <a:lnTo>
                    <a:pt x="1624" y="1433"/>
                  </a:lnTo>
                  <a:lnTo>
                    <a:pt x="1637" y="1450"/>
                  </a:lnTo>
                  <a:lnTo>
                    <a:pt x="1655" y="1468"/>
                  </a:lnTo>
                  <a:lnTo>
                    <a:pt x="1669" y="1486"/>
                  </a:lnTo>
                  <a:lnTo>
                    <a:pt x="1678" y="1508"/>
                  </a:lnTo>
                  <a:lnTo>
                    <a:pt x="1674" y="1526"/>
                  </a:lnTo>
                  <a:lnTo>
                    <a:pt x="1655" y="1543"/>
                  </a:lnTo>
                  <a:lnTo>
                    <a:pt x="1642" y="1548"/>
                  </a:lnTo>
                  <a:lnTo>
                    <a:pt x="1624" y="1552"/>
                  </a:lnTo>
                  <a:lnTo>
                    <a:pt x="1610" y="1557"/>
                  </a:lnTo>
                  <a:lnTo>
                    <a:pt x="1601" y="1565"/>
                  </a:lnTo>
                  <a:lnTo>
                    <a:pt x="1596" y="1579"/>
                  </a:lnTo>
                  <a:lnTo>
                    <a:pt x="1596" y="1596"/>
                  </a:lnTo>
                  <a:lnTo>
                    <a:pt x="1605" y="1610"/>
                  </a:lnTo>
                  <a:lnTo>
                    <a:pt x="1619" y="1618"/>
                  </a:lnTo>
                  <a:lnTo>
                    <a:pt x="1642" y="1632"/>
                  </a:lnTo>
                  <a:lnTo>
                    <a:pt x="1669" y="1658"/>
                  </a:lnTo>
                  <a:lnTo>
                    <a:pt x="1683" y="1685"/>
                  </a:lnTo>
                  <a:lnTo>
                    <a:pt x="1692" y="1707"/>
                  </a:lnTo>
                  <a:lnTo>
                    <a:pt x="1678" y="1725"/>
                  </a:lnTo>
                  <a:lnTo>
                    <a:pt x="1651" y="1742"/>
                  </a:lnTo>
                  <a:lnTo>
                    <a:pt x="1628" y="1760"/>
                  </a:lnTo>
                  <a:lnTo>
                    <a:pt x="1614" y="1769"/>
                  </a:lnTo>
                  <a:lnTo>
                    <a:pt x="1619" y="1773"/>
                  </a:lnTo>
                  <a:lnTo>
                    <a:pt x="1637" y="1782"/>
                  </a:lnTo>
                  <a:lnTo>
                    <a:pt x="1660" y="1791"/>
                  </a:lnTo>
                  <a:lnTo>
                    <a:pt x="1683" y="1804"/>
                  </a:lnTo>
                  <a:lnTo>
                    <a:pt x="1710" y="1813"/>
                  </a:lnTo>
                  <a:lnTo>
                    <a:pt x="1728" y="1826"/>
                  </a:lnTo>
                  <a:lnTo>
                    <a:pt x="1738" y="1835"/>
                  </a:lnTo>
                  <a:lnTo>
                    <a:pt x="1738" y="1844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4"/>
            <p:cNvSpPr/>
            <p:nvPr/>
          </p:nvSpPr>
          <p:spPr>
            <a:xfrm>
              <a:off x="2562120" y="4171680"/>
              <a:ext cx="2570400" cy="2686320"/>
            </a:xfrm>
            <a:custGeom>
              <a:avLst/>
              <a:gdLst>
                <a:gd name="textAreaLeft" fmla="*/ 0 w 2570400"/>
                <a:gd name="textAreaRight" fmla="*/ 2570760 w 2570400"/>
                <a:gd name="textAreaTop" fmla="*/ 0 h 2686320"/>
                <a:gd name="textAreaBottom" fmla="*/ 2686680 h 2686320"/>
              </a:gdLst>
              <a:ahLst/>
              <a:rect l="textAreaLeft" t="textAreaTop" r="textAreaRight" b="textAreaBottom"/>
              <a:pathLst>
                <a:path w="1619" h="1875">
                  <a:moveTo>
                    <a:pt x="1619" y="1875"/>
                  </a:moveTo>
                  <a:lnTo>
                    <a:pt x="124" y="1875"/>
                  </a:lnTo>
                  <a:lnTo>
                    <a:pt x="124" y="1866"/>
                  </a:lnTo>
                  <a:lnTo>
                    <a:pt x="114" y="1857"/>
                  </a:lnTo>
                  <a:lnTo>
                    <a:pt x="96" y="1844"/>
                  </a:lnTo>
                  <a:lnTo>
                    <a:pt x="69" y="1835"/>
                  </a:lnTo>
                  <a:lnTo>
                    <a:pt x="46" y="1822"/>
                  </a:lnTo>
                  <a:lnTo>
                    <a:pt x="23" y="1813"/>
                  </a:lnTo>
                  <a:lnTo>
                    <a:pt x="5" y="1804"/>
                  </a:lnTo>
                  <a:lnTo>
                    <a:pt x="0" y="1800"/>
                  </a:lnTo>
                  <a:lnTo>
                    <a:pt x="14" y="1791"/>
                  </a:lnTo>
                  <a:lnTo>
                    <a:pt x="37" y="1773"/>
                  </a:lnTo>
                  <a:lnTo>
                    <a:pt x="64" y="1756"/>
                  </a:lnTo>
                  <a:lnTo>
                    <a:pt x="78" y="1738"/>
                  </a:lnTo>
                  <a:lnTo>
                    <a:pt x="69" y="1716"/>
                  </a:lnTo>
                  <a:lnTo>
                    <a:pt x="55" y="1689"/>
                  </a:lnTo>
                  <a:lnTo>
                    <a:pt x="28" y="1663"/>
                  </a:lnTo>
                  <a:lnTo>
                    <a:pt x="5" y="1649"/>
                  </a:lnTo>
                  <a:lnTo>
                    <a:pt x="28" y="1654"/>
                  </a:lnTo>
                  <a:lnTo>
                    <a:pt x="41" y="1645"/>
                  </a:lnTo>
                  <a:lnTo>
                    <a:pt x="51" y="1636"/>
                  </a:lnTo>
                  <a:lnTo>
                    <a:pt x="55" y="1618"/>
                  </a:lnTo>
                  <a:lnTo>
                    <a:pt x="55" y="1592"/>
                  </a:lnTo>
                  <a:lnTo>
                    <a:pt x="41" y="1552"/>
                  </a:lnTo>
                  <a:lnTo>
                    <a:pt x="23" y="1517"/>
                  </a:lnTo>
                  <a:lnTo>
                    <a:pt x="5" y="1490"/>
                  </a:lnTo>
                  <a:lnTo>
                    <a:pt x="28" y="1486"/>
                  </a:lnTo>
                  <a:lnTo>
                    <a:pt x="46" y="1459"/>
                  </a:lnTo>
                  <a:lnTo>
                    <a:pt x="64" y="1428"/>
                  </a:lnTo>
                  <a:lnTo>
                    <a:pt x="78" y="1406"/>
                  </a:lnTo>
                  <a:lnTo>
                    <a:pt x="92" y="1389"/>
                  </a:lnTo>
                  <a:lnTo>
                    <a:pt x="101" y="1371"/>
                  </a:lnTo>
                  <a:lnTo>
                    <a:pt x="110" y="1358"/>
                  </a:lnTo>
                  <a:lnTo>
                    <a:pt x="119" y="1349"/>
                  </a:lnTo>
                  <a:lnTo>
                    <a:pt x="101" y="1340"/>
                  </a:lnTo>
                  <a:lnTo>
                    <a:pt x="83" y="1309"/>
                  </a:lnTo>
                  <a:lnTo>
                    <a:pt x="73" y="1278"/>
                  </a:lnTo>
                  <a:lnTo>
                    <a:pt x="69" y="1265"/>
                  </a:lnTo>
                  <a:lnTo>
                    <a:pt x="105" y="1256"/>
                  </a:lnTo>
                  <a:lnTo>
                    <a:pt x="142" y="1238"/>
                  </a:lnTo>
                  <a:lnTo>
                    <a:pt x="169" y="1216"/>
                  </a:lnTo>
                  <a:lnTo>
                    <a:pt x="183" y="1194"/>
                  </a:lnTo>
                  <a:lnTo>
                    <a:pt x="151" y="1185"/>
                  </a:lnTo>
                  <a:lnTo>
                    <a:pt x="124" y="1163"/>
                  </a:lnTo>
                  <a:lnTo>
                    <a:pt x="101" y="1132"/>
                  </a:lnTo>
                  <a:lnTo>
                    <a:pt x="96" y="1105"/>
                  </a:lnTo>
                  <a:lnTo>
                    <a:pt x="110" y="1101"/>
                  </a:lnTo>
                  <a:lnTo>
                    <a:pt x="128" y="1101"/>
                  </a:lnTo>
                  <a:lnTo>
                    <a:pt x="151" y="1101"/>
                  </a:lnTo>
                  <a:lnTo>
                    <a:pt x="174" y="1101"/>
                  </a:lnTo>
                  <a:lnTo>
                    <a:pt x="197" y="1101"/>
                  </a:lnTo>
                  <a:lnTo>
                    <a:pt x="219" y="1101"/>
                  </a:lnTo>
                  <a:lnTo>
                    <a:pt x="233" y="1101"/>
                  </a:lnTo>
                  <a:lnTo>
                    <a:pt x="242" y="1097"/>
                  </a:lnTo>
                  <a:lnTo>
                    <a:pt x="242" y="1083"/>
                  </a:lnTo>
                  <a:lnTo>
                    <a:pt x="247" y="1066"/>
                  </a:lnTo>
                  <a:lnTo>
                    <a:pt x="256" y="1048"/>
                  </a:lnTo>
                  <a:lnTo>
                    <a:pt x="265" y="1039"/>
                  </a:lnTo>
                  <a:lnTo>
                    <a:pt x="242" y="1030"/>
                  </a:lnTo>
                  <a:lnTo>
                    <a:pt x="210" y="1021"/>
                  </a:lnTo>
                  <a:lnTo>
                    <a:pt x="174" y="1008"/>
                  </a:lnTo>
                  <a:lnTo>
                    <a:pt x="137" y="995"/>
                  </a:lnTo>
                  <a:lnTo>
                    <a:pt x="101" y="982"/>
                  </a:lnTo>
                  <a:lnTo>
                    <a:pt x="73" y="973"/>
                  </a:lnTo>
                  <a:lnTo>
                    <a:pt x="55" y="964"/>
                  </a:lnTo>
                  <a:lnTo>
                    <a:pt x="51" y="955"/>
                  </a:lnTo>
                  <a:lnTo>
                    <a:pt x="60" y="946"/>
                  </a:lnTo>
                  <a:lnTo>
                    <a:pt x="73" y="937"/>
                  </a:lnTo>
                  <a:lnTo>
                    <a:pt x="96" y="929"/>
                  </a:lnTo>
                  <a:lnTo>
                    <a:pt x="119" y="920"/>
                  </a:lnTo>
                  <a:lnTo>
                    <a:pt x="146" y="911"/>
                  </a:lnTo>
                  <a:lnTo>
                    <a:pt x="169" y="902"/>
                  </a:lnTo>
                  <a:lnTo>
                    <a:pt x="187" y="902"/>
                  </a:lnTo>
                  <a:lnTo>
                    <a:pt x="206" y="902"/>
                  </a:lnTo>
                  <a:lnTo>
                    <a:pt x="219" y="906"/>
                  </a:lnTo>
                  <a:lnTo>
                    <a:pt x="242" y="911"/>
                  </a:lnTo>
                  <a:lnTo>
                    <a:pt x="260" y="911"/>
                  </a:lnTo>
                  <a:lnTo>
                    <a:pt x="283" y="911"/>
                  </a:lnTo>
                  <a:lnTo>
                    <a:pt x="306" y="911"/>
                  </a:lnTo>
                  <a:lnTo>
                    <a:pt x="324" y="911"/>
                  </a:lnTo>
                  <a:lnTo>
                    <a:pt x="338" y="906"/>
                  </a:lnTo>
                  <a:lnTo>
                    <a:pt x="347" y="898"/>
                  </a:lnTo>
                  <a:lnTo>
                    <a:pt x="333" y="884"/>
                  </a:lnTo>
                  <a:lnTo>
                    <a:pt x="315" y="871"/>
                  </a:lnTo>
                  <a:lnTo>
                    <a:pt x="288" y="853"/>
                  </a:lnTo>
                  <a:lnTo>
                    <a:pt x="265" y="840"/>
                  </a:lnTo>
                  <a:lnTo>
                    <a:pt x="238" y="831"/>
                  </a:lnTo>
                  <a:lnTo>
                    <a:pt x="210" y="822"/>
                  </a:lnTo>
                  <a:lnTo>
                    <a:pt x="192" y="814"/>
                  </a:lnTo>
                  <a:lnTo>
                    <a:pt x="178" y="814"/>
                  </a:lnTo>
                  <a:lnTo>
                    <a:pt x="156" y="805"/>
                  </a:lnTo>
                  <a:lnTo>
                    <a:pt x="137" y="787"/>
                  </a:lnTo>
                  <a:lnTo>
                    <a:pt x="133" y="765"/>
                  </a:lnTo>
                  <a:lnTo>
                    <a:pt x="151" y="752"/>
                  </a:lnTo>
                  <a:lnTo>
                    <a:pt x="201" y="734"/>
                  </a:lnTo>
                  <a:lnTo>
                    <a:pt x="242" y="716"/>
                  </a:lnTo>
                  <a:lnTo>
                    <a:pt x="274" y="699"/>
                  </a:lnTo>
                  <a:lnTo>
                    <a:pt x="301" y="681"/>
                  </a:lnTo>
                  <a:lnTo>
                    <a:pt x="320" y="663"/>
                  </a:lnTo>
                  <a:lnTo>
                    <a:pt x="342" y="646"/>
                  </a:lnTo>
                  <a:lnTo>
                    <a:pt x="365" y="628"/>
                  </a:lnTo>
                  <a:lnTo>
                    <a:pt x="393" y="606"/>
                  </a:lnTo>
                  <a:lnTo>
                    <a:pt x="370" y="610"/>
                  </a:lnTo>
                  <a:lnTo>
                    <a:pt x="352" y="606"/>
                  </a:lnTo>
                  <a:lnTo>
                    <a:pt x="333" y="592"/>
                  </a:lnTo>
                  <a:lnTo>
                    <a:pt x="320" y="579"/>
                  </a:lnTo>
                  <a:lnTo>
                    <a:pt x="301" y="566"/>
                  </a:lnTo>
                  <a:lnTo>
                    <a:pt x="283" y="548"/>
                  </a:lnTo>
                  <a:lnTo>
                    <a:pt x="256" y="539"/>
                  </a:lnTo>
                  <a:lnTo>
                    <a:pt x="228" y="531"/>
                  </a:lnTo>
                  <a:lnTo>
                    <a:pt x="228" y="508"/>
                  </a:lnTo>
                  <a:lnTo>
                    <a:pt x="256" y="482"/>
                  </a:lnTo>
                  <a:lnTo>
                    <a:pt x="292" y="464"/>
                  </a:lnTo>
                  <a:lnTo>
                    <a:pt x="315" y="460"/>
                  </a:lnTo>
                  <a:lnTo>
                    <a:pt x="338" y="460"/>
                  </a:lnTo>
                  <a:lnTo>
                    <a:pt x="374" y="451"/>
                  </a:lnTo>
                  <a:lnTo>
                    <a:pt x="406" y="438"/>
                  </a:lnTo>
                  <a:lnTo>
                    <a:pt x="420" y="429"/>
                  </a:lnTo>
                  <a:lnTo>
                    <a:pt x="406" y="424"/>
                  </a:lnTo>
                  <a:lnTo>
                    <a:pt x="384" y="420"/>
                  </a:lnTo>
                  <a:lnTo>
                    <a:pt x="365" y="420"/>
                  </a:lnTo>
                  <a:lnTo>
                    <a:pt x="342" y="416"/>
                  </a:lnTo>
                  <a:lnTo>
                    <a:pt x="324" y="411"/>
                  </a:lnTo>
                  <a:lnTo>
                    <a:pt x="301" y="407"/>
                  </a:lnTo>
                  <a:lnTo>
                    <a:pt x="288" y="407"/>
                  </a:lnTo>
                  <a:lnTo>
                    <a:pt x="274" y="407"/>
                  </a:lnTo>
                  <a:lnTo>
                    <a:pt x="265" y="398"/>
                  </a:lnTo>
                  <a:lnTo>
                    <a:pt x="265" y="385"/>
                  </a:lnTo>
                  <a:lnTo>
                    <a:pt x="279" y="367"/>
                  </a:lnTo>
                  <a:lnTo>
                    <a:pt x="292" y="358"/>
                  </a:lnTo>
                  <a:lnTo>
                    <a:pt x="311" y="354"/>
                  </a:lnTo>
                  <a:lnTo>
                    <a:pt x="338" y="345"/>
                  </a:lnTo>
                  <a:lnTo>
                    <a:pt x="370" y="340"/>
                  </a:lnTo>
                  <a:lnTo>
                    <a:pt x="406" y="332"/>
                  </a:lnTo>
                  <a:lnTo>
                    <a:pt x="443" y="323"/>
                  </a:lnTo>
                  <a:lnTo>
                    <a:pt x="475" y="314"/>
                  </a:lnTo>
                  <a:lnTo>
                    <a:pt x="493" y="309"/>
                  </a:lnTo>
                  <a:lnTo>
                    <a:pt x="502" y="309"/>
                  </a:lnTo>
                  <a:lnTo>
                    <a:pt x="516" y="296"/>
                  </a:lnTo>
                  <a:lnTo>
                    <a:pt x="520" y="278"/>
                  </a:lnTo>
                  <a:lnTo>
                    <a:pt x="520" y="265"/>
                  </a:lnTo>
                  <a:lnTo>
                    <a:pt x="511" y="261"/>
                  </a:lnTo>
                  <a:lnTo>
                    <a:pt x="493" y="261"/>
                  </a:lnTo>
                  <a:lnTo>
                    <a:pt x="475" y="265"/>
                  </a:lnTo>
                  <a:lnTo>
                    <a:pt x="456" y="261"/>
                  </a:lnTo>
                  <a:lnTo>
                    <a:pt x="447" y="256"/>
                  </a:lnTo>
                  <a:lnTo>
                    <a:pt x="443" y="243"/>
                  </a:lnTo>
                  <a:lnTo>
                    <a:pt x="447" y="225"/>
                  </a:lnTo>
                  <a:lnTo>
                    <a:pt x="447" y="212"/>
                  </a:lnTo>
                  <a:lnTo>
                    <a:pt x="456" y="208"/>
                  </a:lnTo>
                  <a:lnTo>
                    <a:pt x="470" y="208"/>
                  </a:lnTo>
                  <a:lnTo>
                    <a:pt x="488" y="203"/>
                  </a:lnTo>
                  <a:lnTo>
                    <a:pt x="502" y="199"/>
                  </a:lnTo>
                  <a:lnTo>
                    <a:pt x="507" y="190"/>
                  </a:lnTo>
                  <a:lnTo>
                    <a:pt x="507" y="177"/>
                  </a:lnTo>
                  <a:lnTo>
                    <a:pt x="502" y="164"/>
                  </a:lnTo>
                  <a:lnTo>
                    <a:pt x="493" y="146"/>
                  </a:lnTo>
                  <a:lnTo>
                    <a:pt x="479" y="128"/>
                  </a:lnTo>
                  <a:lnTo>
                    <a:pt x="470" y="106"/>
                  </a:lnTo>
                  <a:lnTo>
                    <a:pt x="470" y="84"/>
                  </a:lnTo>
                  <a:lnTo>
                    <a:pt x="475" y="62"/>
                  </a:lnTo>
                  <a:lnTo>
                    <a:pt x="484" y="40"/>
                  </a:lnTo>
                  <a:lnTo>
                    <a:pt x="493" y="22"/>
                  </a:lnTo>
                  <a:lnTo>
                    <a:pt x="511" y="13"/>
                  </a:lnTo>
                  <a:lnTo>
                    <a:pt x="525" y="4"/>
                  </a:lnTo>
                  <a:lnTo>
                    <a:pt x="529" y="0"/>
                  </a:lnTo>
                  <a:lnTo>
                    <a:pt x="543" y="40"/>
                  </a:lnTo>
                  <a:lnTo>
                    <a:pt x="557" y="88"/>
                  </a:lnTo>
                  <a:lnTo>
                    <a:pt x="571" y="141"/>
                  </a:lnTo>
                  <a:lnTo>
                    <a:pt x="584" y="186"/>
                  </a:lnTo>
                  <a:lnTo>
                    <a:pt x="607" y="190"/>
                  </a:lnTo>
                  <a:lnTo>
                    <a:pt x="630" y="190"/>
                  </a:lnTo>
                  <a:lnTo>
                    <a:pt x="643" y="194"/>
                  </a:lnTo>
                  <a:lnTo>
                    <a:pt x="657" y="199"/>
                  </a:lnTo>
                  <a:lnTo>
                    <a:pt x="671" y="212"/>
                  </a:lnTo>
                  <a:lnTo>
                    <a:pt x="689" y="230"/>
                  </a:lnTo>
                  <a:lnTo>
                    <a:pt x="707" y="248"/>
                  </a:lnTo>
                  <a:lnTo>
                    <a:pt x="712" y="261"/>
                  </a:lnTo>
                  <a:lnTo>
                    <a:pt x="698" y="274"/>
                  </a:lnTo>
                  <a:lnTo>
                    <a:pt x="666" y="292"/>
                  </a:lnTo>
                  <a:lnTo>
                    <a:pt x="639" y="309"/>
                  </a:lnTo>
                  <a:lnTo>
                    <a:pt x="634" y="318"/>
                  </a:lnTo>
                  <a:lnTo>
                    <a:pt x="666" y="323"/>
                  </a:lnTo>
                  <a:lnTo>
                    <a:pt x="698" y="332"/>
                  </a:lnTo>
                  <a:lnTo>
                    <a:pt x="726" y="345"/>
                  </a:lnTo>
                  <a:lnTo>
                    <a:pt x="739" y="354"/>
                  </a:lnTo>
                  <a:lnTo>
                    <a:pt x="748" y="367"/>
                  </a:lnTo>
                  <a:lnTo>
                    <a:pt x="753" y="385"/>
                  </a:lnTo>
                  <a:lnTo>
                    <a:pt x="757" y="402"/>
                  </a:lnTo>
                  <a:lnTo>
                    <a:pt x="748" y="429"/>
                  </a:lnTo>
                  <a:lnTo>
                    <a:pt x="726" y="429"/>
                  </a:lnTo>
                  <a:lnTo>
                    <a:pt x="703" y="424"/>
                  </a:lnTo>
                  <a:lnTo>
                    <a:pt x="680" y="424"/>
                  </a:lnTo>
                  <a:lnTo>
                    <a:pt x="662" y="429"/>
                  </a:lnTo>
                  <a:lnTo>
                    <a:pt x="643" y="438"/>
                  </a:lnTo>
                  <a:lnTo>
                    <a:pt x="625" y="447"/>
                  </a:lnTo>
                  <a:lnTo>
                    <a:pt x="607" y="455"/>
                  </a:lnTo>
                  <a:lnTo>
                    <a:pt x="598" y="464"/>
                  </a:lnTo>
                  <a:lnTo>
                    <a:pt x="593" y="477"/>
                  </a:lnTo>
                  <a:lnTo>
                    <a:pt x="580" y="504"/>
                  </a:lnTo>
                  <a:lnTo>
                    <a:pt x="571" y="531"/>
                  </a:lnTo>
                  <a:lnTo>
                    <a:pt x="571" y="544"/>
                  </a:lnTo>
                  <a:lnTo>
                    <a:pt x="589" y="539"/>
                  </a:lnTo>
                  <a:lnTo>
                    <a:pt x="607" y="535"/>
                  </a:lnTo>
                  <a:lnTo>
                    <a:pt x="625" y="526"/>
                  </a:lnTo>
                  <a:lnTo>
                    <a:pt x="648" y="522"/>
                  </a:lnTo>
                  <a:lnTo>
                    <a:pt x="671" y="522"/>
                  </a:lnTo>
                  <a:lnTo>
                    <a:pt x="703" y="526"/>
                  </a:lnTo>
                  <a:lnTo>
                    <a:pt x="735" y="535"/>
                  </a:lnTo>
                  <a:lnTo>
                    <a:pt x="757" y="553"/>
                  </a:lnTo>
                  <a:lnTo>
                    <a:pt x="771" y="575"/>
                  </a:lnTo>
                  <a:lnTo>
                    <a:pt x="780" y="597"/>
                  </a:lnTo>
                  <a:lnTo>
                    <a:pt x="785" y="615"/>
                  </a:lnTo>
                  <a:lnTo>
                    <a:pt x="780" y="632"/>
                  </a:lnTo>
                  <a:lnTo>
                    <a:pt x="767" y="632"/>
                  </a:lnTo>
                  <a:lnTo>
                    <a:pt x="744" y="637"/>
                  </a:lnTo>
                  <a:lnTo>
                    <a:pt x="712" y="641"/>
                  </a:lnTo>
                  <a:lnTo>
                    <a:pt x="680" y="650"/>
                  </a:lnTo>
                  <a:lnTo>
                    <a:pt x="648" y="659"/>
                  </a:lnTo>
                  <a:lnTo>
                    <a:pt x="616" y="663"/>
                  </a:lnTo>
                  <a:lnTo>
                    <a:pt x="593" y="672"/>
                  </a:lnTo>
                  <a:lnTo>
                    <a:pt x="580" y="677"/>
                  </a:lnTo>
                  <a:lnTo>
                    <a:pt x="589" y="694"/>
                  </a:lnTo>
                  <a:lnTo>
                    <a:pt x="589" y="707"/>
                  </a:lnTo>
                  <a:lnTo>
                    <a:pt x="598" y="721"/>
                  </a:lnTo>
                  <a:lnTo>
                    <a:pt x="612" y="725"/>
                  </a:lnTo>
                  <a:lnTo>
                    <a:pt x="639" y="730"/>
                  </a:lnTo>
                  <a:lnTo>
                    <a:pt x="666" y="738"/>
                  </a:lnTo>
                  <a:lnTo>
                    <a:pt x="694" y="747"/>
                  </a:lnTo>
                  <a:lnTo>
                    <a:pt x="707" y="756"/>
                  </a:lnTo>
                  <a:lnTo>
                    <a:pt x="716" y="765"/>
                  </a:lnTo>
                  <a:lnTo>
                    <a:pt x="726" y="778"/>
                  </a:lnTo>
                  <a:lnTo>
                    <a:pt x="735" y="796"/>
                  </a:lnTo>
                  <a:lnTo>
                    <a:pt x="739" y="814"/>
                  </a:lnTo>
                  <a:lnTo>
                    <a:pt x="730" y="822"/>
                  </a:lnTo>
                  <a:lnTo>
                    <a:pt x="716" y="831"/>
                  </a:lnTo>
                  <a:lnTo>
                    <a:pt x="694" y="836"/>
                  </a:lnTo>
                  <a:lnTo>
                    <a:pt x="675" y="836"/>
                  </a:lnTo>
                  <a:lnTo>
                    <a:pt x="675" y="853"/>
                  </a:lnTo>
                  <a:lnTo>
                    <a:pt x="680" y="867"/>
                  </a:lnTo>
                  <a:lnTo>
                    <a:pt x="689" y="880"/>
                  </a:lnTo>
                  <a:lnTo>
                    <a:pt x="707" y="889"/>
                  </a:lnTo>
                  <a:lnTo>
                    <a:pt x="726" y="898"/>
                  </a:lnTo>
                  <a:lnTo>
                    <a:pt x="744" y="911"/>
                  </a:lnTo>
                  <a:lnTo>
                    <a:pt x="757" y="924"/>
                  </a:lnTo>
                  <a:lnTo>
                    <a:pt x="767" y="937"/>
                  </a:lnTo>
                  <a:lnTo>
                    <a:pt x="735" y="937"/>
                  </a:lnTo>
                  <a:lnTo>
                    <a:pt x="712" y="937"/>
                  </a:lnTo>
                  <a:lnTo>
                    <a:pt x="694" y="946"/>
                  </a:lnTo>
                  <a:lnTo>
                    <a:pt x="675" y="955"/>
                  </a:lnTo>
                  <a:lnTo>
                    <a:pt x="666" y="973"/>
                  </a:lnTo>
                  <a:lnTo>
                    <a:pt x="662" y="991"/>
                  </a:lnTo>
                  <a:lnTo>
                    <a:pt x="662" y="1013"/>
                  </a:lnTo>
                  <a:lnTo>
                    <a:pt x="662" y="1035"/>
                  </a:lnTo>
                  <a:lnTo>
                    <a:pt x="680" y="1039"/>
                  </a:lnTo>
                  <a:lnTo>
                    <a:pt x="703" y="1039"/>
                  </a:lnTo>
                  <a:lnTo>
                    <a:pt x="721" y="1044"/>
                  </a:lnTo>
                  <a:lnTo>
                    <a:pt x="735" y="1048"/>
                  </a:lnTo>
                  <a:lnTo>
                    <a:pt x="739" y="1026"/>
                  </a:lnTo>
                  <a:lnTo>
                    <a:pt x="753" y="999"/>
                  </a:lnTo>
                  <a:lnTo>
                    <a:pt x="767" y="973"/>
                  </a:lnTo>
                  <a:lnTo>
                    <a:pt x="767" y="937"/>
                  </a:lnTo>
                  <a:lnTo>
                    <a:pt x="757" y="924"/>
                  </a:lnTo>
                  <a:lnTo>
                    <a:pt x="744" y="911"/>
                  </a:lnTo>
                  <a:lnTo>
                    <a:pt x="726" y="898"/>
                  </a:lnTo>
                  <a:lnTo>
                    <a:pt x="707" y="889"/>
                  </a:lnTo>
                  <a:lnTo>
                    <a:pt x="689" y="880"/>
                  </a:lnTo>
                  <a:lnTo>
                    <a:pt x="680" y="867"/>
                  </a:lnTo>
                  <a:lnTo>
                    <a:pt x="675" y="853"/>
                  </a:lnTo>
                  <a:lnTo>
                    <a:pt x="675" y="836"/>
                  </a:lnTo>
                  <a:lnTo>
                    <a:pt x="694" y="836"/>
                  </a:lnTo>
                  <a:lnTo>
                    <a:pt x="716" y="831"/>
                  </a:lnTo>
                  <a:lnTo>
                    <a:pt x="730" y="822"/>
                  </a:lnTo>
                  <a:lnTo>
                    <a:pt x="739" y="814"/>
                  </a:lnTo>
                  <a:lnTo>
                    <a:pt x="776" y="800"/>
                  </a:lnTo>
                  <a:lnTo>
                    <a:pt x="812" y="769"/>
                  </a:lnTo>
                  <a:lnTo>
                    <a:pt x="844" y="730"/>
                  </a:lnTo>
                  <a:lnTo>
                    <a:pt x="862" y="703"/>
                  </a:lnTo>
                  <a:lnTo>
                    <a:pt x="872" y="672"/>
                  </a:lnTo>
                  <a:lnTo>
                    <a:pt x="876" y="628"/>
                  </a:lnTo>
                  <a:lnTo>
                    <a:pt x="872" y="579"/>
                  </a:lnTo>
                  <a:lnTo>
                    <a:pt x="849" y="548"/>
                  </a:lnTo>
                  <a:lnTo>
                    <a:pt x="826" y="517"/>
                  </a:lnTo>
                  <a:lnTo>
                    <a:pt x="826" y="482"/>
                  </a:lnTo>
                  <a:lnTo>
                    <a:pt x="840" y="447"/>
                  </a:lnTo>
                  <a:lnTo>
                    <a:pt x="862" y="433"/>
                  </a:lnTo>
                  <a:lnTo>
                    <a:pt x="881" y="416"/>
                  </a:lnTo>
                  <a:lnTo>
                    <a:pt x="908" y="393"/>
                  </a:lnTo>
                  <a:lnTo>
                    <a:pt x="931" y="376"/>
                  </a:lnTo>
                  <a:lnTo>
                    <a:pt x="944" y="367"/>
                  </a:lnTo>
                  <a:lnTo>
                    <a:pt x="940" y="363"/>
                  </a:lnTo>
                  <a:lnTo>
                    <a:pt x="922" y="358"/>
                  </a:lnTo>
                  <a:lnTo>
                    <a:pt x="903" y="358"/>
                  </a:lnTo>
                  <a:lnTo>
                    <a:pt x="881" y="358"/>
                  </a:lnTo>
                  <a:lnTo>
                    <a:pt x="853" y="363"/>
                  </a:lnTo>
                  <a:lnTo>
                    <a:pt x="830" y="363"/>
                  </a:lnTo>
                  <a:lnTo>
                    <a:pt x="808" y="363"/>
                  </a:lnTo>
                  <a:lnTo>
                    <a:pt x="794" y="363"/>
                  </a:lnTo>
                  <a:lnTo>
                    <a:pt x="794" y="349"/>
                  </a:lnTo>
                  <a:lnTo>
                    <a:pt x="803" y="336"/>
                  </a:lnTo>
                  <a:lnTo>
                    <a:pt x="808" y="323"/>
                  </a:lnTo>
                  <a:lnTo>
                    <a:pt x="808" y="318"/>
                  </a:lnTo>
                  <a:lnTo>
                    <a:pt x="821" y="309"/>
                  </a:lnTo>
                  <a:lnTo>
                    <a:pt x="858" y="292"/>
                  </a:lnTo>
                  <a:lnTo>
                    <a:pt x="899" y="270"/>
                  </a:lnTo>
                  <a:lnTo>
                    <a:pt x="922" y="261"/>
                  </a:lnTo>
                  <a:lnTo>
                    <a:pt x="908" y="243"/>
                  </a:lnTo>
                  <a:lnTo>
                    <a:pt x="899" y="217"/>
                  </a:lnTo>
                  <a:lnTo>
                    <a:pt x="885" y="194"/>
                  </a:lnTo>
                  <a:lnTo>
                    <a:pt x="876" y="186"/>
                  </a:lnTo>
                  <a:lnTo>
                    <a:pt x="858" y="181"/>
                  </a:lnTo>
                  <a:lnTo>
                    <a:pt x="840" y="177"/>
                  </a:lnTo>
                  <a:lnTo>
                    <a:pt x="826" y="172"/>
                  </a:lnTo>
                  <a:lnTo>
                    <a:pt x="821" y="164"/>
                  </a:lnTo>
                  <a:lnTo>
                    <a:pt x="840" y="150"/>
                  </a:lnTo>
                  <a:lnTo>
                    <a:pt x="858" y="141"/>
                  </a:lnTo>
                  <a:lnTo>
                    <a:pt x="881" y="137"/>
                  </a:lnTo>
                  <a:lnTo>
                    <a:pt x="903" y="133"/>
                  </a:lnTo>
                  <a:lnTo>
                    <a:pt x="926" y="137"/>
                  </a:lnTo>
                  <a:lnTo>
                    <a:pt x="944" y="137"/>
                  </a:lnTo>
                  <a:lnTo>
                    <a:pt x="963" y="141"/>
                  </a:lnTo>
                  <a:lnTo>
                    <a:pt x="972" y="141"/>
                  </a:lnTo>
                  <a:lnTo>
                    <a:pt x="981" y="124"/>
                  </a:lnTo>
                  <a:lnTo>
                    <a:pt x="981" y="110"/>
                  </a:lnTo>
                  <a:lnTo>
                    <a:pt x="976" y="102"/>
                  </a:lnTo>
                  <a:lnTo>
                    <a:pt x="967" y="84"/>
                  </a:lnTo>
                  <a:lnTo>
                    <a:pt x="963" y="62"/>
                  </a:lnTo>
                  <a:lnTo>
                    <a:pt x="967" y="40"/>
                  </a:lnTo>
                  <a:lnTo>
                    <a:pt x="976" y="22"/>
                  </a:lnTo>
                  <a:lnTo>
                    <a:pt x="990" y="13"/>
                  </a:lnTo>
                  <a:lnTo>
                    <a:pt x="1004" y="40"/>
                  </a:lnTo>
                  <a:lnTo>
                    <a:pt x="1008" y="102"/>
                  </a:lnTo>
                  <a:lnTo>
                    <a:pt x="1008" y="164"/>
                  </a:lnTo>
                  <a:lnTo>
                    <a:pt x="1017" y="190"/>
                  </a:lnTo>
                  <a:lnTo>
                    <a:pt x="1031" y="190"/>
                  </a:lnTo>
                  <a:lnTo>
                    <a:pt x="1049" y="186"/>
                  </a:lnTo>
                  <a:lnTo>
                    <a:pt x="1072" y="186"/>
                  </a:lnTo>
                  <a:lnTo>
                    <a:pt x="1100" y="181"/>
                  </a:lnTo>
                  <a:lnTo>
                    <a:pt x="1127" y="181"/>
                  </a:lnTo>
                  <a:lnTo>
                    <a:pt x="1150" y="177"/>
                  </a:lnTo>
                  <a:lnTo>
                    <a:pt x="1163" y="181"/>
                  </a:lnTo>
                  <a:lnTo>
                    <a:pt x="1173" y="181"/>
                  </a:lnTo>
                  <a:lnTo>
                    <a:pt x="1182" y="199"/>
                  </a:lnTo>
                  <a:lnTo>
                    <a:pt x="1191" y="225"/>
                  </a:lnTo>
                  <a:lnTo>
                    <a:pt x="1191" y="248"/>
                  </a:lnTo>
                  <a:lnTo>
                    <a:pt x="1177" y="261"/>
                  </a:lnTo>
                  <a:lnTo>
                    <a:pt x="1150" y="261"/>
                  </a:lnTo>
                  <a:lnTo>
                    <a:pt x="1109" y="261"/>
                  </a:lnTo>
                  <a:lnTo>
                    <a:pt x="1072" y="261"/>
                  </a:lnTo>
                  <a:lnTo>
                    <a:pt x="1054" y="270"/>
                  </a:lnTo>
                  <a:lnTo>
                    <a:pt x="1058" y="292"/>
                  </a:lnTo>
                  <a:lnTo>
                    <a:pt x="1058" y="318"/>
                  </a:lnTo>
                  <a:lnTo>
                    <a:pt x="1068" y="336"/>
                  </a:lnTo>
                  <a:lnTo>
                    <a:pt x="1077" y="345"/>
                  </a:lnTo>
                  <a:lnTo>
                    <a:pt x="1086" y="349"/>
                  </a:lnTo>
                  <a:lnTo>
                    <a:pt x="1109" y="349"/>
                  </a:lnTo>
                  <a:lnTo>
                    <a:pt x="1136" y="358"/>
                  </a:lnTo>
                  <a:lnTo>
                    <a:pt x="1168" y="367"/>
                  </a:lnTo>
                  <a:lnTo>
                    <a:pt x="1195" y="385"/>
                  </a:lnTo>
                  <a:lnTo>
                    <a:pt x="1214" y="407"/>
                  </a:lnTo>
                  <a:lnTo>
                    <a:pt x="1227" y="433"/>
                  </a:lnTo>
                  <a:lnTo>
                    <a:pt x="1227" y="469"/>
                  </a:lnTo>
                  <a:lnTo>
                    <a:pt x="1195" y="473"/>
                  </a:lnTo>
                  <a:lnTo>
                    <a:pt x="1159" y="486"/>
                  </a:lnTo>
                  <a:lnTo>
                    <a:pt x="1122" y="495"/>
                  </a:lnTo>
                  <a:lnTo>
                    <a:pt x="1095" y="495"/>
                  </a:lnTo>
                  <a:lnTo>
                    <a:pt x="1113" y="508"/>
                  </a:lnTo>
                  <a:lnTo>
                    <a:pt x="1122" y="522"/>
                  </a:lnTo>
                  <a:lnTo>
                    <a:pt x="1131" y="535"/>
                  </a:lnTo>
                  <a:lnTo>
                    <a:pt x="1136" y="544"/>
                  </a:lnTo>
                  <a:lnTo>
                    <a:pt x="1136" y="557"/>
                  </a:lnTo>
                  <a:lnTo>
                    <a:pt x="1136" y="570"/>
                  </a:lnTo>
                  <a:lnTo>
                    <a:pt x="1131" y="584"/>
                  </a:lnTo>
                  <a:lnTo>
                    <a:pt x="1131" y="597"/>
                  </a:lnTo>
                  <a:lnTo>
                    <a:pt x="1150" y="601"/>
                  </a:lnTo>
                  <a:lnTo>
                    <a:pt x="1173" y="606"/>
                  </a:lnTo>
                  <a:lnTo>
                    <a:pt x="1200" y="610"/>
                  </a:lnTo>
                  <a:lnTo>
                    <a:pt x="1227" y="619"/>
                  </a:lnTo>
                  <a:lnTo>
                    <a:pt x="1250" y="628"/>
                  </a:lnTo>
                  <a:lnTo>
                    <a:pt x="1273" y="632"/>
                  </a:lnTo>
                  <a:lnTo>
                    <a:pt x="1291" y="637"/>
                  </a:lnTo>
                  <a:lnTo>
                    <a:pt x="1305" y="641"/>
                  </a:lnTo>
                  <a:lnTo>
                    <a:pt x="1341" y="668"/>
                  </a:lnTo>
                  <a:lnTo>
                    <a:pt x="1364" y="694"/>
                  </a:lnTo>
                  <a:lnTo>
                    <a:pt x="1382" y="725"/>
                  </a:lnTo>
                  <a:lnTo>
                    <a:pt x="1405" y="747"/>
                  </a:lnTo>
                  <a:lnTo>
                    <a:pt x="1401" y="761"/>
                  </a:lnTo>
                  <a:lnTo>
                    <a:pt x="1391" y="769"/>
                  </a:lnTo>
                  <a:lnTo>
                    <a:pt x="1382" y="778"/>
                  </a:lnTo>
                  <a:lnTo>
                    <a:pt x="1364" y="787"/>
                  </a:lnTo>
                  <a:lnTo>
                    <a:pt x="1346" y="796"/>
                  </a:lnTo>
                  <a:lnTo>
                    <a:pt x="1323" y="800"/>
                  </a:lnTo>
                  <a:lnTo>
                    <a:pt x="1300" y="805"/>
                  </a:lnTo>
                  <a:lnTo>
                    <a:pt x="1268" y="809"/>
                  </a:lnTo>
                  <a:lnTo>
                    <a:pt x="1268" y="822"/>
                  </a:lnTo>
                  <a:lnTo>
                    <a:pt x="1277" y="840"/>
                  </a:lnTo>
                  <a:lnTo>
                    <a:pt x="1291" y="862"/>
                  </a:lnTo>
                  <a:lnTo>
                    <a:pt x="1305" y="876"/>
                  </a:lnTo>
                  <a:lnTo>
                    <a:pt x="1273" y="880"/>
                  </a:lnTo>
                  <a:lnTo>
                    <a:pt x="1245" y="884"/>
                  </a:lnTo>
                  <a:lnTo>
                    <a:pt x="1223" y="898"/>
                  </a:lnTo>
                  <a:lnTo>
                    <a:pt x="1204" y="911"/>
                  </a:lnTo>
                  <a:lnTo>
                    <a:pt x="1209" y="924"/>
                  </a:lnTo>
                  <a:lnTo>
                    <a:pt x="1214" y="929"/>
                  </a:lnTo>
                  <a:lnTo>
                    <a:pt x="1227" y="937"/>
                  </a:lnTo>
                  <a:lnTo>
                    <a:pt x="1241" y="937"/>
                  </a:lnTo>
                  <a:lnTo>
                    <a:pt x="1264" y="933"/>
                  </a:lnTo>
                  <a:lnTo>
                    <a:pt x="1291" y="920"/>
                  </a:lnTo>
                  <a:lnTo>
                    <a:pt x="1318" y="915"/>
                  </a:lnTo>
                  <a:lnTo>
                    <a:pt x="1341" y="920"/>
                  </a:lnTo>
                  <a:lnTo>
                    <a:pt x="1364" y="933"/>
                  </a:lnTo>
                  <a:lnTo>
                    <a:pt x="1396" y="951"/>
                  </a:lnTo>
                  <a:lnTo>
                    <a:pt x="1423" y="968"/>
                  </a:lnTo>
                  <a:lnTo>
                    <a:pt x="1442" y="986"/>
                  </a:lnTo>
                  <a:lnTo>
                    <a:pt x="1460" y="999"/>
                  </a:lnTo>
                  <a:lnTo>
                    <a:pt x="1478" y="1017"/>
                  </a:lnTo>
                  <a:lnTo>
                    <a:pt x="1496" y="1035"/>
                  </a:lnTo>
                  <a:lnTo>
                    <a:pt x="1501" y="1048"/>
                  </a:lnTo>
                  <a:lnTo>
                    <a:pt x="1492" y="1052"/>
                  </a:lnTo>
                  <a:lnTo>
                    <a:pt x="1469" y="1061"/>
                  </a:lnTo>
                  <a:lnTo>
                    <a:pt x="1432" y="1070"/>
                  </a:lnTo>
                  <a:lnTo>
                    <a:pt x="1391" y="1079"/>
                  </a:lnTo>
                  <a:lnTo>
                    <a:pt x="1350" y="1083"/>
                  </a:lnTo>
                  <a:lnTo>
                    <a:pt x="1309" y="1092"/>
                  </a:lnTo>
                  <a:lnTo>
                    <a:pt x="1277" y="1097"/>
                  </a:lnTo>
                  <a:lnTo>
                    <a:pt x="1259" y="1097"/>
                  </a:lnTo>
                  <a:lnTo>
                    <a:pt x="1245" y="1123"/>
                  </a:lnTo>
                  <a:lnTo>
                    <a:pt x="1255" y="1159"/>
                  </a:lnTo>
                  <a:lnTo>
                    <a:pt x="1273" y="1185"/>
                  </a:lnTo>
                  <a:lnTo>
                    <a:pt x="1296" y="1194"/>
                  </a:lnTo>
                  <a:lnTo>
                    <a:pt x="1309" y="1194"/>
                  </a:lnTo>
                  <a:lnTo>
                    <a:pt x="1328" y="1198"/>
                  </a:lnTo>
                  <a:lnTo>
                    <a:pt x="1346" y="1198"/>
                  </a:lnTo>
                  <a:lnTo>
                    <a:pt x="1369" y="1203"/>
                  </a:lnTo>
                  <a:lnTo>
                    <a:pt x="1391" y="1207"/>
                  </a:lnTo>
                  <a:lnTo>
                    <a:pt x="1414" y="1207"/>
                  </a:lnTo>
                  <a:lnTo>
                    <a:pt x="1428" y="1212"/>
                  </a:lnTo>
                  <a:lnTo>
                    <a:pt x="1437" y="1212"/>
                  </a:lnTo>
                  <a:lnTo>
                    <a:pt x="1460" y="1225"/>
                  </a:lnTo>
                  <a:lnTo>
                    <a:pt x="1487" y="1251"/>
                  </a:lnTo>
                  <a:lnTo>
                    <a:pt x="1510" y="1282"/>
                  </a:lnTo>
                  <a:lnTo>
                    <a:pt x="1519" y="1300"/>
                  </a:lnTo>
                  <a:lnTo>
                    <a:pt x="1501" y="1309"/>
                  </a:lnTo>
                  <a:lnTo>
                    <a:pt x="1483" y="1309"/>
                  </a:lnTo>
                  <a:lnTo>
                    <a:pt x="1455" y="1309"/>
                  </a:lnTo>
                  <a:lnTo>
                    <a:pt x="1432" y="1305"/>
                  </a:lnTo>
                  <a:lnTo>
                    <a:pt x="1410" y="1300"/>
                  </a:lnTo>
                  <a:lnTo>
                    <a:pt x="1387" y="1291"/>
                  </a:lnTo>
                  <a:lnTo>
                    <a:pt x="1369" y="1287"/>
                  </a:lnTo>
                  <a:lnTo>
                    <a:pt x="1359" y="1287"/>
                  </a:lnTo>
                  <a:lnTo>
                    <a:pt x="1346" y="1291"/>
                  </a:lnTo>
                  <a:lnTo>
                    <a:pt x="1332" y="1300"/>
                  </a:lnTo>
                  <a:lnTo>
                    <a:pt x="1318" y="1318"/>
                  </a:lnTo>
                  <a:lnTo>
                    <a:pt x="1318" y="1331"/>
                  </a:lnTo>
                  <a:lnTo>
                    <a:pt x="1341" y="1340"/>
                  </a:lnTo>
                  <a:lnTo>
                    <a:pt x="1373" y="1353"/>
                  </a:lnTo>
                  <a:lnTo>
                    <a:pt x="1405" y="1375"/>
                  </a:lnTo>
                  <a:lnTo>
                    <a:pt x="1423" y="1415"/>
                  </a:lnTo>
                  <a:lnTo>
                    <a:pt x="1410" y="1419"/>
                  </a:lnTo>
                  <a:lnTo>
                    <a:pt x="1391" y="1424"/>
                  </a:lnTo>
                  <a:lnTo>
                    <a:pt x="1369" y="1424"/>
                  </a:lnTo>
                  <a:lnTo>
                    <a:pt x="1341" y="1424"/>
                  </a:lnTo>
                  <a:lnTo>
                    <a:pt x="1318" y="1428"/>
                  </a:lnTo>
                  <a:lnTo>
                    <a:pt x="1300" y="1433"/>
                  </a:lnTo>
                  <a:lnTo>
                    <a:pt x="1287" y="1437"/>
                  </a:lnTo>
                  <a:lnTo>
                    <a:pt x="1282" y="1446"/>
                  </a:lnTo>
                  <a:lnTo>
                    <a:pt x="1282" y="1473"/>
                  </a:lnTo>
                  <a:lnTo>
                    <a:pt x="1287" y="1490"/>
                  </a:lnTo>
                  <a:lnTo>
                    <a:pt x="1296" y="1508"/>
                  </a:lnTo>
                  <a:lnTo>
                    <a:pt x="1305" y="1512"/>
                  </a:lnTo>
                  <a:lnTo>
                    <a:pt x="1318" y="1508"/>
                  </a:lnTo>
                  <a:lnTo>
                    <a:pt x="1341" y="1499"/>
                  </a:lnTo>
                  <a:lnTo>
                    <a:pt x="1373" y="1486"/>
                  </a:lnTo>
                  <a:lnTo>
                    <a:pt x="1410" y="1477"/>
                  </a:lnTo>
                  <a:lnTo>
                    <a:pt x="1446" y="1468"/>
                  </a:lnTo>
                  <a:lnTo>
                    <a:pt x="1483" y="1459"/>
                  </a:lnTo>
                  <a:lnTo>
                    <a:pt x="1519" y="1459"/>
                  </a:lnTo>
                  <a:lnTo>
                    <a:pt x="1556" y="1468"/>
                  </a:lnTo>
                  <a:lnTo>
                    <a:pt x="1556" y="1495"/>
                  </a:lnTo>
                  <a:lnTo>
                    <a:pt x="1546" y="1552"/>
                  </a:lnTo>
                  <a:lnTo>
                    <a:pt x="1528" y="1614"/>
                  </a:lnTo>
                  <a:lnTo>
                    <a:pt x="1505" y="1641"/>
                  </a:lnTo>
                  <a:lnTo>
                    <a:pt x="1542" y="1658"/>
                  </a:lnTo>
                  <a:lnTo>
                    <a:pt x="1574" y="1685"/>
                  </a:lnTo>
                  <a:lnTo>
                    <a:pt x="1601" y="1707"/>
                  </a:lnTo>
                  <a:lnTo>
                    <a:pt x="1606" y="1729"/>
                  </a:lnTo>
                  <a:lnTo>
                    <a:pt x="1597" y="1760"/>
                  </a:lnTo>
                  <a:lnTo>
                    <a:pt x="1592" y="1800"/>
                  </a:lnTo>
                  <a:lnTo>
                    <a:pt x="1601" y="1844"/>
                  </a:lnTo>
                  <a:lnTo>
                    <a:pt x="1619" y="187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4951440" y="4329000"/>
              <a:ext cx="2425680" cy="252864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2528640"/>
                <a:gd name="textAreaBottom" fmla="*/ 2529000 h 2528640"/>
              </a:gdLst>
              <a:ahLst/>
              <a:rect l="textAreaLeft" t="textAreaTop" r="textAreaRight" b="textAreaBottom"/>
              <a:pathLst>
                <a:path w="1528" h="1765">
                  <a:moveTo>
                    <a:pt x="1405" y="1765"/>
                  </a:moveTo>
                  <a:lnTo>
                    <a:pt x="114" y="1765"/>
                  </a:lnTo>
                  <a:lnTo>
                    <a:pt x="96" y="1734"/>
                  </a:lnTo>
                  <a:lnTo>
                    <a:pt x="87" y="1690"/>
                  </a:lnTo>
                  <a:lnTo>
                    <a:pt x="92" y="1650"/>
                  </a:lnTo>
                  <a:lnTo>
                    <a:pt x="101" y="1619"/>
                  </a:lnTo>
                  <a:lnTo>
                    <a:pt x="114" y="1623"/>
                  </a:lnTo>
                  <a:lnTo>
                    <a:pt x="128" y="1619"/>
                  </a:lnTo>
                  <a:lnTo>
                    <a:pt x="142" y="1615"/>
                  </a:lnTo>
                  <a:lnTo>
                    <a:pt x="151" y="1606"/>
                  </a:lnTo>
                  <a:lnTo>
                    <a:pt x="151" y="1588"/>
                  </a:lnTo>
                  <a:lnTo>
                    <a:pt x="151" y="1557"/>
                  </a:lnTo>
                  <a:lnTo>
                    <a:pt x="151" y="1535"/>
                  </a:lnTo>
                  <a:lnTo>
                    <a:pt x="160" y="1522"/>
                  </a:lnTo>
                  <a:lnTo>
                    <a:pt x="174" y="1517"/>
                  </a:lnTo>
                  <a:lnTo>
                    <a:pt x="192" y="1500"/>
                  </a:lnTo>
                  <a:lnTo>
                    <a:pt x="206" y="1482"/>
                  </a:lnTo>
                  <a:lnTo>
                    <a:pt x="215" y="1469"/>
                  </a:lnTo>
                  <a:lnTo>
                    <a:pt x="192" y="1478"/>
                  </a:lnTo>
                  <a:lnTo>
                    <a:pt x="155" y="1491"/>
                  </a:lnTo>
                  <a:lnTo>
                    <a:pt x="124" y="1508"/>
                  </a:lnTo>
                  <a:lnTo>
                    <a:pt x="101" y="1517"/>
                  </a:lnTo>
                  <a:lnTo>
                    <a:pt x="83" y="1522"/>
                  </a:lnTo>
                  <a:lnTo>
                    <a:pt x="60" y="1526"/>
                  </a:lnTo>
                  <a:lnTo>
                    <a:pt x="28" y="1531"/>
                  </a:lnTo>
                  <a:lnTo>
                    <a:pt x="0" y="1531"/>
                  </a:lnTo>
                  <a:lnTo>
                    <a:pt x="23" y="1500"/>
                  </a:lnTo>
                  <a:lnTo>
                    <a:pt x="41" y="1442"/>
                  </a:lnTo>
                  <a:lnTo>
                    <a:pt x="55" y="1385"/>
                  </a:lnTo>
                  <a:lnTo>
                    <a:pt x="51" y="1358"/>
                  </a:lnTo>
                  <a:lnTo>
                    <a:pt x="87" y="1354"/>
                  </a:lnTo>
                  <a:lnTo>
                    <a:pt x="114" y="1345"/>
                  </a:lnTo>
                  <a:lnTo>
                    <a:pt x="133" y="1340"/>
                  </a:lnTo>
                  <a:lnTo>
                    <a:pt x="137" y="1336"/>
                  </a:lnTo>
                  <a:lnTo>
                    <a:pt x="128" y="1327"/>
                  </a:lnTo>
                  <a:lnTo>
                    <a:pt x="114" y="1309"/>
                  </a:lnTo>
                  <a:lnTo>
                    <a:pt x="101" y="1283"/>
                  </a:lnTo>
                  <a:lnTo>
                    <a:pt x="96" y="1248"/>
                  </a:lnTo>
                  <a:lnTo>
                    <a:pt x="124" y="1243"/>
                  </a:lnTo>
                  <a:lnTo>
                    <a:pt x="146" y="1239"/>
                  </a:lnTo>
                  <a:lnTo>
                    <a:pt x="160" y="1234"/>
                  </a:lnTo>
                  <a:lnTo>
                    <a:pt x="165" y="1230"/>
                  </a:lnTo>
                  <a:lnTo>
                    <a:pt x="151" y="1212"/>
                  </a:lnTo>
                  <a:lnTo>
                    <a:pt x="124" y="1186"/>
                  </a:lnTo>
                  <a:lnTo>
                    <a:pt x="92" y="1159"/>
                  </a:lnTo>
                  <a:lnTo>
                    <a:pt x="73" y="1141"/>
                  </a:lnTo>
                  <a:lnTo>
                    <a:pt x="92" y="1137"/>
                  </a:lnTo>
                  <a:lnTo>
                    <a:pt x="110" y="1133"/>
                  </a:lnTo>
                  <a:lnTo>
                    <a:pt x="137" y="1128"/>
                  </a:lnTo>
                  <a:lnTo>
                    <a:pt x="160" y="1124"/>
                  </a:lnTo>
                  <a:lnTo>
                    <a:pt x="187" y="1124"/>
                  </a:lnTo>
                  <a:lnTo>
                    <a:pt x="206" y="1124"/>
                  </a:lnTo>
                  <a:lnTo>
                    <a:pt x="224" y="1124"/>
                  </a:lnTo>
                  <a:lnTo>
                    <a:pt x="238" y="1124"/>
                  </a:lnTo>
                  <a:lnTo>
                    <a:pt x="251" y="1115"/>
                  </a:lnTo>
                  <a:lnTo>
                    <a:pt x="260" y="1093"/>
                  </a:lnTo>
                  <a:lnTo>
                    <a:pt x="260" y="1066"/>
                  </a:lnTo>
                  <a:lnTo>
                    <a:pt x="247" y="1049"/>
                  </a:lnTo>
                  <a:lnTo>
                    <a:pt x="228" y="1040"/>
                  </a:lnTo>
                  <a:lnTo>
                    <a:pt x="206" y="1031"/>
                  </a:lnTo>
                  <a:lnTo>
                    <a:pt x="187" y="1026"/>
                  </a:lnTo>
                  <a:lnTo>
                    <a:pt x="178" y="1018"/>
                  </a:lnTo>
                  <a:lnTo>
                    <a:pt x="165" y="1004"/>
                  </a:lnTo>
                  <a:lnTo>
                    <a:pt x="146" y="982"/>
                  </a:lnTo>
                  <a:lnTo>
                    <a:pt x="133" y="960"/>
                  </a:lnTo>
                  <a:lnTo>
                    <a:pt x="133" y="951"/>
                  </a:lnTo>
                  <a:lnTo>
                    <a:pt x="151" y="947"/>
                  </a:lnTo>
                  <a:lnTo>
                    <a:pt x="174" y="938"/>
                  </a:lnTo>
                  <a:lnTo>
                    <a:pt x="197" y="934"/>
                  </a:lnTo>
                  <a:lnTo>
                    <a:pt x="215" y="929"/>
                  </a:lnTo>
                  <a:lnTo>
                    <a:pt x="233" y="929"/>
                  </a:lnTo>
                  <a:lnTo>
                    <a:pt x="251" y="929"/>
                  </a:lnTo>
                  <a:lnTo>
                    <a:pt x="270" y="929"/>
                  </a:lnTo>
                  <a:lnTo>
                    <a:pt x="279" y="929"/>
                  </a:lnTo>
                  <a:lnTo>
                    <a:pt x="288" y="916"/>
                  </a:lnTo>
                  <a:lnTo>
                    <a:pt x="292" y="907"/>
                  </a:lnTo>
                  <a:lnTo>
                    <a:pt x="288" y="898"/>
                  </a:lnTo>
                  <a:lnTo>
                    <a:pt x="279" y="889"/>
                  </a:lnTo>
                  <a:lnTo>
                    <a:pt x="270" y="872"/>
                  </a:lnTo>
                  <a:lnTo>
                    <a:pt x="265" y="845"/>
                  </a:lnTo>
                  <a:lnTo>
                    <a:pt x="260" y="814"/>
                  </a:lnTo>
                  <a:lnTo>
                    <a:pt x="251" y="801"/>
                  </a:lnTo>
                  <a:lnTo>
                    <a:pt x="242" y="792"/>
                  </a:lnTo>
                  <a:lnTo>
                    <a:pt x="247" y="779"/>
                  </a:lnTo>
                  <a:lnTo>
                    <a:pt x="260" y="752"/>
                  </a:lnTo>
                  <a:lnTo>
                    <a:pt x="283" y="730"/>
                  </a:lnTo>
                  <a:lnTo>
                    <a:pt x="288" y="712"/>
                  </a:lnTo>
                  <a:lnTo>
                    <a:pt x="292" y="690"/>
                  </a:lnTo>
                  <a:lnTo>
                    <a:pt x="297" y="673"/>
                  </a:lnTo>
                  <a:lnTo>
                    <a:pt x="288" y="664"/>
                  </a:lnTo>
                  <a:lnTo>
                    <a:pt x="247" y="655"/>
                  </a:lnTo>
                  <a:lnTo>
                    <a:pt x="206" y="651"/>
                  </a:lnTo>
                  <a:lnTo>
                    <a:pt x="178" y="646"/>
                  </a:lnTo>
                  <a:lnTo>
                    <a:pt x="160" y="637"/>
                  </a:lnTo>
                  <a:lnTo>
                    <a:pt x="146" y="620"/>
                  </a:lnTo>
                  <a:lnTo>
                    <a:pt x="128" y="602"/>
                  </a:lnTo>
                  <a:lnTo>
                    <a:pt x="110" y="584"/>
                  </a:lnTo>
                  <a:lnTo>
                    <a:pt x="105" y="571"/>
                  </a:lnTo>
                  <a:lnTo>
                    <a:pt x="119" y="562"/>
                  </a:lnTo>
                  <a:lnTo>
                    <a:pt x="142" y="549"/>
                  </a:lnTo>
                  <a:lnTo>
                    <a:pt x="169" y="544"/>
                  </a:lnTo>
                  <a:lnTo>
                    <a:pt x="201" y="540"/>
                  </a:lnTo>
                  <a:lnTo>
                    <a:pt x="219" y="540"/>
                  </a:lnTo>
                  <a:lnTo>
                    <a:pt x="251" y="536"/>
                  </a:lnTo>
                  <a:lnTo>
                    <a:pt x="288" y="536"/>
                  </a:lnTo>
                  <a:lnTo>
                    <a:pt x="329" y="531"/>
                  </a:lnTo>
                  <a:lnTo>
                    <a:pt x="370" y="527"/>
                  </a:lnTo>
                  <a:lnTo>
                    <a:pt x="406" y="522"/>
                  </a:lnTo>
                  <a:lnTo>
                    <a:pt x="434" y="509"/>
                  </a:lnTo>
                  <a:lnTo>
                    <a:pt x="447" y="496"/>
                  </a:lnTo>
                  <a:lnTo>
                    <a:pt x="434" y="478"/>
                  </a:lnTo>
                  <a:lnTo>
                    <a:pt x="420" y="456"/>
                  </a:lnTo>
                  <a:lnTo>
                    <a:pt x="406" y="434"/>
                  </a:lnTo>
                  <a:lnTo>
                    <a:pt x="402" y="425"/>
                  </a:lnTo>
                  <a:lnTo>
                    <a:pt x="384" y="425"/>
                  </a:lnTo>
                  <a:lnTo>
                    <a:pt x="361" y="425"/>
                  </a:lnTo>
                  <a:lnTo>
                    <a:pt x="338" y="421"/>
                  </a:lnTo>
                  <a:lnTo>
                    <a:pt x="315" y="421"/>
                  </a:lnTo>
                  <a:lnTo>
                    <a:pt x="292" y="416"/>
                  </a:lnTo>
                  <a:lnTo>
                    <a:pt x="274" y="412"/>
                  </a:lnTo>
                  <a:lnTo>
                    <a:pt x="260" y="407"/>
                  </a:lnTo>
                  <a:lnTo>
                    <a:pt x="256" y="403"/>
                  </a:lnTo>
                  <a:lnTo>
                    <a:pt x="265" y="385"/>
                  </a:lnTo>
                  <a:lnTo>
                    <a:pt x="292" y="367"/>
                  </a:lnTo>
                  <a:lnTo>
                    <a:pt x="320" y="350"/>
                  </a:lnTo>
                  <a:lnTo>
                    <a:pt x="333" y="341"/>
                  </a:lnTo>
                  <a:lnTo>
                    <a:pt x="365" y="297"/>
                  </a:lnTo>
                  <a:lnTo>
                    <a:pt x="393" y="261"/>
                  </a:lnTo>
                  <a:lnTo>
                    <a:pt x="415" y="230"/>
                  </a:lnTo>
                  <a:lnTo>
                    <a:pt x="438" y="204"/>
                  </a:lnTo>
                  <a:lnTo>
                    <a:pt x="452" y="186"/>
                  </a:lnTo>
                  <a:lnTo>
                    <a:pt x="461" y="168"/>
                  </a:lnTo>
                  <a:lnTo>
                    <a:pt x="466" y="155"/>
                  </a:lnTo>
                  <a:lnTo>
                    <a:pt x="466" y="146"/>
                  </a:lnTo>
                  <a:lnTo>
                    <a:pt x="456" y="129"/>
                  </a:lnTo>
                  <a:lnTo>
                    <a:pt x="452" y="98"/>
                  </a:lnTo>
                  <a:lnTo>
                    <a:pt x="461" y="58"/>
                  </a:lnTo>
                  <a:lnTo>
                    <a:pt x="502" y="0"/>
                  </a:lnTo>
                  <a:lnTo>
                    <a:pt x="516" y="27"/>
                  </a:lnTo>
                  <a:lnTo>
                    <a:pt x="529" y="58"/>
                  </a:lnTo>
                  <a:lnTo>
                    <a:pt x="534" y="89"/>
                  </a:lnTo>
                  <a:lnTo>
                    <a:pt x="539" y="120"/>
                  </a:lnTo>
                  <a:lnTo>
                    <a:pt x="571" y="120"/>
                  </a:lnTo>
                  <a:lnTo>
                    <a:pt x="612" y="133"/>
                  </a:lnTo>
                  <a:lnTo>
                    <a:pt x="648" y="151"/>
                  </a:lnTo>
                  <a:lnTo>
                    <a:pt x="671" y="173"/>
                  </a:lnTo>
                  <a:lnTo>
                    <a:pt x="625" y="186"/>
                  </a:lnTo>
                  <a:lnTo>
                    <a:pt x="589" y="204"/>
                  </a:lnTo>
                  <a:lnTo>
                    <a:pt x="561" y="226"/>
                  </a:lnTo>
                  <a:lnTo>
                    <a:pt x="552" y="244"/>
                  </a:lnTo>
                  <a:lnTo>
                    <a:pt x="571" y="248"/>
                  </a:lnTo>
                  <a:lnTo>
                    <a:pt x="593" y="253"/>
                  </a:lnTo>
                  <a:lnTo>
                    <a:pt x="612" y="261"/>
                  </a:lnTo>
                  <a:lnTo>
                    <a:pt x="621" y="275"/>
                  </a:lnTo>
                  <a:lnTo>
                    <a:pt x="616" y="297"/>
                  </a:lnTo>
                  <a:lnTo>
                    <a:pt x="607" y="306"/>
                  </a:lnTo>
                  <a:lnTo>
                    <a:pt x="593" y="314"/>
                  </a:lnTo>
                  <a:lnTo>
                    <a:pt x="589" y="314"/>
                  </a:lnTo>
                  <a:lnTo>
                    <a:pt x="589" y="319"/>
                  </a:lnTo>
                  <a:lnTo>
                    <a:pt x="584" y="328"/>
                  </a:lnTo>
                  <a:lnTo>
                    <a:pt x="584" y="341"/>
                  </a:lnTo>
                  <a:lnTo>
                    <a:pt x="589" y="354"/>
                  </a:lnTo>
                  <a:lnTo>
                    <a:pt x="602" y="372"/>
                  </a:lnTo>
                  <a:lnTo>
                    <a:pt x="630" y="390"/>
                  </a:lnTo>
                  <a:lnTo>
                    <a:pt x="671" y="407"/>
                  </a:lnTo>
                  <a:lnTo>
                    <a:pt x="730" y="421"/>
                  </a:lnTo>
                  <a:lnTo>
                    <a:pt x="767" y="438"/>
                  </a:lnTo>
                  <a:lnTo>
                    <a:pt x="780" y="469"/>
                  </a:lnTo>
                  <a:lnTo>
                    <a:pt x="780" y="496"/>
                  </a:lnTo>
                  <a:lnTo>
                    <a:pt x="780" y="509"/>
                  </a:lnTo>
                  <a:lnTo>
                    <a:pt x="757" y="513"/>
                  </a:lnTo>
                  <a:lnTo>
                    <a:pt x="735" y="518"/>
                  </a:lnTo>
                  <a:lnTo>
                    <a:pt x="712" y="527"/>
                  </a:lnTo>
                  <a:lnTo>
                    <a:pt x="685" y="536"/>
                  </a:lnTo>
                  <a:lnTo>
                    <a:pt x="662" y="544"/>
                  </a:lnTo>
                  <a:lnTo>
                    <a:pt x="639" y="553"/>
                  </a:lnTo>
                  <a:lnTo>
                    <a:pt x="625" y="562"/>
                  </a:lnTo>
                  <a:lnTo>
                    <a:pt x="616" y="562"/>
                  </a:lnTo>
                  <a:lnTo>
                    <a:pt x="607" y="575"/>
                  </a:lnTo>
                  <a:lnTo>
                    <a:pt x="602" y="597"/>
                  </a:lnTo>
                  <a:lnTo>
                    <a:pt x="598" y="624"/>
                  </a:lnTo>
                  <a:lnTo>
                    <a:pt x="598" y="637"/>
                  </a:lnTo>
                  <a:lnTo>
                    <a:pt x="621" y="633"/>
                  </a:lnTo>
                  <a:lnTo>
                    <a:pt x="666" y="633"/>
                  </a:lnTo>
                  <a:lnTo>
                    <a:pt x="703" y="633"/>
                  </a:lnTo>
                  <a:lnTo>
                    <a:pt x="721" y="633"/>
                  </a:lnTo>
                  <a:lnTo>
                    <a:pt x="721" y="642"/>
                  </a:lnTo>
                  <a:lnTo>
                    <a:pt x="726" y="659"/>
                  </a:lnTo>
                  <a:lnTo>
                    <a:pt x="726" y="681"/>
                  </a:lnTo>
                  <a:lnTo>
                    <a:pt x="721" y="690"/>
                  </a:lnTo>
                  <a:lnTo>
                    <a:pt x="707" y="695"/>
                  </a:lnTo>
                  <a:lnTo>
                    <a:pt x="685" y="708"/>
                  </a:lnTo>
                  <a:lnTo>
                    <a:pt x="662" y="726"/>
                  </a:lnTo>
                  <a:lnTo>
                    <a:pt x="653" y="735"/>
                  </a:lnTo>
                  <a:lnTo>
                    <a:pt x="648" y="761"/>
                  </a:lnTo>
                  <a:lnTo>
                    <a:pt x="639" y="801"/>
                  </a:lnTo>
                  <a:lnTo>
                    <a:pt x="625" y="845"/>
                  </a:lnTo>
                  <a:lnTo>
                    <a:pt x="621" y="872"/>
                  </a:lnTo>
                  <a:lnTo>
                    <a:pt x="625" y="885"/>
                  </a:lnTo>
                  <a:lnTo>
                    <a:pt x="634" y="894"/>
                  </a:lnTo>
                  <a:lnTo>
                    <a:pt x="643" y="903"/>
                  </a:lnTo>
                  <a:lnTo>
                    <a:pt x="657" y="907"/>
                  </a:lnTo>
                  <a:lnTo>
                    <a:pt x="680" y="903"/>
                  </a:lnTo>
                  <a:lnTo>
                    <a:pt x="707" y="898"/>
                  </a:lnTo>
                  <a:lnTo>
                    <a:pt x="739" y="894"/>
                  </a:lnTo>
                  <a:lnTo>
                    <a:pt x="767" y="898"/>
                  </a:lnTo>
                  <a:lnTo>
                    <a:pt x="789" y="907"/>
                  </a:lnTo>
                  <a:lnTo>
                    <a:pt x="812" y="916"/>
                  </a:lnTo>
                  <a:lnTo>
                    <a:pt x="835" y="920"/>
                  </a:lnTo>
                  <a:lnTo>
                    <a:pt x="853" y="925"/>
                  </a:lnTo>
                  <a:lnTo>
                    <a:pt x="862" y="947"/>
                  </a:lnTo>
                  <a:lnTo>
                    <a:pt x="871" y="973"/>
                  </a:lnTo>
                  <a:lnTo>
                    <a:pt x="876" y="995"/>
                  </a:lnTo>
                  <a:lnTo>
                    <a:pt x="871" y="1009"/>
                  </a:lnTo>
                  <a:lnTo>
                    <a:pt x="853" y="1013"/>
                  </a:lnTo>
                  <a:lnTo>
                    <a:pt x="826" y="1013"/>
                  </a:lnTo>
                  <a:lnTo>
                    <a:pt x="794" y="1013"/>
                  </a:lnTo>
                  <a:lnTo>
                    <a:pt x="762" y="1013"/>
                  </a:lnTo>
                  <a:lnTo>
                    <a:pt x="730" y="1018"/>
                  </a:lnTo>
                  <a:lnTo>
                    <a:pt x="703" y="1018"/>
                  </a:lnTo>
                  <a:lnTo>
                    <a:pt x="685" y="1018"/>
                  </a:lnTo>
                  <a:lnTo>
                    <a:pt x="671" y="1022"/>
                  </a:lnTo>
                  <a:lnTo>
                    <a:pt x="662" y="1031"/>
                  </a:lnTo>
                  <a:lnTo>
                    <a:pt x="653" y="1044"/>
                  </a:lnTo>
                  <a:lnTo>
                    <a:pt x="653" y="1053"/>
                  </a:lnTo>
                  <a:lnTo>
                    <a:pt x="657" y="1062"/>
                  </a:lnTo>
                  <a:lnTo>
                    <a:pt x="680" y="1071"/>
                  </a:lnTo>
                  <a:lnTo>
                    <a:pt x="707" y="1084"/>
                  </a:lnTo>
                  <a:lnTo>
                    <a:pt x="735" y="1097"/>
                  </a:lnTo>
                  <a:lnTo>
                    <a:pt x="757" y="1106"/>
                  </a:lnTo>
                  <a:lnTo>
                    <a:pt x="776" y="1102"/>
                  </a:lnTo>
                  <a:lnTo>
                    <a:pt x="799" y="1102"/>
                  </a:lnTo>
                  <a:lnTo>
                    <a:pt x="826" y="1097"/>
                  </a:lnTo>
                  <a:lnTo>
                    <a:pt x="858" y="1093"/>
                  </a:lnTo>
                  <a:lnTo>
                    <a:pt x="890" y="1084"/>
                  </a:lnTo>
                  <a:lnTo>
                    <a:pt x="913" y="1080"/>
                  </a:lnTo>
                  <a:lnTo>
                    <a:pt x="931" y="1071"/>
                  </a:lnTo>
                  <a:lnTo>
                    <a:pt x="935" y="1066"/>
                  </a:lnTo>
                  <a:lnTo>
                    <a:pt x="940" y="1035"/>
                  </a:lnTo>
                  <a:lnTo>
                    <a:pt x="949" y="991"/>
                  </a:lnTo>
                  <a:lnTo>
                    <a:pt x="958" y="942"/>
                  </a:lnTo>
                  <a:lnTo>
                    <a:pt x="954" y="907"/>
                  </a:lnTo>
                  <a:lnTo>
                    <a:pt x="926" y="898"/>
                  </a:lnTo>
                  <a:lnTo>
                    <a:pt x="903" y="889"/>
                  </a:lnTo>
                  <a:lnTo>
                    <a:pt x="885" y="881"/>
                  </a:lnTo>
                  <a:lnTo>
                    <a:pt x="867" y="867"/>
                  </a:lnTo>
                  <a:lnTo>
                    <a:pt x="840" y="845"/>
                  </a:lnTo>
                  <a:lnTo>
                    <a:pt x="808" y="814"/>
                  </a:lnTo>
                  <a:lnTo>
                    <a:pt x="789" y="788"/>
                  </a:lnTo>
                  <a:lnTo>
                    <a:pt x="803" y="770"/>
                  </a:lnTo>
                  <a:lnTo>
                    <a:pt x="826" y="766"/>
                  </a:lnTo>
                  <a:lnTo>
                    <a:pt x="849" y="761"/>
                  </a:lnTo>
                  <a:lnTo>
                    <a:pt x="876" y="761"/>
                  </a:lnTo>
                  <a:lnTo>
                    <a:pt x="899" y="757"/>
                  </a:lnTo>
                  <a:lnTo>
                    <a:pt x="922" y="757"/>
                  </a:lnTo>
                  <a:lnTo>
                    <a:pt x="944" y="752"/>
                  </a:lnTo>
                  <a:lnTo>
                    <a:pt x="967" y="752"/>
                  </a:lnTo>
                  <a:lnTo>
                    <a:pt x="981" y="757"/>
                  </a:lnTo>
                  <a:lnTo>
                    <a:pt x="990" y="735"/>
                  </a:lnTo>
                  <a:lnTo>
                    <a:pt x="999" y="717"/>
                  </a:lnTo>
                  <a:lnTo>
                    <a:pt x="999" y="695"/>
                  </a:lnTo>
                  <a:lnTo>
                    <a:pt x="999" y="677"/>
                  </a:lnTo>
                  <a:lnTo>
                    <a:pt x="967" y="677"/>
                  </a:lnTo>
                  <a:lnTo>
                    <a:pt x="926" y="668"/>
                  </a:lnTo>
                  <a:lnTo>
                    <a:pt x="894" y="655"/>
                  </a:lnTo>
                  <a:lnTo>
                    <a:pt x="881" y="637"/>
                  </a:lnTo>
                  <a:lnTo>
                    <a:pt x="885" y="628"/>
                  </a:lnTo>
                  <a:lnTo>
                    <a:pt x="894" y="615"/>
                  </a:lnTo>
                  <a:lnTo>
                    <a:pt x="908" y="606"/>
                  </a:lnTo>
                  <a:lnTo>
                    <a:pt x="926" y="602"/>
                  </a:lnTo>
                  <a:lnTo>
                    <a:pt x="944" y="597"/>
                  </a:lnTo>
                  <a:lnTo>
                    <a:pt x="967" y="593"/>
                  </a:lnTo>
                  <a:lnTo>
                    <a:pt x="995" y="593"/>
                  </a:lnTo>
                  <a:lnTo>
                    <a:pt x="1017" y="593"/>
                  </a:lnTo>
                  <a:lnTo>
                    <a:pt x="1017" y="580"/>
                  </a:lnTo>
                  <a:lnTo>
                    <a:pt x="1017" y="549"/>
                  </a:lnTo>
                  <a:lnTo>
                    <a:pt x="1017" y="513"/>
                  </a:lnTo>
                  <a:lnTo>
                    <a:pt x="1027" y="487"/>
                  </a:lnTo>
                  <a:lnTo>
                    <a:pt x="1013" y="487"/>
                  </a:lnTo>
                  <a:lnTo>
                    <a:pt x="999" y="482"/>
                  </a:lnTo>
                  <a:lnTo>
                    <a:pt x="990" y="478"/>
                  </a:lnTo>
                  <a:lnTo>
                    <a:pt x="986" y="478"/>
                  </a:lnTo>
                  <a:lnTo>
                    <a:pt x="976" y="421"/>
                  </a:lnTo>
                  <a:lnTo>
                    <a:pt x="990" y="416"/>
                  </a:lnTo>
                  <a:lnTo>
                    <a:pt x="1013" y="403"/>
                  </a:lnTo>
                  <a:lnTo>
                    <a:pt x="1040" y="385"/>
                  </a:lnTo>
                  <a:lnTo>
                    <a:pt x="1049" y="372"/>
                  </a:lnTo>
                  <a:lnTo>
                    <a:pt x="1049" y="354"/>
                  </a:lnTo>
                  <a:lnTo>
                    <a:pt x="1049" y="323"/>
                  </a:lnTo>
                  <a:lnTo>
                    <a:pt x="1049" y="301"/>
                  </a:lnTo>
                  <a:lnTo>
                    <a:pt x="1058" y="288"/>
                  </a:lnTo>
                  <a:lnTo>
                    <a:pt x="1072" y="288"/>
                  </a:lnTo>
                  <a:lnTo>
                    <a:pt x="1086" y="292"/>
                  </a:lnTo>
                  <a:lnTo>
                    <a:pt x="1100" y="306"/>
                  </a:lnTo>
                  <a:lnTo>
                    <a:pt x="1104" y="323"/>
                  </a:lnTo>
                  <a:lnTo>
                    <a:pt x="1104" y="350"/>
                  </a:lnTo>
                  <a:lnTo>
                    <a:pt x="1104" y="390"/>
                  </a:lnTo>
                  <a:lnTo>
                    <a:pt x="1104" y="421"/>
                  </a:lnTo>
                  <a:lnTo>
                    <a:pt x="1109" y="438"/>
                  </a:lnTo>
                  <a:lnTo>
                    <a:pt x="1122" y="452"/>
                  </a:lnTo>
                  <a:lnTo>
                    <a:pt x="1145" y="474"/>
                  </a:lnTo>
                  <a:lnTo>
                    <a:pt x="1154" y="496"/>
                  </a:lnTo>
                  <a:lnTo>
                    <a:pt x="1141" y="513"/>
                  </a:lnTo>
                  <a:lnTo>
                    <a:pt x="1145" y="531"/>
                  </a:lnTo>
                  <a:lnTo>
                    <a:pt x="1177" y="553"/>
                  </a:lnTo>
                  <a:lnTo>
                    <a:pt x="1214" y="580"/>
                  </a:lnTo>
                  <a:lnTo>
                    <a:pt x="1236" y="597"/>
                  </a:lnTo>
                  <a:lnTo>
                    <a:pt x="1241" y="611"/>
                  </a:lnTo>
                  <a:lnTo>
                    <a:pt x="1236" y="633"/>
                  </a:lnTo>
                  <a:lnTo>
                    <a:pt x="1218" y="659"/>
                  </a:lnTo>
                  <a:lnTo>
                    <a:pt x="1186" y="695"/>
                  </a:lnTo>
                  <a:lnTo>
                    <a:pt x="1200" y="704"/>
                  </a:lnTo>
                  <a:lnTo>
                    <a:pt x="1236" y="717"/>
                  </a:lnTo>
                  <a:lnTo>
                    <a:pt x="1273" y="735"/>
                  </a:lnTo>
                  <a:lnTo>
                    <a:pt x="1296" y="743"/>
                  </a:lnTo>
                  <a:lnTo>
                    <a:pt x="1309" y="752"/>
                  </a:lnTo>
                  <a:lnTo>
                    <a:pt x="1332" y="770"/>
                  </a:lnTo>
                  <a:lnTo>
                    <a:pt x="1355" y="788"/>
                  </a:lnTo>
                  <a:lnTo>
                    <a:pt x="1364" y="805"/>
                  </a:lnTo>
                  <a:lnTo>
                    <a:pt x="1355" y="819"/>
                  </a:lnTo>
                  <a:lnTo>
                    <a:pt x="1341" y="827"/>
                  </a:lnTo>
                  <a:lnTo>
                    <a:pt x="1318" y="836"/>
                  </a:lnTo>
                  <a:lnTo>
                    <a:pt x="1305" y="841"/>
                  </a:lnTo>
                  <a:lnTo>
                    <a:pt x="1264" y="841"/>
                  </a:lnTo>
                  <a:lnTo>
                    <a:pt x="1227" y="836"/>
                  </a:lnTo>
                  <a:lnTo>
                    <a:pt x="1195" y="832"/>
                  </a:lnTo>
                  <a:lnTo>
                    <a:pt x="1172" y="827"/>
                  </a:lnTo>
                  <a:lnTo>
                    <a:pt x="1177" y="841"/>
                  </a:lnTo>
                  <a:lnTo>
                    <a:pt x="1182" y="854"/>
                  </a:lnTo>
                  <a:lnTo>
                    <a:pt x="1186" y="876"/>
                  </a:lnTo>
                  <a:lnTo>
                    <a:pt x="1186" y="898"/>
                  </a:lnTo>
                  <a:lnTo>
                    <a:pt x="1214" y="898"/>
                  </a:lnTo>
                  <a:lnTo>
                    <a:pt x="1255" y="903"/>
                  </a:lnTo>
                  <a:lnTo>
                    <a:pt x="1287" y="911"/>
                  </a:lnTo>
                  <a:lnTo>
                    <a:pt x="1309" y="920"/>
                  </a:lnTo>
                  <a:lnTo>
                    <a:pt x="1332" y="938"/>
                  </a:lnTo>
                  <a:lnTo>
                    <a:pt x="1364" y="969"/>
                  </a:lnTo>
                  <a:lnTo>
                    <a:pt x="1387" y="1000"/>
                  </a:lnTo>
                  <a:lnTo>
                    <a:pt x="1391" y="1018"/>
                  </a:lnTo>
                  <a:lnTo>
                    <a:pt x="1382" y="1018"/>
                  </a:lnTo>
                  <a:lnTo>
                    <a:pt x="1364" y="1018"/>
                  </a:lnTo>
                  <a:lnTo>
                    <a:pt x="1341" y="1013"/>
                  </a:lnTo>
                  <a:lnTo>
                    <a:pt x="1318" y="1013"/>
                  </a:lnTo>
                  <a:lnTo>
                    <a:pt x="1291" y="1009"/>
                  </a:lnTo>
                  <a:lnTo>
                    <a:pt x="1268" y="1009"/>
                  </a:lnTo>
                  <a:lnTo>
                    <a:pt x="1250" y="1004"/>
                  </a:lnTo>
                  <a:lnTo>
                    <a:pt x="1241" y="1004"/>
                  </a:lnTo>
                  <a:lnTo>
                    <a:pt x="1227" y="1013"/>
                  </a:lnTo>
                  <a:lnTo>
                    <a:pt x="1209" y="1026"/>
                  </a:lnTo>
                  <a:lnTo>
                    <a:pt x="1204" y="1040"/>
                  </a:lnTo>
                  <a:lnTo>
                    <a:pt x="1214" y="1049"/>
                  </a:lnTo>
                  <a:lnTo>
                    <a:pt x="1245" y="1053"/>
                  </a:lnTo>
                  <a:lnTo>
                    <a:pt x="1282" y="1062"/>
                  </a:lnTo>
                  <a:lnTo>
                    <a:pt x="1318" y="1080"/>
                  </a:lnTo>
                  <a:lnTo>
                    <a:pt x="1332" y="1102"/>
                  </a:lnTo>
                  <a:lnTo>
                    <a:pt x="1332" y="1128"/>
                  </a:lnTo>
                  <a:lnTo>
                    <a:pt x="1318" y="1150"/>
                  </a:lnTo>
                  <a:lnTo>
                    <a:pt x="1305" y="1168"/>
                  </a:lnTo>
                  <a:lnTo>
                    <a:pt x="1287" y="1186"/>
                  </a:lnTo>
                  <a:lnTo>
                    <a:pt x="1282" y="1190"/>
                  </a:lnTo>
                  <a:lnTo>
                    <a:pt x="1291" y="1195"/>
                  </a:lnTo>
                  <a:lnTo>
                    <a:pt x="1305" y="1199"/>
                  </a:lnTo>
                  <a:lnTo>
                    <a:pt x="1328" y="1203"/>
                  </a:lnTo>
                  <a:lnTo>
                    <a:pt x="1350" y="1203"/>
                  </a:lnTo>
                  <a:lnTo>
                    <a:pt x="1369" y="1208"/>
                  </a:lnTo>
                  <a:lnTo>
                    <a:pt x="1387" y="1208"/>
                  </a:lnTo>
                  <a:lnTo>
                    <a:pt x="1401" y="1208"/>
                  </a:lnTo>
                  <a:lnTo>
                    <a:pt x="1423" y="1225"/>
                  </a:lnTo>
                  <a:lnTo>
                    <a:pt x="1442" y="1261"/>
                  </a:lnTo>
                  <a:lnTo>
                    <a:pt x="1437" y="1296"/>
                  </a:lnTo>
                  <a:lnTo>
                    <a:pt x="1401" y="1327"/>
                  </a:lnTo>
                  <a:lnTo>
                    <a:pt x="1369" y="1332"/>
                  </a:lnTo>
                  <a:lnTo>
                    <a:pt x="1346" y="1345"/>
                  </a:lnTo>
                  <a:lnTo>
                    <a:pt x="1328" y="1363"/>
                  </a:lnTo>
                  <a:lnTo>
                    <a:pt x="1309" y="1371"/>
                  </a:lnTo>
                  <a:lnTo>
                    <a:pt x="1328" y="1389"/>
                  </a:lnTo>
                  <a:lnTo>
                    <a:pt x="1364" y="1411"/>
                  </a:lnTo>
                  <a:lnTo>
                    <a:pt x="1401" y="1429"/>
                  </a:lnTo>
                  <a:lnTo>
                    <a:pt x="1437" y="1442"/>
                  </a:lnTo>
                  <a:lnTo>
                    <a:pt x="1469" y="1447"/>
                  </a:lnTo>
                  <a:lnTo>
                    <a:pt x="1505" y="1455"/>
                  </a:lnTo>
                  <a:lnTo>
                    <a:pt x="1528" y="1469"/>
                  </a:lnTo>
                  <a:lnTo>
                    <a:pt x="1528" y="1482"/>
                  </a:lnTo>
                  <a:lnTo>
                    <a:pt x="1524" y="1500"/>
                  </a:lnTo>
                  <a:lnTo>
                    <a:pt x="1519" y="1508"/>
                  </a:lnTo>
                  <a:lnTo>
                    <a:pt x="1515" y="1517"/>
                  </a:lnTo>
                  <a:lnTo>
                    <a:pt x="1501" y="1522"/>
                  </a:lnTo>
                  <a:lnTo>
                    <a:pt x="1483" y="1517"/>
                  </a:lnTo>
                  <a:lnTo>
                    <a:pt x="1473" y="1517"/>
                  </a:lnTo>
                  <a:lnTo>
                    <a:pt x="1464" y="1513"/>
                  </a:lnTo>
                  <a:lnTo>
                    <a:pt x="1451" y="1504"/>
                  </a:lnTo>
                  <a:lnTo>
                    <a:pt x="1437" y="1504"/>
                  </a:lnTo>
                  <a:lnTo>
                    <a:pt x="1419" y="1504"/>
                  </a:lnTo>
                  <a:lnTo>
                    <a:pt x="1401" y="1504"/>
                  </a:lnTo>
                  <a:lnTo>
                    <a:pt x="1378" y="1504"/>
                  </a:lnTo>
                  <a:lnTo>
                    <a:pt x="1359" y="1508"/>
                  </a:lnTo>
                  <a:lnTo>
                    <a:pt x="1341" y="1513"/>
                  </a:lnTo>
                  <a:lnTo>
                    <a:pt x="1328" y="1517"/>
                  </a:lnTo>
                  <a:lnTo>
                    <a:pt x="1314" y="1522"/>
                  </a:lnTo>
                  <a:lnTo>
                    <a:pt x="1318" y="1544"/>
                  </a:lnTo>
                  <a:lnTo>
                    <a:pt x="1328" y="1562"/>
                  </a:lnTo>
                  <a:lnTo>
                    <a:pt x="1346" y="1575"/>
                  </a:lnTo>
                  <a:lnTo>
                    <a:pt x="1364" y="1584"/>
                  </a:lnTo>
                  <a:lnTo>
                    <a:pt x="1396" y="1584"/>
                  </a:lnTo>
                  <a:lnTo>
                    <a:pt x="1442" y="1579"/>
                  </a:lnTo>
                  <a:lnTo>
                    <a:pt x="1478" y="1584"/>
                  </a:lnTo>
                  <a:lnTo>
                    <a:pt x="1492" y="1606"/>
                  </a:lnTo>
                  <a:lnTo>
                    <a:pt x="1492" y="1637"/>
                  </a:lnTo>
                  <a:lnTo>
                    <a:pt x="1487" y="1663"/>
                  </a:lnTo>
                  <a:lnTo>
                    <a:pt x="1469" y="1685"/>
                  </a:lnTo>
                  <a:lnTo>
                    <a:pt x="1428" y="1708"/>
                  </a:lnTo>
                  <a:lnTo>
                    <a:pt x="1396" y="1730"/>
                  </a:lnTo>
                  <a:lnTo>
                    <a:pt x="1391" y="1747"/>
                  </a:lnTo>
                  <a:lnTo>
                    <a:pt x="1401" y="1761"/>
                  </a:lnTo>
                  <a:lnTo>
                    <a:pt x="1405" y="1765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7029360" y="4038480"/>
              <a:ext cx="2114640" cy="2819520"/>
            </a:xfrm>
            <a:custGeom>
              <a:avLst/>
              <a:gdLst>
                <a:gd name="textAreaLeft" fmla="*/ 0 w 2114640"/>
                <a:gd name="textAreaRight" fmla="*/ 2115000 w 211464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1332" h="1968">
                  <a:moveTo>
                    <a:pt x="1332" y="1406"/>
                  </a:moveTo>
                  <a:lnTo>
                    <a:pt x="1332" y="1968"/>
                  </a:lnTo>
                  <a:lnTo>
                    <a:pt x="96" y="1968"/>
                  </a:lnTo>
                  <a:lnTo>
                    <a:pt x="92" y="1964"/>
                  </a:lnTo>
                  <a:lnTo>
                    <a:pt x="82" y="1950"/>
                  </a:lnTo>
                  <a:lnTo>
                    <a:pt x="87" y="1933"/>
                  </a:lnTo>
                  <a:lnTo>
                    <a:pt x="119" y="1911"/>
                  </a:lnTo>
                  <a:lnTo>
                    <a:pt x="160" y="1888"/>
                  </a:lnTo>
                  <a:lnTo>
                    <a:pt x="178" y="1866"/>
                  </a:lnTo>
                  <a:lnTo>
                    <a:pt x="183" y="1840"/>
                  </a:lnTo>
                  <a:lnTo>
                    <a:pt x="183" y="1809"/>
                  </a:lnTo>
                  <a:lnTo>
                    <a:pt x="169" y="1787"/>
                  </a:lnTo>
                  <a:lnTo>
                    <a:pt x="133" y="1782"/>
                  </a:lnTo>
                  <a:lnTo>
                    <a:pt x="87" y="1787"/>
                  </a:lnTo>
                  <a:lnTo>
                    <a:pt x="55" y="1787"/>
                  </a:lnTo>
                  <a:lnTo>
                    <a:pt x="37" y="1778"/>
                  </a:lnTo>
                  <a:lnTo>
                    <a:pt x="19" y="1765"/>
                  </a:lnTo>
                  <a:lnTo>
                    <a:pt x="9" y="1747"/>
                  </a:lnTo>
                  <a:lnTo>
                    <a:pt x="5" y="1725"/>
                  </a:lnTo>
                  <a:lnTo>
                    <a:pt x="19" y="1720"/>
                  </a:lnTo>
                  <a:lnTo>
                    <a:pt x="32" y="1716"/>
                  </a:lnTo>
                  <a:lnTo>
                    <a:pt x="50" y="1711"/>
                  </a:lnTo>
                  <a:lnTo>
                    <a:pt x="69" y="1707"/>
                  </a:lnTo>
                  <a:lnTo>
                    <a:pt x="92" y="1707"/>
                  </a:lnTo>
                  <a:lnTo>
                    <a:pt x="110" y="1707"/>
                  </a:lnTo>
                  <a:lnTo>
                    <a:pt x="128" y="1707"/>
                  </a:lnTo>
                  <a:lnTo>
                    <a:pt x="142" y="1707"/>
                  </a:lnTo>
                  <a:lnTo>
                    <a:pt x="155" y="1716"/>
                  </a:lnTo>
                  <a:lnTo>
                    <a:pt x="164" y="1720"/>
                  </a:lnTo>
                  <a:lnTo>
                    <a:pt x="174" y="1720"/>
                  </a:lnTo>
                  <a:lnTo>
                    <a:pt x="192" y="1725"/>
                  </a:lnTo>
                  <a:lnTo>
                    <a:pt x="206" y="1720"/>
                  </a:lnTo>
                  <a:lnTo>
                    <a:pt x="210" y="1711"/>
                  </a:lnTo>
                  <a:lnTo>
                    <a:pt x="215" y="1703"/>
                  </a:lnTo>
                  <a:lnTo>
                    <a:pt x="219" y="1685"/>
                  </a:lnTo>
                  <a:lnTo>
                    <a:pt x="219" y="1672"/>
                  </a:lnTo>
                  <a:lnTo>
                    <a:pt x="196" y="1658"/>
                  </a:lnTo>
                  <a:lnTo>
                    <a:pt x="160" y="1650"/>
                  </a:lnTo>
                  <a:lnTo>
                    <a:pt x="128" y="1645"/>
                  </a:lnTo>
                  <a:lnTo>
                    <a:pt x="92" y="1632"/>
                  </a:lnTo>
                  <a:lnTo>
                    <a:pt x="55" y="1614"/>
                  </a:lnTo>
                  <a:lnTo>
                    <a:pt x="19" y="1592"/>
                  </a:lnTo>
                  <a:lnTo>
                    <a:pt x="0" y="1574"/>
                  </a:lnTo>
                  <a:lnTo>
                    <a:pt x="19" y="1566"/>
                  </a:lnTo>
                  <a:lnTo>
                    <a:pt x="37" y="1548"/>
                  </a:lnTo>
                  <a:lnTo>
                    <a:pt x="60" y="1535"/>
                  </a:lnTo>
                  <a:lnTo>
                    <a:pt x="92" y="1530"/>
                  </a:lnTo>
                  <a:lnTo>
                    <a:pt x="128" y="1499"/>
                  </a:lnTo>
                  <a:lnTo>
                    <a:pt x="133" y="1464"/>
                  </a:lnTo>
                  <a:lnTo>
                    <a:pt x="114" y="1428"/>
                  </a:lnTo>
                  <a:lnTo>
                    <a:pt x="92" y="1411"/>
                  </a:lnTo>
                  <a:lnTo>
                    <a:pt x="128" y="1402"/>
                  </a:lnTo>
                  <a:lnTo>
                    <a:pt x="164" y="1393"/>
                  </a:lnTo>
                  <a:lnTo>
                    <a:pt x="187" y="1380"/>
                  </a:lnTo>
                  <a:lnTo>
                    <a:pt x="196" y="1367"/>
                  </a:lnTo>
                  <a:lnTo>
                    <a:pt x="192" y="1353"/>
                  </a:lnTo>
                  <a:lnTo>
                    <a:pt x="183" y="1336"/>
                  </a:lnTo>
                  <a:lnTo>
                    <a:pt x="169" y="1327"/>
                  </a:lnTo>
                  <a:lnTo>
                    <a:pt x="151" y="1318"/>
                  </a:lnTo>
                  <a:lnTo>
                    <a:pt x="128" y="1309"/>
                  </a:lnTo>
                  <a:lnTo>
                    <a:pt x="110" y="1305"/>
                  </a:lnTo>
                  <a:lnTo>
                    <a:pt x="101" y="1296"/>
                  </a:lnTo>
                  <a:lnTo>
                    <a:pt x="96" y="1283"/>
                  </a:lnTo>
                  <a:lnTo>
                    <a:pt x="101" y="1260"/>
                  </a:lnTo>
                  <a:lnTo>
                    <a:pt x="105" y="1234"/>
                  </a:lnTo>
                  <a:lnTo>
                    <a:pt x="119" y="1212"/>
                  </a:lnTo>
                  <a:lnTo>
                    <a:pt x="146" y="1203"/>
                  </a:lnTo>
                  <a:lnTo>
                    <a:pt x="164" y="1203"/>
                  </a:lnTo>
                  <a:lnTo>
                    <a:pt x="192" y="1198"/>
                  </a:lnTo>
                  <a:lnTo>
                    <a:pt x="215" y="1194"/>
                  </a:lnTo>
                  <a:lnTo>
                    <a:pt x="242" y="1190"/>
                  </a:lnTo>
                  <a:lnTo>
                    <a:pt x="265" y="1185"/>
                  </a:lnTo>
                  <a:lnTo>
                    <a:pt x="283" y="1176"/>
                  </a:lnTo>
                  <a:lnTo>
                    <a:pt x="297" y="1163"/>
                  </a:lnTo>
                  <a:lnTo>
                    <a:pt x="301" y="1154"/>
                  </a:lnTo>
                  <a:lnTo>
                    <a:pt x="283" y="1128"/>
                  </a:lnTo>
                  <a:lnTo>
                    <a:pt x="242" y="1101"/>
                  </a:lnTo>
                  <a:lnTo>
                    <a:pt x="201" y="1070"/>
                  </a:lnTo>
                  <a:lnTo>
                    <a:pt x="183" y="1039"/>
                  </a:lnTo>
                  <a:lnTo>
                    <a:pt x="192" y="1022"/>
                  </a:lnTo>
                  <a:lnTo>
                    <a:pt x="215" y="1008"/>
                  </a:lnTo>
                  <a:lnTo>
                    <a:pt x="242" y="995"/>
                  </a:lnTo>
                  <a:lnTo>
                    <a:pt x="279" y="982"/>
                  </a:lnTo>
                  <a:lnTo>
                    <a:pt x="315" y="969"/>
                  </a:lnTo>
                  <a:lnTo>
                    <a:pt x="342" y="955"/>
                  </a:lnTo>
                  <a:lnTo>
                    <a:pt x="365" y="946"/>
                  </a:lnTo>
                  <a:lnTo>
                    <a:pt x="374" y="933"/>
                  </a:lnTo>
                  <a:lnTo>
                    <a:pt x="365" y="915"/>
                  </a:lnTo>
                  <a:lnTo>
                    <a:pt x="342" y="907"/>
                  </a:lnTo>
                  <a:lnTo>
                    <a:pt x="320" y="898"/>
                  </a:lnTo>
                  <a:lnTo>
                    <a:pt x="310" y="889"/>
                  </a:lnTo>
                  <a:lnTo>
                    <a:pt x="315" y="876"/>
                  </a:lnTo>
                  <a:lnTo>
                    <a:pt x="333" y="858"/>
                  </a:lnTo>
                  <a:lnTo>
                    <a:pt x="347" y="849"/>
                  </a:lnTo>
                  <a:lnTo>
                    <a:pt x="351" y="845"/>
                  </a:lnTo>
                  <a:lnTo>
                    <a:pt x="338" y="840"/>
                  </a:lnTo>
                  <a:lnTo>
                    <a:pt x="315" y="831"/>
                  </a:lnTo>
                  <a:lnTo>
                    <a:pt x="288" y="823"/>
                  </a:lnTo>
                  <a:lnTo>
                    <a:pt x="274" y="809"/>
                  </a:lnTo>
                  <a:lnTo>
                    <a:pt x="292" y="800"/>
                  </a:lnTo>
                  <a:lnTo>
                    <a:pt x="315" y="792"/>
                  </a:lnTo>
                  <a:lnTo>
                    <a:pt x="338" y="783"/>
                  </a:lnTo>
                  <a:lnTo>
                    <a:pt x="361" y="778"/>
                  </a:lnTo>
                  <a:lnTo>
                    <a:pt x="383" y="774"/>
                  </a:lnTo>
                  <a:lnTo>
                    <a:pt x="406" y="770"/>
                  </a:lnTo>
                  <a:lnTo>
                    <a:pt x="420" y="765"/>
                  </a:lnTo>
                  <a:lnTo>
                    <a:pt x="434" y="761"/>
                  </a:lnTo>
                  <a:lnTo>
                    <a:pt x="452" y="743"/>
                  </a:lnTo>
                  <a:lnTo>
                    <a:pt x="465" y="708"/>
                  </a:lnTo>
                  <a:lnTo>
                    <a:pt x="475" y="672"/>
                  </a:lnTo>
                  <a:lnTo>
                    <a:pt x="479" y="646"/>
                  </a:lnTo>
                  <a:lnTo>
                    <a:pt x="470" y="641"/>
                  </a:lnTo>
                  <a:lnTo>
                    <a:pt x="447" y="655"/>
                  </a:lnTo>
                  <a:lnTo>
                    <a:pt x="420" y="672"/>
                  </a:lnTo>
                  <a:lnTo>
                    <a:pt x="397" y="681"/>
                  </a:lnTo>
                  <a:lnTo>
                    <a:pt x="370" y="677"/>
                  </a:lnTo>
                  <a:lnTo>
                    <a:pt x="342" y="659"/>
                  </a:lnTo>
                  <a:lnTo>
                    <a:pt x="333" y="641"/>
                  </a:lnTo>
                  <a:lnTo>
                    <a:pt x="356" y="624"/>
                  </a:lnTo>
                  <a:lnTo>
                    <a:pt x="397" y="606"/>
                  </a:lnTo>
                  <a:lnTo>
                    <a:pt x="429" y="588"/>
                  </a:lnTo>
                  <a:lnTo>
                    <a:pt x="452" y="566"/>
                  </a:lnTo>
                  <a:lnTo>
                    <a:pt x="470" y="548"/>
                  </a:lnTo>
                  <a:lnTo>
                    <a:pt x="429" y="562"/>
                  </a:lnTo>
                  <a:lnTo>
                    <a:pt x="397" y="570"/>
                  </a:lnTo>
                  <a:lnTo>
                    <a:pt x="370" y="566"/>
                  </a:lnTo>
                  <a:lnTo>
                    <a:pt x="347" y="544"/>
                  </a:lnTo>
                  <a:lnTo>
                    <a:pt x="383" y="522"/>
                  </a:lnTo>
                  <a:lnTo>
                    <a:pt x="420" y="495"/>
                  </a:lnTo>
                  <a:lnTo>
                    <a:pt x="461" y="464"/>
                  </a:lnTo>
                  <a:lnTo>
                    <a:pt x="497" y="429"/>
                  </a:lnTo>
                  <a:lnTo>
                    <a:pt x="520" y="398"/>
                  </a:lnTo>
                  <a:lnTo>
                    <a:pt x="529" y="371"/>
                  </a:lnTo>
                  <a:lnTo>
                    <a:pt x="516" y="354"/>
                  </a:lnTo>
                  <a:lnTo>
                    <a:pt x="475" y="349"/>
                  </a:lnTo>
                  <a:lnTo>
                    <a:pt x="470" y="323"/>
                  </a:lnTo>
                  <a:lnTo>
                    <a:pt x="488" y="301"/>
                  </a:lnTo>
                  <a:lnTo>
                    <a:pt x="525" y="283"/>
                  </a:lnTo>
                  <a:lnTo>
                    <a:pt x="570" y="274"/>
                  </a:lnTo>
                  <a:lnTo>
                    <a:pt x="580" y="239"/>
                  </a:lnTo>
                  <a:lnTo>
                    <a:pt x="580" y="208"/>
                  </a:lnTo>
                  <a:lnTo>
                    <a:pt x="548" y="190"/>
                  </a:lnTo>
                  <a:lnTo>
                    <a:pt x="475" y="195"/>
                  </a:lnTo>
                  <a:lnTo>
                    <a:pt x="465" y="168"/>
                  </a:lnTo>
                  <a:lnTo>
                    <a:pt x="470" y="150"/>
                  </a:lnTo>
                  <a:lnTo>
                    <a:pt x="479" y="142"/>
                  </a:lnTo>
                  <a:lnTo>
                    <a:pt x="484" y="142"/>
                  </a:lnTo>
                  <a:lnTo>
                    <a:pt x="497" y="142"/>
                  </a:lnTo>
                  <a:lnTo>
                    <a:pt x="525" y="142"/>
                  </a:lnTo>
                  <a:lnTo>
                    <a:pt x="552" y="137"/>
                  </a:lnTo>
                  <a:lnTo>
                    <a:pt x="570" y="128"/>
                  </a:lnTo>
                  <a:lnTo>
                    <a:pt x="580" y="106"/>
                  </a:lnTo>
                  <a:lnTo>
                    <a:pt x="589" y="66"/>
                  </a:lnTo>
                  <a:lnTo>
                    <a:pt x="598" y="27"/>
                  </a:lnTo>
                  <a:lnTo>
                    <a:pt x="602" y="0"/>
                  </a:lnTo>
                  <a:lnTo>
                    <a:pt x="621" y="31"/>
                  </a:lnTo>
                  <a:lnTo>
                    <a:pt x="634" y="66"/>
                  </a:lnTo>
                  <a:lnTo>
                    <a:pt x="639" y="102"/>
                  </a:lnTo>
                  <a:lnTo>
                    <a:pt x="639" y="133"/>
                  </a:lnTo>
                  <a:lnTo>
                    <a:pt x="666" y="133"/>
                  </a:lnTo>
                  <a:lnTo>
                    <a:pt x="694" y="137"/>
                  </a:lnTo>
                  <a:lnTo>
                    <a:pt x="721" y="142"/>
                  </a:lnTo>
                  <a:lnTo>
                    <a:pt x="744" y="150"/>
                  </a:lnTo>
                  <a:lnTo>
                    <a:pt x="762" y="164"/>
                  </a:lnTo>
                  <a:lnTo>
                    <a:pt x="780" y="186"/>
                  </a:lnTo>
                  <a:lnTo>
                    <a:pt x="798" y="212"/>
                  </a:lnTo>
                  <a:lnTo>
                    <a:pt x="812" y="243"/>
                  </a:lnTo>
                  <a:lnTo>
                    <a:pt x="780" y="239"/>
                  </a:lnTo>
                  <a:lnTo>
                    <a:pt x="753" y="239"/>
                  </a:lnTo>
                  <a:lnTo>
                    <a:pt x="730" y="243"/>
                  </a:lnTo>
                  <a:lnTo>
                    <a:pt x="707" y="248"/>
                  </a:lnTo>
                  <a:lnTo>
                    <a:pt x="689" y="257"/>
                  </a:lnTo>
                  <a:lnTo>
                    <a:pt x="680" y="274"/>
                  </a:lnTo>
                  <a:lnTo>
                    <a:pt x="675" y="301"/>
                  </a:lnTo>
                  <a:lnTo>
                    <a:pt x="680" y="332"/>
                  </a:lnTo>
                  <a:lnTo>
                    <a:pt x="712" y="332"/>
                  </a:lnTo>
                  <a:lnTo>
                    <a:pt x="744" y="341"/>
                  </a:lnTo>
                  <a:lnTo>
                    <a:pt x="771" y="354"/>
                  </a:lnTo>
                  <a:lnTo>
                    <a:pt x="798" y="371"/>
                  </a:lnTo>
                  <a:lnTo>
                    <a:pt x="817" y="389"/>
                  </a:lnTo>
                  <a:lnTo>
                    <a:pt x="826" y="411"/>
                  </a:lnTo>
                  <a:lnTo>
                    <a:pt x="821" y="433"/>
                  </a:lnTo>
                  <a:lnTo>
                    <a:pt x="803" y="456"/>
                  </a:lnTo>
                  <a:lnTo>
                    <a:pt x="762" y="447"/>
                  </a:lnTo>
                  <a:lnTo>
                    <a:pt x="730" y="433"/>
                  </a:lnTo>
                  <a:lnTo>
                    <a:pt x="698" y="433"/>
                  </a:lnTo>
                  <a:lnTo>
                    <a:pt x="680" y="442"/>
                  </a:lnTo>
                  <a:lnTo>
                    <a:pt x="671" y="469"/>
                  </a:lnTo>
                  <a:lnTo>
                    <a:pt x="680" y="495"/>
                  </a:lnTo>
                  <a:lnTo>
                    <a:pt x="716" y="526"/>
                  </a:lnTo>
                  <a:lnTo>
                    <a:pt x="789" y="540"/>
                  </a:lnTo>
                  <a:lnTo>
                    <a:pt x="798" y="579"/>
                  </a:lnTo>
                  <a:lnTo>
                    <a:pt x="821" y="601"/>
                  </a:lnTo>
                  <a:lnTo>
                    <a:pt x="844" y="624"/>
                  </a:lnTo>
                  <a:lnTo>
                    <a:pt x="858" y="659"/>
                  </a:lnTo>
                  <a:lnTo>
                    <a:pt x="853" y="694"/>
                  </a:lnTo>
                  <a:lnTo>
                    <a:pt x="839" y="725"/>
                  </a:lnTo>
                  <a:lnTo>
                    <a:pt x="821" y="747"/>
                  </a:lnTo>
                  <a:lnTo>
                    <a:pt x="798" y="756"/>
                  </a:lnTo>
                  <a:lnTo>
                    <a:pt x="780" y="747"/>
                  </a:lnTo>
                  <a:lnTo>
                    <a:pt x="766" y="725"/>
                  </a:lnTo>
                  <a:lnTo>
                    <a:pt x="757" y="708"/>
                  </a:lnTo>
                  <a:lnTo>
                    <a:pt x="735" y="699"/>
                  </a:lnTo>
                  <a:lnTo>
                    <a:pt x="716" y="721"/>
                  </a:lnTo>
                  <a:lnTo>
                    <a:pt x="721" y="761"/>
                  </a:lnTo>
                  <a:lnTo>
                    <a:pt x="725" y="800"/>
                  </a:lnTo>
                  <a:lnTo>
                    <a:pt x="730" y="818"/>
                  </a:lnTo>
                  <a:lnTo>
                    <a:pt x="771" y="823"/>
                  </a:lnTo>
                  <a:lnTo>
                    <a:pt x="803" y="840"/>
                  </a:lnTo>
                  <a:lnTo>
                    <a:pt x="808" y="880"/>
                  </a:lnTo>
                  <a:lnTo>
                    <a:pt x="789" y="933"/>
                  </a:lnTo>
                  <a:lnTo>
                    <a:pt x="821" y="929"/>
                  </a:lnTo>
                  <a:lnTo>
                    <a:pt x="853" y="920"/>
                  </a:lnTo>
                  <a:lnTo>
                    <a:pt x="881" y="907"/>
                  </a:lnTo>
                  <a:lnTo>
                    <a:pt x="908" y="889"/>
                  </a:lnTo>
                  <a:lnTo>
                    <a:pt x="922" y="871"/>
                  </a:lnTo>
                  <a:lnTo>
                    <a:pt x="926" y="845"/>
                  </a:lnTo>
                  <a:lnTo>
                    <a:pt x="912" y="823"/>
                  </a:lnTo>
                  <a:lnTo>
                    <a:pt x="885" y="796"/>
                  </a:lnTo>
                  <a:lnTo>
                    <a:pt x="871" y="752"/>
                  </a:lnTo>
                  <a:lnTo>
                    <a:pt x="871" y="721"/>
                  </a:lnTo>
                  <a:lnTo>
                    <a:pt x="881" y="703"/>
                  </a:lnTo>
                  <a:lnTo>
                    <a:pt x="899" y="685"/>
                  </a:lnTo>
                  <a:lnTo>
                    <a:pt x="926" y="672"/>
                  </a:lnTo>
                  <a:lnTo>
                    <a:pt x="958" y="659"/>
                  </a:lnTo>
                  <a:lnTo>
                    <a:pt x="990" y="650"/>
                  </a:lnTo>
                  <a:lnTo>
                    <a:pt x="1013" y="637"/>
                  </a:lnTo>
                  <a:lnTo>
                    <a:pt x="1013" y="632"/>
                  </a:lnTo>
                  <a:lnTo>
                    <a:pt x="1013" y="624"/>
                  </a:lnTo>
                  <a:lnTo>
                    <a:pt x="1004" y="615"/>
                  </a:lnTo>
                  <a:lnTo>
                    <a:pt x="985" y="610"/>
                  </a:lnTo>
                  <a:lnTo>
                    <a:pt x="985" y="588"/>
                  </a:lnTo>
                  <a:lnTo>
                    <a:pt x="995" y="562"/>
                  </a:lnTo>
                  <a:lnTo>
                    <a:pt x="999" y="544"/>
                  </a:lnTo>
                  <a:lnTo>
                    <a:pt x="1004" y="535"/>
                  </a:lnTo>
                  <a:lnTo>
                    <a:pt x="1013" y="531"/>
                  </a:lnTo>
                  <a:lnTo>
                    <a:pt x="1031" y="513"/>
                  </a:lnTo>
                  <a:lnTo>
                    <a:pt x="1049" y="495"/>
                  </a:lnTo>
                  <a:lnTo>
                    <a:pt x="1058" y="478"/>
                  </a:lnTo>
                  <a:lnTo>
                    <a:pt x="1054" y="460"/>
                  </a:lnTo>
                  <a:lnTo>
                    <a:pt x="1049" y="438"/>
                  </a:lnTo>
                  <a:lnTo>
                    <a:pt x="1049" y="416"/>
                  </a:lnTo>
                  <a:lnTo>
                    <a:pt x="1058" y="394"/>
                  </a:lnTo>
                  <a:lnTo>
                    <a:pt x="1072" y="371"/>
                  </a:lnTo>
                  <a:lnTo>
                    <a:pt x="1081" y="354"/>
                  </a:lnTo>
                  <a:lnTo>
                    <a:pt x="1081" y="341"/>
                  </a:lnTo>
                  <a:lnTo>
                    <a:pt x="1067" y="318"/>
                  </a:lnTo>
                  <a:lnTo>
                    <a:pt x="1104" y="336"/>
                  </a:lnTo>
                  <a:lnTo>
                    <a:pt x="1131" y="376"/>
                  </a:lnTo>
                  <a:lnTo>
                    <a:pt x="1150" y="420"/>
                  </a:lnTo>
                  <a:lnTo>
                    <a:pt x="1140" y="464"/>
                  </a:lnTo>
                  <a:lnTo>
                    <a:pt x="1131" y="500"/>
                  </a:lnTo>
                  <a:lnTo>
                    <a:pt x="1140" y="526"/>
                  </a:lnTo>
                  <a:lnTo>
                    <a:pt x="1159" y="548"/>
                  </a:lnTo>
                  <a:lnTo>
                    <a:pt x="1172" y="566"/>
                  </a:lnTo>
                  <a:lnTo>
                    <a:pt x="1204" y="579"/>
                  </a:lnTo>
                  <a:lnTo>
                    <a:pt x="1227" y="588"/>
                  </a:lnTo>
                  <a:lnTo>
                    <a:pt x="1241" y="597"/>
                  </a:lnTo>
                  <a:lnTo>
                    <a:pt x="1250" y="610"/>
                  </a:lnTo>
                  <a:lnTo>
                    <a:pt x="1254" y="632"/>
                  </a:lnTo>
                  <a:lnTo>
                    <a:pt x="1254" y="650"/>
                  </a:lnTo>
                  <a:lnTo>
                    <a:pt x="1250" y="659"/>
                  </a:lnTo>
                  <a:lnTo>
                    <a:pt x="1232" y="663"/>
                  </a:lnTo>
                  <a:lnTo>
                    <a:pt x="1200" y="659"/>
                  </a:lnTo>
                  <a:lnTo>
                    <a:pt x="1159" y="655"/>
                  </a:lnTo>
                  <a:lnTo>
                    <a:pt x="1127" y="655"/>
                  </a:lnTo>
                  <a:lnTo>
                    <a:pt x="1113" y="663"/>
                  </a:lnTo>
                  <a:lnTo>
                    <a:pt x="1109" y="681"/>
                  </a:lnTo>
                  <a:lnTo>
                    <a:pt x="1104" y="703"/>
                  </a:lnTo>
                  <a:lnTo>
                    <a:pt x="1099" y="721"/>
                  </a:lnTo>
                  <a:lnTo>
                    <a:pt x="1113" y="734"/>
                  </a:lnTo>
                  <a:lnTo>
                    <a:pt x="1145" y="739"/>
                  </a:lnTo>
                  <a:lnTo>
                    <a:pt x="1182" y="739"/>
                  </a:lnTo>
                  <a:lnTo>
                    <a:pt x="1218" y="743"/>
                  </a:lnTo>
                  <a:lnTo>
                    <a:pt x="1236" y="756"/>
                  </a:lnTo>
                  <a:lnTo>
                    <a:pt x="1232" y="796"/>
                  </a:lnTo>
                  <a:lnTo>
                    <a:pt x="1218" y="836"/>
                  </a:lnTo>
                  <a:lnTo>
                    <a:pt x="1200" y="867"/>
                  </a:lnTo>
                  <a:lnTo>
                    <a:pt x="1177" y="889"/>
                  </a:lnTo>
                  <a:lnTo>
                    <a:pt x="1154" y="911"/>
                  </a:lnTo>
                  <a:lnTo>
                    <a:pt x="1140" y="924"/>
                  </a:lnTo>
                  <a:lnTo>
                    <a:pt x="1140" y="933"/>
                  </a:lnTo>
                  <a:lnTo>
                    <a:pt x="1154" y="938"/>
                  </a:lnTo>
                  <a:lnTo>
                    <a:pt x="1200" y="938"/>
                  </a:lnTo>
                  <a:lnTo>
                    <a:pt x="1232" y="938"/>
                  </a:lnTo>
                  <a:lnTo>
                    <a:pt x="1250" y="946"/>
                  </a:lnTo>
                  <a:lnTo>
                    <a:pt x="1259" y="969"/>
                  </a:lnTo>
                  <a:lnTo>
                    <a:pt x="1259" y="1004"/>
                  </a:lnTo>
                  <a:lnTo>
                    <a:pt x="1254" y="1039"/>
                  </a:lnTo>
                  <a:lnTo>
                    <a:pt x="1241" y="1061"/>
                  </a:lnTo>
                  <a:lnTo>
                    <a:pt x="1218" y="1061"/>
                  </a:lnTo>
                  <a:lnTo>
                    <a:pt x="1195" y="1048"/>
                  </a:lnTo>
                  <a:lnTo>
                    <a:pt x="1172" y="1039"/>
                  </a:lnTo>
                  <a:lnTo>
                    <a:pt x="1154" y="1044"/>
                  </a:lnTo>
                  <a:lnTo>
                    <a:pt x="1136" y="1061"/>
                  </a:lnTo>
                  <a:lnTo>
                    <a:pt x="1122" y="1088"/>
                  </a:lnTo>
                  <a:lnTo>
                    <a:pt x="1118" y="1110"/>
                  </a:lnTo>
                  <a:lnTo>
                    <a:pt x="1122" y="1137"/>
                  </a:lnTo>
                  <a:lnTo>
                    <a:pt x="1131" y="1163"/>
                  </a:lnTo>
                  <a:lnTo>
                    <a:pt x="1305" y="1212"/>
                  </a:lnTo>
                  <a:lnTo>
                    <a:pt x="1305" y="1234"/>
                  </a:lnTo>
                  <a:lnTo>
                    <a:pt x="1286" y="1256"/>
                  </a:lnTo>
                  <a:lnTo>
                    <a:pt x="1268" y="1278"/>
                  </a:lnTo>
                  <a:lnTo>
                    <a:pt x="1264" y="1287"/>
                  </a:lnTo>
                  <a:lnTo>
                    <a:pt x="1282" y="1309"/>
                  </a:lnTo>
                  <a:lnTo>
                    <a:pt x="1305" y="1349"/>
                  </a:lnTo>
                  <a:lnTo>
                    <a:pt x="1323" y="1389"/>
                  </a:lnTo>
                  <a:lnTo>
                    <a:pt x="1332" y="1406"/>
                  </a:lnTo>
                  <a:close/>
                </a:path>
              </a:pathLst>
            </a:custGeom>
            <a:solidFill>
              <a:srgbClr val="008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7"/>
            <p:cNvSpPr/>
            <p:nvPr/>
          </p:nvSpPr>
          <p:spPr>
            <a:xfrm>
              <a:off x="969840" y="5197320"/>
              <a:ext cx="1332000" cy="166032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839" h="1159">
                  <a:moveTo>
                    <a:pt x="0" y="1159"/>
                  </a:moveTo>
                  <a:lnTo>
                    <a:pt x="18" y="1110"/>
                  </a:lnTo>
                  <a:lnTo>
                    <a:pt x="46" y="1044"/>
                  </a:lnTo>
                  <a:lnTo>
                    <a:pt x="78" y="973"/>
                  </a:lnTo>
                  <a:lnTo>
                    <a:pt x="105" y="929"/>
                  </a:lnTo>
                  <a:lnTo>
                    <a:pt x="91" y="929"/>
                  </a:lnTo>
                  <a:lnTo>
                    <a:pt x="73" y="929"/>
                  </a:lnTo>
                  <a:lnTo>
                    <a:pt x="55" y="929"/>
                  </a:lnTo>
                  <a:lnTo>
                    <a:pt x="37" y="925"/>
                  </a:lnTo>
                  <a:lnTo>
                    <a:pt x="46" y="889"/>
                  </a:lnTo>
                  <a:lnTo>
                    <a:pt x="64" y="872"/>
                  </a:lnTo>
                  <a:lnTo>
                    <a:pt x="91" y="863"/>
                  </a:lnTo>
                  <a:lnTo>
                    <a:pt x="128" y="854"/>
                  </a:lnTo>
                  <a:lnTo>
                    <a:pt x="169" y="841"/>
                  </a:lnTo>
                  <a:lnTo>
                    <a:pt x="192" y="818"/>
                  </a:lnTo>
                  <a:lnTo>
                    <a:pt x="205" y="792"/>
                  </a:lnTo>
                  <a:lnTo>
                    <a:pt x="205" y="765"/>
                  </a:lnTo>
                  <a:lnTo>
                    <a:pt x="192" y="734"/>
                  </a:lnTo>
                  <a:lnTo>
                    <a:pt x="173" y="708"/>
                  </a:lnTo>
                  <a:lnTo>
                    <a:pt x="141" y="695"/>
                  </a:lnTo>
                  <a:lnTo>
                    <a:pt x="114" y="681"/>
                  </a:lnTo>
                  <a:lnTo>
                    <a:pt x="78" y="677"/>
                  </a:lnTo>
                  <a:lnTo>
                    <a:pt x="50" y="673"/>
                  </a:lnTo>
                  <a:lnTo>
                    <a:pt x="23" y="668"/>
                  </a:lnTo>
                  <a:lnTo>
                    <a:pt x="5" y="664"/>
                  </a:lnTo>
                  <a:lnTo>
                    <a:pt x="18" y="650"/>
                  </a:lnTo>
                  <a:lnTo>
                    <a:pt x="32" y="642"/>
                  </a:lnTo>
                  <a:lnTo>
                    <a:pt x="50" y="624"/>
                  </a:lnTo>
                  <a:lnTo>
                    <a:pt x="73" y="611"/>
                  </a:lnTo>
                  <a:lnTo>
                    <a:pt x="96" y="602"/>
                  </a:lnTo>
                  <a:lnTo>
                    <a:pt x="114" y="593"/>
                  </a:lnTo>
                  <a:lnTo>
                    <a:pt x="132" y="584"/>
                  </a:lnTo>
                  <a:lnTo>
                    <a:pt x="151" y="584"/>
                  </a:lnTo>
                  <a:lnTo>
                    <a:pt x="178" y="593"/>
                  </a:lnTo>
                  <a:lnTo>
                    <a:pt x="201" y="602"/>
                  </a:lnTo>
                  <a:lnTo>
                    <a:pt x="224" y="602"/>
                  </a:lnTo>
                  <a:lnTo>
                    <a:pt x="246" y="602"/>
                  </a:lnTo>
                  <a:lnTo>
                    <a:pt x="265" y="593"/>
                  </a:lnTo>
                  <a:lnTo>
                    <a:pt x="283" y="589"/>
                  </a:lnTo>
                  <a:lnTo>
                    <a:pt x="297" y="580"/>
                  </a:lnTo>
                  <a:lnTo>
                    <a:pt x="310" y="566"/>
                  </a:lnTo>
                  <a:lnTo>
                    <a:pt x="283" y="553"/>
                  </a:lnTo>
                  <a:lnTo>
                    <a:pt x="260" y="540"/>
                  </a:lnTo>
                  <a:lnTo>
                    <a:pt x="242" y="531"/>
                  </a:lnTo>
                  <a:lnTo>
                    <a:pt x="233" y="518"/>
                  </a:lnTo>
                  <a:lnTo>
                    <a:pt x="242" y="500"/>
                  </a:lnTo>
                  <a:lnTo>
                    <a:pt x="269" y="482"/>
                  </a:lnTo>
                  <a:lnTo>
                    <a:pt x="306" y="474"/>
                  </a:lnTo>
                  <a:lnTo>
                    <a:pt x="338" y="482"/>
                  </a:lnTo>
                  <a:lnTo>
                    <a:pt x="338" y="469"/>
                  </a:lnTo>
                  <a:lnTo>
                    <a:pt x="338" y="447"/>
                  </a:lnTo>
                  <a:lnTo>
                    <a:pt x="338" y="420"/>
                  </a:lnTo>
                  <a:lnTo>
                    <a:pt x="338" y="398"/>
                  </a:lnTo>
                  <a:lnTo>
                    <a:pt x="315" y="389"/>
                  </a:lnTo>
                  <a:lnTo>
                    <a:pt x="287" y="385"/>
                  </a:lnTo>
                  <a:lnTo>
                    <a:pt x="260" y="381"/>
                  </a:lnTo>
                  <a:lnTo>
                    <a:pt x="233" y="376"/>
                  </a:lnTo>
                  <a:lnTo>
                    <a:pt x="210" y="367"/>
                  </a:lnTo>
                  <a:lnTo>
                    <a:pt x="187" y="363"/>
                  </a:lnTo>
                  <a:lnTo>
                    <a:pt x="173" y="354"/>
                  </a:lnTo>
                  <a:lnTo>
                    <a:pt x="169" y="341"/>
                  </a:lnTo>
                  <a:lnTo>
                    <a:pt x="178" y="314"/>
                  </a:lnTo>
                  <a:lnTo>
                    <a:pt x="205" y="292"/>
                  </a:lnTo>
                  <a:lnTo>
                    <a:pt x="237" y="275"/>
                  </a:lnTo>
                  <a:lnTo>
                    <a:pt x="269" y="270"/>
                  </a:lnTo>
                  <a:lnTo>
                    <a:pt x="297" y="270"/>
                  </a:lnTo>
                  <a:lnTo>
                    <a:pt x="338" y="266"/>
                  </a:lnTo>
                  <a:lnTo>
                    <a:pt x="374" y="257"/>
                  </a:lnTo>
                  <a:lnTo>
                    <a:pt x="397" y="252"/>
                  </a:lnTo>
                  <a:lnTo>
                    <a:pt x="411" y="235"/>
                  </a:lnTo>
                  <a:lnTo>
                    <a:pt x="429" y="208"/>
                  </a:lnTo>
                  <a:lnTo>
                    <a:pt x="447" y="177"/>
                  </a:lnTo>
                  <a:lnTo>
                    <a:pt x="461" y="155"/>
                  </a:lnTo>
                  <a:lnTo>
                    <a:pt x="456" y="155"/>
                  </a:lnTo>
                  <a:lnTo>
                    <a:pt x="442" y="155"/>
                  </a:lnTo>
                  <a:lnTo>
                    <a:pt x="429" y="155"/>
                  </a:lnTo>
                  <a:lnTo>
                    <a:pt x="415" y="155"/>
                  </a:lnTo>
                  <a:lnTo>
                    <a:pt x="429" y="137"/>
                  </a:lnTo>
                  <a:lnTo>
                    <a:pt x="438" y="124"/>
                  </a:lnTo>
                  <a:lnTo>
                    <a:pt x="442" y="111"/>
                  </a:lnTo>
                  <a:lnTo>
                    <a:pt x="447" y="93"/>
                  </a:lnTo>
                  <a:lnTo>
                    <a:pt x="447" y="67"/>
                  </a:lnTo>
                  <a:lnTo>
                    <a:pt x="447" y="36"/>
                  </a:lnTo>
                  <a:lnTo>
                    <a:pt x="452" y="9"/>
                  </a:lnTo>
                  <a:lnTo>
                    <a:pt x="465" y="0"/>
                  </a:lnTo>
                  <a:lnTo>
                    <a:pt x="479" y="18"/>
                  </a:lnTo>
                  <a:lnTo>
                    <a:pt x="493" y="58"/>
                  </a:lnTo>
                  <a:lnTo>
                    <a:pt x="497" y="106"/>
                  </a:lnTo>
                  <a:lnTo>
                    <a:pt x="502" y="142"/>
                  </a:lnTo>
                  <a:lnTo>
                    <a:pt x="506" y="173"/>
                  </a:lnTo>
                  <a:lnTo>
                    <a:pt x="511" y="217"/>
                  </a:lnTo>
                  <a:lnTo>
                    <a:pt x="515" y="252"/>
                  </a:lnTo>
                  <a:lnTo>
                    <a:pt x="520" y="266"/>
                  </a:lnTo>
                  <a:lnTo>
                    <a:pt x="534" y="270"/>
                  </a:lnTo>
                  <a:lnTo>
                    <a:pt x="552" y="288"/>
                  </a:lnTo>
                  <a:lnTo>
                    <a:pt x="584" y="305"/>
                  </a:lnTo>
                  <a:lnTo>
                    <a:pt x="611" y="328"/>
                  </a:lnTo>
                  <a:lnTo>
                    <a:pt x="643" y="354"/>
                  </a:lnTo>
                  <a:lnTo>
                    <a:pt x="666" y="376"/>
                  </a:lnTo>
                  <a:lnTo>
                    <a:pt x="680" y="394"/>
                  </a:lnTo>
                  <a:lnTo>
                    <a:pt x="684" y="407"/>
                  </a:lnTo>
                  <a:lnTo>
                    <a:pt x="675" y="416"/>
                  </a:lnTo>
                  <a:lnTo>
                    <a:pt x="652" y="416"/>
                  </a:lnTo>
                  <a:lnTo>
                    <a:pt x="629" y="416"/>
                  </a:lnTo>
                  <a:lnTo>
                    <a:pt x="602" y="412"/>
                  </a:lnTo>
                  <a:lnTo>
                    <a:pt x="575" y="412"/>
                  </a:lnTo>
                  <a:lnTo>
                    <a:pt x="552" y="412"/>
                  </a:lnTo>
                  <a:lnTo>
                    <a:pt x="538" y="412"/>
                  </a:lnTo>
                  <a:lnTo>
                    <a:pt x="534" y="420"/>
                  </a:lnTo>
                  <a:lnTo>
                    <a:pt x="538" y="434"/>
                  </a:lnTo>
                  <a:lnTo>
                    <a:pt x="538" y="438"/>
                  </a:lnTo>
                  <a:lnTo>
                    <a:pt x="538" y="447"/>
                  </a:lnTo>
                  <a:lnTo>
                    <a:pt x="538" y="456"/>
                  </a:lnTo>
                  <a:lnTo>
                    <a:pt x="543" y="460"/>
                  </a:lnTo>
                  <a:lnTo>
                    <a:pt x="557" y="469"/>
                  </a:lnTo>
                  <a:lnTo>
                    <a:pt x="584" y="478"/>
                  </a:lnTo>
                  <a:lnTo>
                    <a:pt x="611" y="487"/>
                  </a:lnTo>
                  <a:lnTo>
                    <a:pt x="639" y="496"/>
                  </a:lnTo>
                  <a:lnTo>
                    <a:pt x="661" y="504"/>
                  </a:lnTo>
                  <a:lnTo>
                    <a:pt x="684" y="513"/>
                  </a:lnTo>
                  <a:lnTo>
                    <a:pt x="693" y="522"/>
                  </a:lnTo>
                  <a:lnTo>
                    <a:pt x="689" y="540"/>
                  </a:lnTo>
                  <a:lnTo>
                    <a:pt x="671" y="558"/>
                  </a:lnTo>
                  <a:lnTo>
                    <a:pt x="657" y="580"/>
                  </a:lnTo>
                  <a:lnTo>
                    <a:pt x="657" y="597"/>
                  </a:lnTo>
                  <a:lnTo>
                    <a:pt x="684" y="615"/>
                  </a:lnTo>
                  <a:lnTo>
                    <a:pt x="721" y="646"/>
                  </a:lnTo>
                  <a:lnTo>
                    <a:pt x="753" y="690"/>
                  </a:lnTo>
                  <a:lnTo>
                    <a:pt x="775" y="748"/>
                  </a:lnTo>
                  <a:lnTo>
                    <a:pt x="762" y="752"/>
                  </a:lnTo>
                  <a:lnTo>
                    <a:pt x="725" y="743"/>
                  </a:lnTo>
                  <a:lnTo>
                    <a:pt x="684" y="730"/>
                  </a:lnTo>
                  <a:lnTo>
                    <a:pt x="648" y="726"/>
                  </a:lnTo>
                  <a:lnTo>
                    <a:pt x="616" y="730"/>
                  </a:lnTo>
                  <a:lnTo>
                    <a:pt x="584" y="739"/>
                  </a:lnTo>
                  <a:lnTo>
                    <a:pt x="561" y="752"/>
                  </a:lnTo>
                  <a:lnTo>
                    <a:pt x="547" y="765"/>
                  </a:lnTo>
                  <a:lnTo>
                    <a:pt x="547" y="783"/>
                  </a:lnTo>
                  <a:lnTo>
                    <a:pt x="547" y="810"/>
                  </a:lnTo>
                  <a:lnTo>
                    <a:pt x="552" y="836"/>
                  </a:lnTo>
                  <a:lnTo>
                    <a:pt x="561" y="849"/>
                  </a:lnTo>
                  <a:lnTo>
                    <a:pt x="570" y="849"/>
                  </a:lnTo>
                  <a:lnTo>
                    <a:pt x="588" y="849"/>
                  </a:lnTo>
                  <a:lnTo>
                    <a:pt x="607" y="849"/>
                  </a:lnTo>
                  <a:lnTo>
                    <a:pt x="629" y="849"/>
                  </a:lnTo>
                  <a:lnTo>
                    <a:pt x="652" y="849"/>
                  </a:lnTo>
                  <a:lnTo>
                    <a:pt x="675" y="849"/>
                  </a:lnTo>
                  <a:lnTo>
                    <a:pt x="693" y="854"/>
                  </a:lnTo>
                  <a:lnTo>
                    <a:pt x="712" y="858"/>
                  </a:lnTo>
                  <a:lnTo>
                    <a:pt x="743" y="872"/>
                  </a:lnTo>
                  <a:lnTo>
                    <a:pt x="780" y="885"/>
                  </a:lnTo>
                  <a:lnTo>
                    <a:pt x="812" y="898"/>
                  </a:lnTo>
                  <a:lnTo>
                    <a:pt x="826" y="911"/>
                  </a:lnTo>
                  <a:lnTo>
                    <a:pt x="835" y="925"/>
                  </a:lnTo>
                  <a:lnTo>
                    <a:pt x="839" y="938"/>
                  </a:lnTo>
                  <a:lnTo>
                    <a:pt x="839" y="951"/>
                  </a:lnTo>
                  <a:lnTo>
                    <a:pt x="826" y="956"/>
                  </a:lnTo>
                  <a:lnTo>
                    <a:pt x="807" y="960"/>
                  </a:lnTo>
                  <a:lnTo>
                    <a:pt x="789" y="969"/>
                  </a:lnTo>
                  <a:lnTo>
                    <a:pt x="771" y="982"/>
                  </a:lnTo>
                  <a:lnTo>
                    <a:pt x="753" y="995"/>
                  </a:lnTo>
                  <a:lnTo>
                    <a:pt x="734" y="995"/>
                  </a:lnTo>
                  <a:lnTo>
                    <a:pt x="707" y="987"/>
                  </a:lnTo>
                  <a:lnTo>
                    <a:pt x="671" y="973"/>
                  </a:lnTo>
                  <a:lnTo>
                    <a:pt x="629" y="960"/>
                  </a:lnTo>
                  <a:lnTo>
                    <a:pt x="593" y="956"/>
                  </a:lnTo>
                  <a:lnTo>
                    <a:pt x="570" y="960"/>
                  </a:lnTo>
                  <a:lnTo>
                    <a:pt x="561" y="969"/>
                  </a:lnTo>
                  <a:lnTo>
                    <a:pt x="566" y="978"/>
                  </a:lnTo>
                  <a:lnTo>
                    <a:pt x="588" y="987"/>
                  </a:lnTo>
                  <a:lnTo>
                    <a:pt x="611" y="1000"/>
                  </a:lnTo>
                  <a:lnTo>
                    <a:pt x="634" y="1009"/>
                  </a:lnTo>
                  <a:lnTo>
                    <a:pt x="643" y="1022"/>
                  </a:lnTo>
                  <a:lnTo>
                    <a:pt x="616" y="1026"/>
                  </a:lnTo>
                  <a:lnTo>
                    <a:pt x="593" y="1031"/>
                  </a:lnTo>
                  <a:lnTo>
                    <a:pt x="584" y="1040"/>
                  </a:lnTo>
                  <a:lnTo>
                    <a:pt x="584" y="1053"/>
                  </a:lnTo>
                  <a:lnTo>
                    <a:pt x="607" y="1071"/>
                  </a:lnTo>
                  <a:lnTo>
                    <a:pt x="648" y="1088"/>
                  </a:lnTo>
                  <a:lnTo>
                    <a:pt x="684" y="1115"/>
                  </a:lnTo>
                  <a:lnTo>
                    <a:pt x="698" y="1159"/>
                  </a:lnTo>
                  <a:lnTo>
                    <a:pt x="0" y="1159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8"/>
            <p:cNvSpPr/>
            <p:nvPr/>
          </p:nvSpPr>
          <p:spPr>
            <a:xfrm>
              <a:off x="0" y="5172840"/>
              <a:ext cx="882720" cy="168480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1684800"/>
                <a:gd name="textAreaBottom" fmla="*/ 1685160 h 1684800"/>
              </a:gdLst>
              <a:ahLst/>
              <a:rect l="textAreaLeft" t="textAreaTop" r="textAreaRight" b="textAreaBottom"/>
              <a:pathLst>
                <a:path w="556" h="1176">
                  <a:moveTo>
                    <a:pt x="0" y="353"/>
                  </a:moveTo>
                  <a:lnTo>
                    <a:pt x="0" y="1176"/>
                  </a:lnTo>
                  <a:lnTo>
                    <a:pt x="543" y="1176"/>
                  </a:lnTo>
                  <a:lnTo>
                    <a:pt x="534" y="1158"/>
                  </a:lnTo>
                  <a:lnTo>
                    <a:pt x="524" y="1145"/>
                  </a:lnTo>
                  <a:lnTo>
                    <a:pt x="511" y="1127"/>
                  </a:lnTo>
                  <a:lnTo>
                    <a:pt x="497" y="1110"/>
                  </a:lnTo>
                  <a:lnTo>
                    <a:pt x="479" y="1096"/>
                  </a:lnTo>
                  <a:lnTo>
                    <a:pt x="461" y="1079"/>
                  </a:lnTo>
                  <a:lnTo>
                    <a:pt x="433" y="1065"/>
                  </a:lnTo>
                  <a:lnTo>
                    <a:pt x="406" y="1052"/>
                  </a:lnTo>
                  <a:lnTo>
                    <a:pt x="424" y="1034"/>
                  </a:lnTo>
                  <a:lnTo>
                    <a:pt x="461" y="1021"/>
                  </a:lnTo>
                  <a:lnTo>
                    <a:pt x="502" y="1012"/>
                  </a:lnTo>
                  <a:lnTo>
                    <a:pt x="538" y="1008"/>
                  </a:lnTo>
                  <a:lnTo>
                    <a:pt x="534" y="977"/>
                  </a:lnTo>
                  <a:lnTo>
                    <a:pt x="511" y="950"/>
                  </a:lnTo>
                  <a:lnTo>
                    <a:pt x="479" y="937"/>
                  </a:lnTo>
                  <a:lnTo>
                    <a:pt x="424" y="937"/>
                  </a:lnTo>
                  <a:lnTo>
                    <a:pt x="410" y="911"/>
                  </a:lnTo>
                  <a:lnTo>
                    <a:pt x="392" y="893"/>
                  </a:lnTo>
                  <a:lnTo>
                    <a:pt x="365" y="880"/>
                  </a:lnTo>
                  <a:lnTo>
                    <a:pt x="328" y="875"/>
                  </a:lnTo>
                  <a:lnTo>
                    <a:pt x="328" y="858"/>
                  </a:lnTo>
                  <a:lnTo>
                    <a:pt x="342" y="844"/>
                  </a:lnTo>
                  <a:lnTo>
                    <a:pt x="360" y="840"/>
                  </a:lnTo>
                  <a:lnTo>
                    <a:pt x="388" y="835"/>
                  </a:lnTo>
                  <a:lnTo>
                    <a:pt x="420" y="840"/>
                  </a:lnTo>
                  <a:lnTo>
                    <a:pt x="451" y="844"/>
                  </a:lnTo>
                  <a:lnTo>
                    <a:pt x="483" y="849"/>
                  </a:lnTo>
                  <a:lnTo>
                    <a:pt x="515" y="858"/>
                  </a:lnTo>
                  <a:lnTo>
                    <a:pt x="552" y="800"/>
                  </a:lnTo>
                  <a:lnTo>
                    <a:pt x="534" y="769"/>
                  </a:lnTo>
                  <a:lnTo>
                    <a:pt x="515" y="743"/>
                  </a:lnTo>
                  <a:lnTo>
                    <a:pt x="493" y="720"/>
                  </a:lnTo>
                  <a:lnTo>
                    <a:pt x="470" y="703"/>
                  </a:lnTo>
                  <a:lnTo>
                    <a:pt x="438" y="690"/>
                  </a:lnTo>
                  <a:lnTo>
                    <a:pt x="410" y="676"/>
                  </a:lnTo>
                  <a:lnTo>
                    <a:pt x="369" y="667"/>
                  </a:lnTo>
                  <a:lnTo>
                    <a:pt x="328" y="659"/>
                  </a:lnTo>
                  <a:lnTo>
                    <a:pt x="333" y="650"/>
                  </a:lnTo>
                  <a:lnTo>
                    <a:pt x="347" y="645"/>
                  </a:lnTo>
                  <a:lnTo>
                    <a:pt x="369" y="636"/>
                  </a:lnTo>
                  <a:lnTo>
                    <a:pt x="392" y="632"/>
                  </a:lnTo>
                  <a:lnTo>
                    <a:pt x="420" y="628"/>
                  </a:lnTo>
                  <a:lnTo>
                    <a:pt x="438" y="628"/>
                  </a:lnTo>
                  <a:lnTo>
                    <a:pt x="456" y="623"/>
                  </a:lnTo>
                  <a:lnTo>
                    <a:pt x="461" y="623"/>
                  </a:lnTo>
                  <a:lnTo>
                    <a:pt x="470" y="614"/>
                  </a:lnTo>
                  <a:lnTo>
                    <a:pt x="497" y="592"/>
                  </a:lnTo>
                  <a:lnTo>
                    <a:pt x="524" y="566"/>
                  </a:lnTo>
                  <a:lnTo>
                    <a:pt x="543" y="548"/>
                  </a:lnTo>
                  <a:lnTo>
                    <a:pt x="552" y="535"/>
                  </a:lnTo>
                  <a:lnTo>
                    <a:pt x="556" y="521"/>
                  </a:lnTo>
                  <a:lnTo>
                    <a:pt x="556" y="508"/>
                  </a:lnTo>
                  <a:lnTo>
                    <a:pt x="538" y="495"/>
                  </a:lnTo>
                  <a:lnTo>
                    <a:pt x="520" y="482"/>
                  </a:lnTo>
                  <a:lnTo>
                    <a:pt x="511" y="482"/>
                  </a:lnTo>
                  <a:lnTo>
                    <a:pt x="497" y="486"/>
                  </a:lnTo>
                  <a:lnTo>
                    <a:pt x="474" y="495"/>
                  </a:lnTo>
                  <a:lnTo>
                    <a:pt x="461" y="499"/>
                  </a:lnTo>
                  <a:lnTo>
                    <a:pt x="442" y="499"/>
                  </a:lnTo>
                  <a:lnTo>
                    <a:pt x="420" y="504"/>
                  </a:lnTo>
                  <a:lnTo>
                    <a:pt x="401" y="508"/>
                  </a:lnTo>
                  <a:lnTo>
                    <a:pt x="383" y="513"/>
                  </a:lnTo>
                  <a:lnTo>
                    <a:pt x="365" y="513"/>
                  </a:lnTo>
                  <a:lnTo>
                    <a:pt x="347" y="513"/>
                  </a:lnTo>
                  <a:lnTo>
                    <a:pt x="337" y="513"/>
                  </a:lnTo>
                  <a:lnTo>
                    <a:pt x="315" y="504"/>
                  </a:lnTo>
                  <a:lnTo>
                    <a:pt x="292" y="491"/>
                  </a:lnTo>
                  <a:lnTo>
                    <a:pt x="278" y="477"/>
                  </a:lnTo>
                  <a:lnTo>
                    <a:pt x="278" y="460"/>
                  </a:lnTo>
                  <a:lnTo>
                    <a:pt x="287" y="446"/>
                  </a:lnTo>
                  <a:lnTo>
                    <a:pt x="292" y="437"/>
                  </a:lnTo>
                  <a:lnTo>
                    <a:pt x="301" y="433"/>
                  </a:lnTo>
                  <a:lnTo>
                    <a:pt x="319" y="433"/>
                  </a:lnTo>
                  <a:lnTo>
                    <a:pt x="342" y="433"/>
                  </a:lnTo>
                  <a:lnTo>
                    <a:pt x="374" y="420"/>
                  </a:lnTo>
                  <a:lnTo>
                    <a:pt x="401" y="406"/>
                  </a:lnTo>
                  <a:lnTo>
                    <a:pt x="415" y="393"/>
                  </a:lnTo>
                  <a:lnTo>
                    <a:pt x="424" y="371"/>
                  </a:lnTo>
                  <a:lnTo>
                    <a:pt x="438" y="345"/>
                  </a:lnTo>
                  <a:lnTo>
                    <a:pt x="442" y="318"/>
                  </a:lnTo>
                  <a:lnTo>
                    <a:pt x="429" y="309"/>
                  </a:lnTo>
                  <a:lnTo>
                    <a:pt x="415" y="309"/>
                  </a:lnTo>
                  <a:lnTo>
                    <a:pt x="397" y="309"/>
                  </a:lnTo>
                  <a:lnTo>
                    <a:pt x="379" y="309"/>
                  </a:lnTo>
                  <a:lnTo>
                    <a:pt x="356" y="314"/>
                  </a:lnTo>
                  <a:lnTo>
                    <a:pt x="328" y="318"/>
                  </a:lnTo>
                  <a:lnTo>
                    <a:pt x="306" y="322"/>
                  </a:lnTo>
                  <a:lnTo>
                    <a:pt x="278" y="327"/>
                  </a:lnTo>
                  <a:lnTo>
                    <a:pt x="255" y="331"/>
                  </a:lnTo>
                  <a:lnTo>
                    <a:pt x="260" y="305"/>
                  </a:lnTo>
                  <a:lnTo>
                    <a:pt x="269" y="278"/>
                  </a:lnTo>
                  <a:lnTo>
                    <a:pt x="278" y="247"/>
                  </a:lnTo>
                  <a:lnTo>
                    <a:pt x="292" y="225"/>
                  </a:lnTo>
                  <a:lnTo>
                    <a:pt x="306" y="199"/>
                  </a:lnTo>
                  <a:lnTo>
                    <a:pt x="315" y="168"/>
                  </a:lnTo>
                  <a:lnTo>
                    <a:pt x="315" y="141"/>
                  </a:lnTo>
                  <a:lnTo>
                    <a:pt x="310" y="128"/>
                  </a:lnTo>
                  <a:lnTo>
                    <a:pt x="296" y="137"/>
                  </a:lnTo>
                  <a:lnTo>
                    <a:pt x="274" y="163"/>
                  </a:lnTo>
                  <a:lnTo>
                    <a:pt x="251" y="185"/>
                  </a:lnTo>
                  <a:lnTo>
                    <a:pt x="233" y="199"/>
                  </a:lnTo>
                  <a:lnTo>
                    <a:pt x="219" y="185"/>
                  </a:lnTo>
                  <a:lnTo>
                    <a:pt x="205" y="150"/>
                  </a:lnTo>
                  <a:lnTo>
                    <a:pt x="192" y="106"/>
                  </a:lnTo>
                  <a:lnTo>
                    <a:pt x="182" y="75"/>
                  </a:lnTo>
                  <a:lnTo>
                    <a:pt x="173" y="53"/>
                  </a:lnTo>
                  <a:lnTo>
                    <a:pt x="160" y="26"/>
                  </a:lnTo>
                  <a:lnTo>
                    <a:pt x="146" y="8"/>
                  </a:lnTo>
                  <a:lnTo>
                    <a:pt x="132" y="0"/>
                  </a:lnTo>
                  <a:lnTo>
                    <a:pt x="123" y="17"/>
                  </a:lnTo>
                  <a:lnTo>
                    <a:pt x="123" y="66"/>
                  </a:lnTo>
                  <a:lnTo>
                    <a:pt x="128" y="119"/>
                  </a:lnTo>
                  <a:lnTo>
                    <a:pt x="132" y="159"/>
                  </a:lnTo>
                  <a:lnTo>
                    <a:pt x="100" y="154"/>
                  </a:lnTo>
                  <a:lnTo>
                    <a:pt x="78" y="159"/>
                  </a:lnTo>
                  <a:lnTo>
                    <a:pt x="59" y="172"/>
                  </a:lnTo>
                  <a:lnTo>
                    <a:pt x="50" y="190"/>
                  </a:lnTo>
                  <a:lnTo>
                    <a:pt x="50" y="221"/>
                  </a:lnTo>
                  <a:lnTo>
                    <a:pt x="64" y="261"/>
                  </a:lnTo>
                  <a:lnTo>
                    <a:pt x="73" y="296"/>
                  </a:lnTo>
                  <a:lnTo>
                    <a:pt x="78" y="309"/>
                  </a:lnTo>
                  <a:lnTo>
                    <a:pt x="64" y="314"/>
                  </a:lnTo>
                  <a:lnTo>
                    <a:pt x="46" y="327"/>
                  </a:lnTo>
                  <a:lnTo>
                    <a:pt x="23" y="345"/>
                  </a:lnTo>
                  <a:lnTo>
                    <a:pt x="0" y="35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9"/>
            <p:cNvSpPr/>
            <p:nvPr/>
          </p:nvSpPr>
          <p:spPr>
            <a:xfrm>
              <a:off x="2612880" y="5102640"/>
              <a:ext cx="2222640" cy="1755000"/>
            </a:xfrm>
            <a:custGeom>
              <a:avLst/>
              <a:gdLst>
                <a:gd name="textAreaLeft" fmla="*/ 0 w 2222640"/>
                <a:gd name="textAreaRight" fmla="*/ 2223000 w 2222640"/>
                <a:gd name="textAreaTop" fmla="*/ 0 h 1755000"/>
                <a:gd name="textAreaBottom" fmla="*/ 1755360 h 1755000"/>
              </a:gdLst>
              <a:ahLst/>
              <a:rect l="textAreaLeft" t="textAreaTop" r="textAreaRight" b="textAreaBottom"/>
              <a:pathLst>
                <a:path w="1400" h="1225">
                  <a:moveTo>
                    <a:pt x="0" y="1225"/>
                  </a:moveTo>
                  <a:lnTo>
                    <a:pt x="0" y="1207"/>
                  </a:lnTo>
                  <a:lnTo>
                    <a:pt x="5" y="1163"/>
                  </a:lnTo>
                  <a:lnTo>
                    <a:pt x="14" y="1123"/>
                  </a:lnTo>
                  <a:lnTo>
                    <a:pt x="37" y="1101"/>
                  </a:lnTo>
                  <a:lnTo>
                    <a:pt x="69" y="1101"/>
                  </a:lnTo>
                  <a:lnTo>
                    <a:pt x="101" y="1101"/>
                  </a:lnTo>
                  <a:lnTo>
                    <a:pt x="133" y="1097"/>
                  </a:lnTo>
                  <a:lnTo>
                    <a:pt x="151" y="1088"/>
                  </a:lnTo>
                  <a:lnTo>
                    <a:pt x="174" y="1066"/>
                  </a:lnTo>
                  <a:lnTo>
                    <a:pt x="201" y="1035"/>
                  </a:lnTo>
                  <a:lnTo>
                    <a:pt x="224" y="1004"/>
                  </a:lnTo>
                  <a:lnTo>
                    <a:pt x="233" y="982"/>
                  </a:lnTo>
                  <a:lnTo>
                    <a:pt x="206" y="995"/>
                  </a:lnTo>
                  <a:lnTo>
                    <a:pt x="178" y="1008"/>
                  </a:lnTo>
                  <a:lnTo>
                    <a:pt x="146" y="1022"/>
                  </a:lnTo>
                  <a:lnTo>
                    <a:pt x="124" y="1026"/>
                  </a:lnTo>
                  <a:lnTo>
                    <a:pt x="101" y="1022"/>
                  </a:lnTo>
                  <a:lnTo>
                    <a:pt x="82" y="1004"/>
                  </a:lnTo>
                  <a:lnTo>
                    <a:pt x="73" y="991"/>
                  </a:lnTo>
                  <a:lnTo>
                    <a:pt x="78" y="973"/>
                  </a:lnTo>
                  <a:lnTo>
                    <a:pt x="101" y="960"/>
                  </a:lnTo>
                  <a:lnTo>
                    <a:pt x="128" y="942"/>
                  </a:lnTo>
                  <a:lnTo>
                    <a:pt x="151" y="924"/>
                  </a:lnTo>
                  <a:lnTo>
                    <a:pt x="160" y="911"/>
                  </a:lnTo>
                  <a:lnTo>
                    <a:pt x="169" y="898"/>
                  </a:lnTo>
                  <a:lnTo>
                    <a:pt x="183" y="880"/>
                  </a:lnTo>
                  <a:lnTo>
                    <a:pt x="206" y="854"/>
                  </a:lnTo>
                  <a:lnTo>
                    <a:pt x="228" y="823"/>
                  </a:lnTo>
                  <a:lnTo>
                    <a:pt x="256" y="792"/>
                  </a:lnTo>
                  <a:lnTo>
                    <a:pt x="274" y="765"/>
                  </a:lnTo>
                  <a:lnTo>
                    <a:pt x="292" y="747"/>
                  </a:lnTo>
                  <a:lnTo>
                    <a:pt x="297" y="734"/>
                  </a:lnTo>
                  <a:lnTo>
                    <a:pt x="269" y="734"/>
                  </a:lnTo>
                  <a:lnTo>
                    <a:pt x="233" y="734"/>
                  </a:lnTo>
                  <a:lnTo>
                    <a:pt x="196" y="739"/>
                  </a:lnTo>
                  <a:lnTo>
                    <a:pt x="169" y="747"/>
                  </a:lnTo>
                  <a:lnTo>
                    <a:pt x="187" y="716"/>
                  </a:lnTo>
                  <a:lnTo>
                    <a:pt x="224" y="681"/>
                  </a:lnTo>
                  <a:lnTo>
                    <a:pt x="256" y="655"/>
                  </a:lnTo>
                  <a:lnTo>
                    <a:pt x="274" y="637"/>
                  </a:lnTo>
                  <a:lnTo>
                    <a:pt x="279" y="628"/>
                  </a:lnTo>
                  <a:lnTo>
                    <a:pt x="279" y="606"/>
                  </a:lnTo>
                  <a:lnTo>
                    <a:pt x="279" y="588"/>
                  </a:lnTo>
                  <a:lnTo>
                    <a:pt x="279" y="579"/>
                  </a:lnTo>
                  <a:lnTo>
                    <a:pt x="292" y="575"/>
                  </a:lnTo>
                  <a:lnTo>
                    <a:pt x="329" y="566"/>
                  </a:lnTo>
                  <a:lnTo>
                    <a:pt x="361" y="557"/>
                  </a:lnTo>
                  <a:lnTo>
                    <a:pt x="370" y="544"/>
                  </a:lnTo>
                  <a:lnTo>
                    <a:pt x="356" y="509"/>
                  </a:lnTo>
                  <a:lnTo>
                    <a:pt x="342" y="442"/>
                  </a:lnTo>
                  <a:lnTo>
                    <a:pt x="342" y="376"/>
                  </a:lnTo>
                  <a:lnTo>
                    <a:pt x="365" y="349"/>
                  </a:lnTo>
                  <a:lnTo>
                    <a:pt x="397" y="371"/>
                  </a:lnTo>
                  <a:lnTo>
                    <a:pt x="415" y="425"/>
                  </a:lnTo>
                  <a:lnTo>
                    <a:pt x="424" y="482"/>
                  </a:lnTo>
                  <a:lnTo>
                    <a:pt x="424" y="504"/>
                  </a:lnTo>
                  <a:lnTo>
                    <a:pt x="452" y="513"/>
                  </a:lnTo>
                  <a:lnTo>
                    <a:pt x="488" y="531"/>
                  </a:lnTo>
                  <a:lnTo>
                    <a:pt x="516" y="548"/>
                  </a:lnTo>
                  <a:lnTo>
                    <a:pt x="525" y="562"/>
                  </a:lnTo>
                  <a:lnTo>
                    <a:pt x="539" y="588"/>
                  </a:lnTo>
                  <a:lnTo>
                    <a:pt x="557" y="619"/>
                  </a:lnTo>
                  <a:lnTo>
                    <a:pt x="570" y="650"/>
                  </a:lnTo>
                  <a:lnTo>
                    <a:pt x="566" y="663"/>
                  </a:lnTo>
                  <a:lnTo>
                    <a:pt x="543" y="663"/>
                  </a:lnTo>
                  <a:lnTo>
                    <a:pt x="520" y="659"/>
                  </a:lnTo>
                  <a:lnTo>
                    <a:pt x="497" y="659"/>
                  </a:lnTo>
                  <a:lnTo>
                    <a:pt x="484" y="663"/>
                  </a:lnTo>
                  <a:lnTo>
                    <a:pt x="475" y="677"/>
                  </a:lnTo>
                  <a:lnTo>
                    <a:pt x="470" y="694"/>
                  </a:lnTo>
                  <a:lnTo>
                    <a:pt x="470" y="716"/>
                  </a:lnTo>
                  <a:lnTo>
                    <a:pt x="475" y="734"/>
                  </a:lnTo>
                  <a:lnTo>
                    <a:pt x="493" y="765"/>
                  </a:lnTo>
                  <a:lnTo>
                    <a:pt x="520" y="809"/>
                  </a:lnTo>
                  <a:lnTo>
                    <a:pt x="543" y="849"/>
                  </a:lnTo>
                  <a:lnTo>
                    <a:pt x="561" y="876"/>
                  </a:lnTo>
                  <a:lnTo>
                    <a:pt x="580" y="898"/>
                  </a:lnTo>
                  <a:lnTo>
                    <a:pt x="607" y="933"/>
                  </a:lnTo>
                  <a:lnTo>
                    <a:pt x="625" y="964"/>
                  </a:lnTo>
                  <a:lnTo>
                    <a:pt x="611" y="977"/>
                  </a:lnTo>
                  <a:lnTo>
                    <a:pt x="593" y="977"/>
                  </a:lnTo>
                  <a:lnTo>
                    <a:pt x="575" y="977"/>
                  </a:lnTo>
                  <a:lnTo>
                    <a:pt x="552" y="973"/>
                  </a:lnTo>
                  <a:lnTo>
                    <a:pt x="534" y="973"/>
                  </a:lnTo>
                  <a:lnTo>
                    <a:pt x="511" y="973"/>
                  </a:lnTo>
                  <a:lnTo>
                    <a:pt x="493" y="977"/>
                  </a:lnTo>
                  <a:lnTo>
                    <a:pt x="475" y="977"/>
                  </a:lnTo>
                  <a:lnTo>
                    <a:pt x="466" y="986"/>
                  </a:lnTo>
                  <a:lnTo>
                    <a:pt x="461" y="1004"/>
                  </a:lnTo>
                  <a:lnTo>
                    <a:pt x="466" y="1017"/>
                  </a:lnTo>
                  <a:lnTo>
                    <a:pt x="475" y="1030"/>
                  </a:lnTo>
                  <a:lnTo>
                    <a:pt x="493" y="1039"/>
                  </a:lnTo>
                  <a:lnTo>
                    <a:pt x="511" y="1044"/>
                  </a:lnTo>
                  <a:lnTo>
                    <a:pt x="534" y="1057"/>
                  </a:lnTo>
                  <a:lnTo>
                    <a:pt x="552" y="1070"/>
                  </a:lnTo>
                  <a:lnTo>
                    <a:pt x="561" y="1083"/>
                  </a:lnTo>
                  <a:lnTo>
                    <a:pt x="557" y="1101"/>
                  </a:lnTo>
                  <a:lnTo>
                    <a:pt x="548" y="1119"/>
                  </a:lnTo>
                  <a:lnTo>
                    <a:pt x="539" y="1137"/>
                  </a:lnTo>
                  <a:lnTo>
                    <a:pt x="548" y="1150"/>
                  </a:lnTo>
                  <a:lnTo>
                    <a:pt x="561" y="1154"/>
                  </a:lnTo>
                  <a:lnTo>
                    <a:pt x="580" y="1159"/>
                  </a:lnTo>
                  <a:lnTo>
                    <a:pt x="598" y="1159"/>
                  </a:lnTo>
                  <a:lnTo>
                    <a:pt x="621" y="1163"/>
                  </a:lnTo>
                  <a:lnTo>
                    <a:pt x="639" y="1168"/>
                  </a:lnTo>
                  <a:lnTo>
                    <a:pt x="657" y="1168"/>
                  </a:lnTo>
                  <a:lnTo>
                    <a:pt x="675" y="1168"/>
                  </a:lnTo>
                  <a:lnTo>
                    <a:pt x="684" y="1168"/>
                  </a:lnTo>
                  <a:lnTo>
                    <a:pt x="703" y="1163"/>
                  </a:lnTo>
                  <a:lnTo>
                    <a:pt x="721" y="1145"/>
                  </a:lnTo>
                  <a:lnTo>
                    <a:pt x="739" y="1128"/>
                  </a:lnTo>
                  <a:lnTo>
                    <a:pt x="744" y="1106"/>
                  </a:lnTo>
                  <a:lnTo>
                    <a:pt x="739" y="1088"/>
                  </a:lnTo>
                  <a:lnTo>
                    <a:pt x="725" y="1075"/>
                  </a:lnTo>
                  <a:lnTo>
                    <a:pt x="712" y="1061"/>
                  </a:lnTo>
                  <a:lnTo>
                    <a:pt x="694" y="1057"/>
                  </a:lnTo>
                  <a:lnTo>
                    <a:pt x="689" y="1048"/>
                  </a:lnTo>
                  <a:lnTo>
                    <a:pt x="703" y="1026"/>
                  </a:lnTo>
                  <a:lnTo>
                    <a:pt x="725" y="1004"/>
                  </a:lnTo>
                  <a:lnTo>
                    <a:pt x="753" y="995"/>
                  </a:lnTo>
                  <a:lnTo>
                    <a:pt x="780" y="991"/>
                  </a:lnTo>
                  <a:lnTo>
                    <a:pt x="808" y="977"/>
                  </a:lnTo>
                  <a:lnTo>
                    <a:pt x="817" y="960"/>
                  </a:lnTo>
                  <a:lnTo>
                    <a:pt x="803" y="946"/>
                  </a:lnTo>
                  <a:lnTo>
                    <a:pt x="776" y="938"/>
                  </a:lnTo>
                  <a:lnTo>
                    <a:pt x="757" y="933"/>
                  </a:lnTo>
                  <a:lnTo>
                    <a:pt x="739" y="929"/>
                  </a:lnTo>
                  <a:lnTo>
                    <a:pt x="725" y="920"/>
                  </a:lnTo>
                  <a:lnTo>
                    <a:pt x="712" y="902"/>
                  </a:lnTo>
                  <a:lnTo>
                    <a:pt x="698" y="880"/>
                  </a:lnTo>
                  <a:lnTo>
                    <a:pt x="694" y="858"/>
                  </a:lnTo>
                  <a:lnTo>
                    <a:pt x="707" y="845"/>
                  </a:lnTo>
                  <a:lnTo>
                    <a:pt x="725" y="840"/>
                  </a:lnTo>
                  <a:lnTo>
                    <a:pt x="748" y="831"/>
                  </a:lnTo>
                  <a:lnTo>
                    <a:pt x="771" y="823"/>
                  </a:lnTo>
                  <a:lnTo>
                    <a:pt x="798" y="809"/>
                  </a:lnTo>
                  <a:lnTo>
                    <a:pt x="821" y="792"/>
                  </a:lnTo>
                  <a:lnTo>
                    <a:pt x="844" y="769"/>
                  </a:lnTo>
                  <a:lnTo>
                    <a:pt x="862" y="747"/>
                  </a:lnTo>
                  <a:lnTo>
                    <a:pt x="871" y="716"/>
                  </a:lnTo>
                  <a:lnTo>
                    <a:pt x="844" y="712"/>
                  </a:lnTo>
                  <a:lnTo>
                    <a:pt x="826" y="708"/>
                  </a:lnTo>
                  <a:lnTo>
                    <a:pt x="808" y="699"/>
                  </a:lnTo>
                  <a:lnTo>
                    <a:pt x="794" y="690"/>
                  </a:lnTo>
                  <a:lnTo>
                    <a:pt x="780" y="681"/>
                  </a:lnTo>
                  <a:lnTo>
                    <a:pt x="771" y="668"/>
                  </a:lnTo>
                  <a:lnTo>
                    <a:pt x="753" y="655"/>
                  </a:lnTo>
                  <a:lnTo>
                    <a:pt x="735" y="637"/>
                  </a:lnTo>
                  <a:lnTo>
                    <a:pt x="712" y="632"/>
                  </a:lnTo>
                  <a:lnTo>
                    <a:pt x="689" y="632"/>
                  </a:lnTo>
                  <a:lnTo>
                    <a:pt x="675" y="624"/>
                  </a:lnTo>
                  <a:lnTo>
                    <a:pt x="671" y="610"/>
                  </a:lnTo>
                  <a:lnTo>
                    <a:pt x="671" y="593"/>
                  </a:lnTo>
                  <a:lnTo>
                    <a:pt x="671" y="584"/>
                  </a:lnTo>
                  <a:lnTo>
                    <a:pt x="680" y="575"/>
                  </a:lnTo>
                  <a:lnTo>
                    <a:pt x="694" y="570"/>
                  </a:lnTo>
                  <a:lnTo>
                    <a:pt x="712" y="566"/>
                  </a:lnTo>
                  <a:lnTo>
                    <a:pt x="735" y="553"/>
                  </a:lnTo>
                  <a:lnTo>
                    <a:pt x="767" y="540"/>
                  </a:lnTo>
                  <a:lnTo>
                    <a:pt x="798" y="517"/>
                  </a:lnTo>
                  <a:lnTo>
                    <a:pt x="830" y="500"/>
                  </a:lnTo>
                  <a:lnTo>
                    <a:pt x="862" y="486"/>
                  </a:lnTo>
                  <a:lnTo>
                    <a:pt x="890" y="473"/>
                  </a:lnTo>
                  <a:lnTo>
                    <a:pt x="908" y="473"/>
                  </a:lnTo>
                  <a:lnTo>
                    <a:pt x="908" y="460"/>
                  </a:lnTo>
                  <a:lnTo>
                    <a:pt x="908" y="447"/>
                  </a:lnTo>
                  <a:lnTo>
                    <a:pt x="903" y="429"/>
                  </a:lnTo>
                  <a:lnTo>
                    <a:pt x="903" y="425"/>
                  </a:lnTo>
                  <a:lnTo>
                    <a:pt x="871" y="425"/>
                  </a:lnTo>
                  <a:lnTo>
                    <a:pt x="849" y="429"/>
                  </a:lnTo>
                  <a:lnTo>
                    <a:pt x="830" y="425"/>
                  </a:lnTo>
                  <a:lnTo>
                    <a:pt x="821" y="420"/>
                  </a:lnTo>
                  <a:lnTo>
                    <a:pt x="835" y="398"/>
                  </a:lnTo>
                  <a:lnTo>
                    <a:pt x="876" y="367"/>
                  </a:lnTo>
                  <a:lnTo>
                    <a:pt x="917" y="341"/>
                  </a:lnTo>
                  <a:lnTo>
                    <a:pt x="949" y="323"/>
                  </a:lnTo>
                  <a:lnTo>
                    <a:pt x="963" y="314"/>
                  </a:lnTo>
                  <a:lnTo>
                    <a:pt x="963" y="292"/>
                  </a:lnTo>
                  <a:lnTo>
                    <a:pt x="963" y="274"/>
                  </a:lnTo>
                  <a:lnTo>
                    <a:pt x="963" y="265"/>
                  </a:lnTo>
                  <a:lnTo>
                    <a:pt x="954" y="261"/>
                  </a:lnTo>
                  <a:lnTo>
                    <a:pt x="940" y="256"/>
                  </a:lnTo>
                  <a:lnTo>
                    <a:pt x="922" y="243"/>
                  </a:lnTo>
                  <a:lnTo>
                    <a:pt x="912" y="234"/>
                  </a:lnTo>
                  <a:lnTo>
                    <a:pt x="917" y="221"/>
                  </a:lnTo>
                  <a:lnTo>
                    <a:pt x="931" y="208"/>
                  </a:lnTo>
                  <a:lnTo>
                    <a:pt x="949" y="195"/>
                  </a:lnTo>
                  <a:lnTo>
                    <a:pt x="967" y="186"/>
                  </a:lnTo>
                  <a:lnTo>
                    <a:pt x="963" y="141"/>
                  </a:lnTo>
                  <a:lnTo>
                    <a:pt x="963" y="80"/>
                  </a:lnTo>
                  <a:lnTo>
                    <a:pt x="967" y="27"/>
                  </a:lnTo>
                  <a:lnTo>
                    <a:pt x="981" y="0"/>
                  </a:lnTo>
                  <a:lnTo>
                    <a:pt x="1004" y="27"/>
                  </a:lnTo>
                  <a:lnTo>
                    <a:pt x="1022" y="80"/>
                  </a:lnTo>
                  <a:lnTo>
                    <a:pt x="1031" y="137"/>
                  </a:lnTo>
                  <a:lnTo>
                    <a:pt x="1036" y="164"/>
                  </a:lnTo>
                  <a:lnTo>
                    <a:pt x="1049" y="159"/>
                  </a:lnTo>
                  <a:lnTo>
                    <a:pt x="1086" y="146"/>
                  </a:lnTo>
                  <a:lnTo>
                    <a:pt x="1122" y="137"/>
                  </a:lnTo>
                  <a:lnTo>
                    <a:pt x="1141" y="137"/>
                  </a:lnTo>
                  <a:lnTo>
                    <a:pt x="1145" y="146"/>
                  </a:lnTo>
                  <a:lnTo>
                    <a:pt x="1150" y="168"/>
                  </a:lnTo>
                  <a:lnTo>
                    <a:pt x="1150" y="190"/>
                  </a:lnTo>
                  <a:lnTo>
                    <a:pt x="1136" y="203"/>
                  </a:lnTo>
                  <a:lnTo>
                    <a:pt x="1113" y="217"/>
                  </a:lnTo>
                  <a:lnTo>
                    <a:pt x="1090" y="230"/>
                  </a:lnTo>
                  <a:lnTo>
                    <a:pt x="1068" y="243"/>
                  </a:lnTo>
                  <a:lnTo>
                    <a:pt x="1058" y="261"/>
                  </a:lnTo>
                  <a:lnTo>
                    <a:pt x="1058" y="279"/>
                  </a:lnTo>
                  <a:lnTo>
                    <a:pt x="1058" y="301"/>
                  </a:lnTo>
                  <a:lnTo>
                    <a:pt x="1068" y="318"/>
                  </a:lnTo>
                  <a:lnTo>
                    <a:pt x="1086" y="323"/>
                  </a:lnTo>
                  <a:lnTo>
                    <a:pt x="1113" y="323"/>
                  </a:lnTo>
                  <a:lnTo>
                    <a:pt x="1150" y="323"/>
                  </a:lnTo>
                  <a:lnTo>
                    <a:pt x="1182" y="323"/>
                  </a:lnTo>
                  <a:lnTo>
                    <a:pt x="1204" y="332"/>
                  </a:lnTo>
                  <a:lnTo>
                    <a:pt x="1218" y="345"/>
                  </a:lnTo>
                  <a:lnTo>
                    <a:pt x="1227" y="367"/>
                  </a:lnTo>
                  <a:lnTo>
                    <a:pt x="1232" y="389"/>
                  </a:lnTo>
                  <a:lnTo>
                    <a:pt x="1236" y="402"/>
                  </a:lnTo>
                  <a:lnTo>
                    <a:pt x="1200" y="407"/>
                  </a:lnTo>
                  <a:lnTo>
                    <a:pt x="1168" y="411"/>
                  </a:lnTo>
                  <a:lnTo>
                    <a:pt x="1136" y="416"/>
                  </a:lnTo>
                  <a:lnTo>
                    <a:pt x="1109" y="411"/>
                  </a:lnTo>
                  <a:lnTo>
                    <a:pt x="1086" y="411"/>
                  </a:lnTo>
                  <a:lnTo>
                    <a:pt x="1072" y="416"/>
                  </a:lnTo>
                  <a:lnTo>
                    <a:pt x="1063" y="425"/>
                  </a:lnTo>
                  <a:lnTo>
                    <a:pt x="1072" y="447"/>
                  </a:lnTo>
                  <a:lnTo>
                    <a:pt x="1086" y="473"/>
                  </a:lnTo>
                  <a:lnTo>
                    <a:pt x="1090" y="495"/>
                  </a:lnTo>
                  <a:lnTo>
                    <a:pt x="1095" y="513"/>
                  </a:lnTo>
                  <a:lnTo>
                    <a:pt x="1104" y="517"/>
                  </a:lnTo>
                  <a:lnTo>
                    <a:pt x="1118" y="517"/>
                  </a:lnTo>
                  <a:lnTo>
                    <a:pt x="1141" y="522"/>
                  </a:lnTo>
                  <a:lnTo>
                    <a:pt x="1168" y="526"/>
                  </a:lnTo>
                  <a:lnTo>
                    <a:pt x="1204" y="535"/>
                  </a:lnTo>
                  <a:lnTo>
                    <a:pt x="1241" y="548"/>
                  </a:lnTo>
                  <a:lnTo>
                    <a:pt x="1286" y="566"/>
                  </a:lnTo>
                  <a:lnTo>
                    <a:pt x="1327" y="588"/>
                  </a:lnTo>
                  <a:lnTo>
                    <a:pt x="1369" y="615"/>
                  </a:lnTo>
                  <a:lnTo>
                    <a:pt x="1346" y="624"/>
                  </a:lnTo>
                  <a:lnTo>
                    <a:pt x="1318" y="628"/>
                  </a:lnTo>
                  <a:lnTo>
                    <a:pt x="1286" y="628"/>
                  </a:lnTo>
                  <a:lnTo>
                    <a:pt x="1255" y="628"/>
                  </a:lnTo>
                  <a:lnTo>
                    <a:pt x="1227" y="628"/>
                  </a:lnTo>
                  <a:lnTo>
                    <a:pt x="1200" y="632"/>
                  </a:lnTo>
                  <a:lnTo>
                    <a:pt x="1182" y="637"/>
                  </a:lnTo>
                  <a:lnTo>
                    <a:pt x="1172" y="646"/>
                  </a:lnTo>
                  <a:lnTo>
                    <a:pt x="1159" y="668"/>
                  </a:lnTo>
                  <a:lnTo>
                    <a:pt x="1136" y="699"/>
                  </a:lnTo>
                  <a:lnTo>
                    <a:pt x="1113" y="721"/>
                  </a:lnTo>
                  <a:lnTo>
                    <a:pt x="1104" y="730"/>
                  </a:lnTo>
                  <a:lnTo>
                    <a:pt x="1122" y="734"/>
                  </a:lnTo>
                  <a:lnTo>
                    <a:pt x="1141" y="743"/>
                  </a:lnTo>
                  <a:lnTo>
                    <a:pt x="1163" y="752"/>
                  </a:lnTo>
                  <a:lnTo>
                    <a:pt x="1186" y="761"/>
                  </a:lnTo>
                  <a:lnTo>
                    <a:pt x="1204" y="769"/>
                  </a:lnTo>
                  <a:lnTo>
                    <a:pt x="1223" y="778"/>
                  </a:lnTo>
                  <a:lnTo>
                    <a:pt x="1241" y="787"/>
                  </a:lnTo>
                  <a:lnTo>
                    <a:pt x="1255" y="792"/>
                  </a:lnTo>
                  <a:lnTo>
                    <a:pt x="1273" y="796"/>
                  </a:lnTo>
                  <a:lnTo>
                    <a:pt x="1291" y="800"/>
                  </a:lnTo>
                  <a:lnTo>
                    <a:pt x="1314" y="805"/>
                  </a:lnTo>
                  <a:lnTo>
                    <a:pt x="1341" y="809"/>
                  </a:lnTo>
                  <a:lnTo>
                    <a:pt x="1359" y="814"/>
                  </a:lnTo>
                  <a:lnTo>
                    <a:pt x="1378" y="823"/>
                  </a:lnTo>
                  <a:lnTo>
                    <a:pt x="1391" y="827"/>
                  </a:lnTo>
                  <a:lnTo>
                    <a:pt x="1396" y="836"/>
                  </a:lnTo>
                  <a:lnTo>
                    <a:pt x="1400" y="862"/>
                  </a:lnTo>
                  <a:lnTo>
                    <a:pt x="1400" y="893"/>
                  </a:lnTo>
                  <a:lnTo>
                    <a:pt x="1396" y="924"/>
                  </a:lnTo>
                  <a:lnTo>
                    <a:pt x="1382" y="933"/>
                  </a:lnTo>
                  <a:lnTo>
                    <a:pt x="1359" y="929"/>
                  </a:lnTo>
                  <a:lnTo>
                    <a:pt x="1332" y="924"/>
                  </a:lnTo>
                  <a:lnTo>
                    <a:pt x="1305" y="920"/>
                  </a:lnTo>
                  <a:lnTo>
                    <a:pt x="1268" y="920"/>
                  </a:lnTo>
                  <a:lnTo>
                    <a:pt x="1236" y="933"/>
                  </a:lnTo>
                  <a:lnTo>
                    <a:pt x="1209" y="964"/>
                  </a:lnTo>
                  <a:lnTo>
                    <a:pt x="1195" y="995"/>
                  </a:lnTo>
                  <a:lnTo>
                    <a:pt x="1191" y="1013"/>
                  </a:lnTo>
                  <a:lnTo>
                    <a:pt x="1195" y="1022"/>
                  </a:lnTo>
                  <a:lnTo>
                    <a:pt x="1204" y="1039"/>
                  </a:lnTo>
                  <a:lnTo>
                    <a:pt x="1218" y="1057"/>
                  </a:lnTo>
                  <a:lnTo>
                    <a:pt x="1236" y="1066"/>
                  </a:lnTo>
                  <a:lnTo>
                    <a:pt x="1250" y="1070"/>
                  </a:lnTo>
                  <a:lnTo>
                    <a:pt x="1264" y="1079"/>
                  </a:lnTo>
                  <a:lnTo>
                    <a:pt x="1268" y="1088"/>
                  </a:lnTo>
                  <a:lnTo>
                    <a:pt x="1273" y="1092"/>
                  </a:lnTo>
                  <a:lnTo>
                    <a:pt x="1391" y="1168"/>
                  </a:lnTo>
                  <a:lnTo>
                    <a:pt x="1259" y="1225"/>
                  </a:lnTo>
                  <a:lnTo>
                    <a:pt x="0" y="1225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0"/>
            <p:cNvSpPr/>
            <p:nvPr/>
          </p:nvSpPr>
          <p:spPr>
            <a:xfrm>
              <a:off x="5270400" y="5014080"/>
              <a:ext cx="1427400" cy="1843560"/>
            </a:xfrm>
            <a:custGeom>
              <a:avLst/>
              <a:gdLst>
                <a:gd name="textAreaLeft" fmla="*/ 0 w 1427400"/>
                <a:gd name="textAreaRight" fmla="*/ 1427760 w 1427400"/>
                <a:gd name="textAreaTop" fmla="*/ 0 h 1843560"/>
                <a:gd name="textAreaBottom" fmla="*/ 1843920 h 1843560"/>
              </a:gdLst>
              <a:ahLst/>
              <a:rect l="textAreaLeft" t="textAreaTop" r="textAreaRight" b="textAreaBottom"/>
              <a:pathLst>
                <a:path w="899" h="1287">
                  <a:moveTo>
                    <a:pt x="73" y="1287"/>
                  </a:moveTo>
                  <a:lnTo>
                    <a:pt x="64" y="1274"/>
                  </a:lnTo>
                  <a:lnTo>
                    <a:pt x="41" y="1247"/>
                  </a:lnTo>
                  <a:lnTo>
                    <a:pt x="18" y="1216"/>
                  </a:lnTo>
                  <a:lnTo>
                    <a:pt x="0" y="1190"/>
                  </a:lnTo>
                  <a:lnTo>
                    <a:pt x="0" y="1185"/>
                  </a:lnTo>
                  <a:lnTo>
                    <a:pt x="9" y="1181"/>
                  </a:lnTo>
                  <a:lnTo>
                    <a:pt x="32" y="1185"/>
                  </a:lnTo>
                  <a:lnTo>
                    <a:pt x="55" y="1190"/>
                  </a:lnTo>
                  <a:lnTo>
                    <a:pt x="82" y="1194"/>
                  </a:lnTo>
                  <a:lnTo>
                    <a:pt x="105" y="1199"/>
                  </a:lnTo>
                  <a:lnTo>
                    <a:pt x="128" y="1203"/>
                  </a:lnTo>
                  <a:lnTo>
                    <a:pt x="141" y="1203"/>
                  </a:lnTo>
                  <a:lnTo>
                    <a:pt x="169" y="1203"/>
                  </a:lnTo>
                  <a:lnTo>
                    <a:pt x="196" y="1199"/>
                  </a:lnTo>
                  <a:lnTo>
                    <a:pt x="219" y="1190"/>
                  </a:lnTo>
                  <a:lnTo>
                    <a:pt x="228" y="1176"/>
                  </a:lnTo>
                  <a:lnTo>
                    <a:pt x="224" y="1163"/>
                  </a:lnTo>
                  <a:lnTo>
                    <a:pt x="210" y="1154"/>
                  </a:lnTo>
                  <a:lnTo>
                    <a:pt x="192" y="1150"/>
                  </a:lnTo>
                  <a:lnTo>
                    <a:pt x="169" y="1141"/>
                  </a:lnTo>
                  <a:lnTo>
                    <a:pt x="151" y="1132"/>
                  </a:lnTo>
                  <a:lnTo>
                    <a:pt x="128" y="1115"/>
                  </a:lnTo>
                  <a:lnTo>
                    <a:pt x="105" y="1088"/>
                  </a:lnTo>
                  <a:lnTo>
                    <a:pt x="78" y="1061"/>
                  </a:lnTo>
                  <a:lnTo>
                    <a:pt x="55" y="1039"/>
                  </a:lnTo>
                  <a:lnTo>
                    <a:pt x="37" y="1017"/>
                  </a:lnTo>
                  <a:lnTo>
                    <a:pt x="27" y="1000"/>
                  </a:lnTo>
                  <a:lnTo>
                    <a:pt x="32" y="995"/>
                  </a:lnTo>
                  <a:lnTo>
                    <a:pt x="64" y="1000"/>
                  </a:lnTo>
                  <a:lnTo>
                    <a:pt x="100" y="1008"/>
                  </a:lnTo>
                  <a:lnTo>
                    <a:pt x="137" y="1022"/>
                  </a:lnTo>
                  <a:lnTo>
                    <a:pt x="164" y="1035"/>
                  </a:lnTo>
                  <a:lnTo>
                    <a:pt x="192" y="1044"/>
                  </a:lnTo>
                  <a:lnTo>
                    <a:pt x="228" y="1048"/>
                  </a:lnTo>
                  <a:lnTo>
                    <a:pt x="255" y="1048"/>
                  </a:lnTo>
                  <a:lnTo>
                    <a:pt x="278" y="1044"/>
                  </a:lnTo>
                  <a:lnTo>
                    <a:pt x="297" y="1035"/>
                  </a:lnTo>
                  <a:lnTo>
                    <a:pt x="319" y="1017"/>
                  </a:lnTo>
                  <a:lnTo>
                    <a:pt x="333" y="1004"/>
                  </a:lnTo>
                  <a:lnTo>
                    <a:pt x="333" y="995"/>
                  </a:lnTo>
                  <a:lnTo>
                    <a:pt x="297" y="1004"/>
                  </a:lnTo>
                  <a:lnTo>
                    <a:pt x="255" y="1004"/>
                  </a:lnTo>
                  <a:lnTo>
                    <a:pt x="219" y="1004"/>
                  </a:lnTo>
                  <a:lnTo>
                    <a:pt x="183" y="995"/>
                  </a:lnTo>
                  <a:lnTo>
                    <a:pt x="146" y="982"/>
                  </a:lnTo>
                  <a:lnTo>
                    <a:pt x="110" y="955"/>
                  </a:lnTo>
                  <a:lnTo>
                    <a:pt x="82" y="924"/>
                  </a:lnTo>
                  <a:lnTo>
                    <a:pt x="59" y="885"/>
                  </a:lnTo>
                  <a:lnTo>
                    <a:pt x="50" y="862"/>
                  </a:lnTo>
                  <a:lnTo>
                    <a:pt x="50" y="831"/>
                  </a:lnTo>
                  <a:lnTo>
                    <a:pt x="55" y="809"/>
                  </a:lnTo>
                  <a:lnTo>
                    <a:pt x="64" y="796"/>
                  </a:lnTo>
                  <a:lnTo>
                    <a:pt x="78" y="801"/>
                  </a:lnTo>
                  <a:lnTo>
                    <a:pt x="96" y="814"/>
                  </a:lnTo>
                  <a:lnTo>
                    <a:pt x="105" y="827"/>
                  </a:lnTo>
                  <a:lnTo>
                    <a:pt x="110" y="831"/>
                  </a:lnTo>
                  <a:lnTo>
                    <a:pt x="110" y="823"/>
                  </a:lnTo>
                  <a:lnTo>
                    <a:pt x="114" y="809"/>
                  </a:lnTo>
                  <a:lnTo>
                    <a:pt x="123" y="796"/>
                  </a:lnTo>
                  <a:lnTo>
                    <a:pt x="132" y="787"/>
                  </a:lnTo>
                  <a:lnTo>
                    <a:pt x="146" y="792"/>
                  </a:lnTo>
                  <a:lnTo>
                    <a:pt x="164" y="801"/>
                  </a:lnTo>
                  <a:lnTo>
                    <a:pt x="196" y="814"/>
                  </a:lnTo>
                  <a:lnTo>
                    <a:pt x="233" y="827"/>
                  </a:lnTo>
                  <a:lnTo>
                    <a:pt x="274" y="840"/>
                  </a:lnTo>
                  <a:lnTo>
                    <a:pt x="315" y="845"/>
                  </a:lnTo>
                  <a:lnTo>
                    <a:pt x="351" y="845"/>
                  </a:lnTo>
                  <a:lnTo>
                    <a:pt x="383" y="836"/>
                  </a:lnTo>
                  <a:lnTo>
                    <a:pt x="356" y="831"/>
                  </a:lnTo>
                  <a:lnTo>
                    <a:pt x="324" y="823"/>
                  </a:lnTo>
                  <a:lnTo>
                    <a:pt x="292" y="809"/>
                  </a:lnTo>
                  <a:lnTo>
                    <a:pt x="260" y="796"/>
                  </a:lnTo>
                  <a:lnTo>
                    <a:pt x="228" y="778"/>
                  </a:lnTo>
                  <a:lnTo>
                    <a:pt x="210" y="761"/>
                  </a:lnTo>
                  <a:lnTo>
                    <a:pt x="196" y="739"/>
                  </a:lnTo>
                  <a:lnTo>
                    <a:pt x="201" y="712"/>
                  </a:lnTo>
                  <a:lnTo>
                    <a:pt x="214" y="712"/>
                  </a:lnTo>
                  <a:lnTo>
                    <a:pt x="233" y="712"/>
                  </a:lnTo>
                  <a:lnTo>
                    <a:pt x="255" y="712"/>
                  </a:lnTo>
                  <a:lnTo>
                    <a:pt x="278" y="712"/>
                  </a:lnTo>
                  <a:lnTo>
                    <a:pt x="297" y="712"/>
                  </a:lnTo>
                  <a:lnTo>
                    <a:pt x="315" y="708"/>
                  </a:lnTo>
                  <a:lnTo>
                    <a:pt x="328" y="703"/>
                  </a:lnTo>
                  <a:lnTo>
                    <a:pt x="338" y="694"/>
                  </a:lnTo>
                  <a:lnTo>
                    <a:pt x="306" y="681"/>
                  </a:lnTo>
                  <a:lnTo>
                    <a:pt x="269" y="659"/>
                  </a:lnTo>
                  <a:lnTo>
                    <a:pt x="242" y="632"/>
                  </a:lnTo>
                  <a:lnTo>
                    <a:pt x="237" y="610"/>
                  </a:lnTo>
                  <a:lnTo>
                    <a:pt x="246" y="602"/>
                  </a:lnTo>
                  <a:lnTo>
                    <a:pt x="269" y="597"/>
                  </a:lnTo>
                  <a:lnTo>
                    <a:pt x="292" y="597"/>
                  </a:lnTo>
                  <a:lnTo>
                    <a:pt x="324" y="593"/>
                  </a:lnTo>
                  <a:lnTo>
                    <a:pt x="347" y="588"/>
                  </a:lnTo>
                  <a:lnTo>
                    <a:pt x="374" y="579"/>
                  </a:lnTo>
                  <a:lnTo>
                    <a:pt x="388" y="571"/>
                  </a:lnTo>
                  <a:lnTo>
                    <a:pt x="392" y="553"/>
                  </a:lnTo>
                  <a:lnTo>
                    <a:pt x="338" y="548"/>
                  </a:lnTo>
                  <a:lnTo>
                    <a:pt x="287" y="531"/>
                  </a:lnTo>
                  <a:lnTo>
                    <a:pt x="242" y="504"/>
                  </a:lnTo>
                  <a:lnTo>
                    <a:pt x="210" y="478"/>
                  </a:lnTo>
                  <a:lnTo>
                    <a:pt x="183" y="447"/>
                  </a:lnTo>
                  <a:lnTo>
                    <a:pt x="169" y="416"/>
                  </a:lnTo>
                  <a:lnTo>
                    <a:pt x="164" y="389"/>
                  </a:lnTo>
                  <a:lnTo>
                    <a:pt x="173" y="372"/>
                  </a:lnTo>
                  <a:lnTo>
                    <a:pt x="201" y="376"/>
                  </a:lnTo>
                  <a:lnTo>
                    <a:pt x="233" y="380"/>
                  </a:lnTo>
                  <a:lnTo>
                    <a:pt x="269" y="385"/>
                  </a:lnTo>
                  <a:lnTo>
                    <a:pt x="301" y="389"/>
                  </a:lnTo>
                  <a:lnTo>
                    <a:pt x="328" y="394"/>
                  </a:lnTo>
                  <a:lnTo>
                    <a:pt x="356" y="394"/>
                  </a:lnTo>
                  <a:lnTo>
                    <a:pt x="379" y="398"/>
                  </a:lnTo>
                  <a:lnTo>
                    <a:pt x="392" y="398"/>
                  </a:lnTo>
                  <a:lnTo>
                    <a:pt x="397" y="380"/>
                  </a:lnTo>
                  <a:lnTo>
                    <a:pt x="401" y="363"/>
                  </a:lnTo>
                  <a:lnTo>
                    <a:pt x="397" y="345"/>
                  </a:lnTo>
                  <a:lnTo>
                    <a:pt x="392" y="332"/>
                  </a:lnTo>
                  <a:lnTo>
                    <a:pt x="365" y="332"/>
                  </a:lnTo>
                  <a:lnTo>
                    <a:pt x="342" y="327"/>
                  </a:lnTo>
                  <a:lnTo>
                    <a:pt x="319" y="318"/>
                  </a:lnTo>
                  <a:lnTo>
                    <a:pt x="297" y="305"/>
                  </a:lnTo>
                  <a:lnTo>
                    <a:pt x="283" y="296"/>
                  </a:lnTo>
                  <a:lnTo>
                    <a:pt x="269" y="283"/>
                  </a:lnTo>
                  <a:lnTo>
                    <a:pt x="260" y="270"/>
                  </a:lnTo>
                  <a:lnTo>
                    <a:pt x="255" y="257"/>
                  </a:lnTo>
                  <a:lnTo>
                    <a:pt x="269" y="239"/>
                  </a:lnTo>
                  <a:lnTo>
                    <a:pt x="297" y="230"/>
                  </a:lnTo>
                  <a:lnTo>
                    <a:pt x="328" y="230"/>
                  </a:lnTo>
                  <a:lnTo>
                    <a:pt x="356" y="230"/>
                  </a:lnTo>
                  <a:lnTo>
                    <a:pt x="420" y="168"/>
                  </a:lnTo>
                  <a:lnTo>
                    <a:pt x="397" y="89"/>
                  </a:lnTo>
                  <a:lnTo>
                    <a:pt x="406" y="80"/>
                  </a:lnTo>
                  <a:lnTo>
                    <a:pt x="424" y="58"/>
                  </a:lnTo>
                  <a:lnTo>
                    <a:pt x="433" y="27"/>
                  </a:lnTo>
                  <a:lnTo>
                    <a:pt x="420" y="0"/>
                  </a:lnTo>
                  <a:lnTo>
                    <a:pt x="447" y="18"/>
                  </a:lnTo>
                  <a:lnTo>
                    <a:pt x="470" y="58"/>
                  </a:lnTo>
                  <a:lnTo>
                    <a:pt x="493" y="106"/>
                  </a:lnTo>
                  <a:lnTo>
                    <a:pt x="506" y="146"/>
                  </a:lnTo>
                  <a:lnTo>
                    <a:pt x="525" y="150"/>
                  </a:lnTo>
                  <a:lnTo>
                    <a:pt x="547" y="155"/>
                  </a:lnTo>
                  <a:lnTo>
                    <a:pt x="575" y="159"/>
                  </a:lnTo>
                  <a:lnTo>
                    <a:pt x="602" y="164"/>
                  </a:lnTo>
                  <a:lnTo>
                    <a:pt x="629" y="173"/>
                  </a:lnTo>
                  <a:lnTo>
                    <a:pt x="648" y="177"/>
                  </a:lnTo>
                  <a:lnTo>
                    <a:pt x="657" y="186"/>
                  </a:lnTo>
                  <a:lnTo>
                    <a:pt x="657" y="190"/>
                  </a:lnTo>
                  <a:lnTo>
                    <a:pt x="648" y="199"/>
                  </a:lnTo>
                  <a:lnTo>
                    <a:pt x="634" y="208"/>
                  </a:lnTo>
                  <a:lnTo>
                    <a:pt x="616" y="217"/>
                  </a:lnTo>
                  <a:lnTo>
                    <a:pt x="593" y="221"/>
                  </a:lnTo>
                  <a:lnTo>
                    <a:pt x="575" y="230"/>
                  </a:lnTo>
                  <a:lnTo>
                    <a:pt x="552" y="234"/>
                  </a:lnTo>
                  <a:lnTo>
                    <a:pt x="534" y="239"/>
                  </a:lnTo>
                  <a:lnTo>
                    <a:pt x="520" y="239"/>
                  </a:lnTo>
                  <a:lnTo>
                    <a:pt x="511" y="261"/>
                  </a:lnTo>
                  <a:lnTo>
                    <a:pt x="520" y="301"/>
                  </a:lnTo>
                  <a:lnTo>
                    <a:pt x="534" y="345"/>
                  </a:lnTo>
                  <a:lnTo>
                    <a:pt x="543" y="367"/>
                  </a:lnTo>
                  <a:lnTo>
                    <a:pt x="575" y="363"/>
                  </a:lnTo>
                  <a:lnTo>
                    <a:pt x="611" y="358"/>
                  </a:lnTo>
                  <a:lnTo>
                    <a:pt x="643" y="354"/>
                  </a:lnTo>
                  <a:lnTo>
                    <a:pt x="666" y="345"/>
                  </a:lnTo>
                  <a:lnTo>
                    <a:pt x="689" y="341"/>
                  </a:lnTo>
                  <a:lnTo>
                    <a:pt x="716" y="341"/>
                  </a:lnTo>
                  <a:lnTo>
                    <a:pt x="743" y="341"/>
                  </a:lnTo>
                  <a:lnTo>
                    <a:pt x="753" y="349"/>
                  </a:lnTo>
                  <a:lnTo>
                    <a:pt x="748" y="363"/>
                  </a:lnTo>
                  <a:lnTo>
                    <a:pt x="743" y="380"/>
                  </a:lnTo>
                  <a:lnTo>
                    <a:pt x="734" y="394"/>
                  </a:lnTo>
                  <a:lnTo>
                    <a:pt x="734" y="398"/>
                  </a:lnTo>
                  <a:lnTo>
                    <a:pt x="725" y="398"/>
                  </a:lnTo>
                  <a:lnTo>
                    <a:pt x="698" y="403"/>
                  </a:lnTo>
                  <a:lnTo>
                    <a:pt x="675" y="407"/>
                  </a:lnTo>
                  <a:lnTo>
                    <a:pt x="661" y="420"/>
                  </a:lnTo>
                  <a:lnTo>
                    <a:pt x="648" y="460"/>
                  </a:lnTo>
                  <a:lnTo>
                    <a:pt x="607" y="487"/>
                  </a:lnTo>
                  <a:lnTo>
                    <a:pt x="570" y="500"/>
                  </a:lnTo>
                  <a:lnTo>
                    <a:pt x="552" y="504"/>
                  </a:lnTo>
                  <a:lnTo>
                    <a:pt x="575" y="535"/>
                  </a:lnTo>
                  <a:lnTo>
                    <a:pt x="611" y="562"/>
                  </a:lnTo>
                  <a:lnTo>
                    <a:pt x="652" y="575"/>
                  </a:lnTo>
                  <a:lnTo>
                    <a:pt x="698" y="584"/>
                  </a:lnTo>
                  <a:lnTo>
                    <a:pt x="739" y="588"/>
                  </a:lnTo>
                  <a:lnTo>
                    <a:pt x="771" y="593"/>
                  </a:lnTo>
                  <a:lnTo>
                    <a:pt x="794" y="597"/>
                  </a:lnTo>
                  <a:lnTo>
                    <a:pt x="798" y="602"/>
                  </a:lnTo>
                  <a:lnTo>
                    <a:pt x="775" y="628"/>
                  </a:lnTo>
                  <a:lnTo>
                    <a:pt x="753" y="650"/>
                  </a:lnTo>
                  <a:lnTo>
                    <a:pt x="730" y="668"/>
                  </a:lnTo>
                  <a:lnTo>
                    <a:pt x="707" y="686"/>
                  </a:lnTo>
                  <a:lnTo>
                    <a:pt x="689" y="699"/>
                  </a:lnTo>
                  <a:lnTo>
                    <a:pt x="666" y="708"/>
                  </a:lnTo>
                  <a:lnTo>
                    <a:pt x="648" y="717"/>
                  </a:lnTo>
                  <a:lnTo>
                    <a:pt x="625" y="717"/>
                  </a:lnTo>
                  <a:lnTo>
                    <a:pt x="652" y="730"/>
                  </a:lnTo>
                  <a:lnTo>
                    <a:pt x="689" y="739"/>
                  </a:lnTo>
                  <a:lnTo>
                    <a:pt x="721" y="752"/>
                  </a:lnTo>
                  <a:lnTo>
                    <a:pt x="734" y="761"/>
                  </a:lnTo>
                  <a:lnTo>
                    <a:pt x="730" y="778"/>
                  </a:lnTo>
                  <a:lnTo>
                    <a:pt x="702" y="809"/>
                  </a:lnTo>
                  <a:lnTo>
                    <a:pt x="666" y="827"/>
                  </a:lnTo>
                  <a:lnTo>
                    <a:pt x="611" y="823"/>
                  </a:lnTo>
                  <a:lnTo>
                    <a:pt x="616" y="858"/>
                  </a:lnTo>
                  <a:lnTo>
                    <a:pt x="634" y="876"/>
                  </a:lnTo>
                  <a:lnTo>
                    <a:pt x="661" y="885"/>
                  </a:lnTo>
                  <a:lnTo>
                    <a:pt x="707" y="885"/>
                  </a:lnTo>
                  <a:lnTo>
                    <a:pt x="748" y="876"/>
                  </a:lnTo>
                  <a:lnTo>
                    <a:pt x="780" y="854"/>
                  </a:lnTo>
                  <a:lnTo>
                    <a:pt x="803" y="831"/>
                  </a:lnTo>
                  <a:lnTo>
                    <a:pt x="821" y="823"/>
                  </a:lnTo>
                  <a:lnTo>
                    <a:pt x="830" y="827"/>
                  </a:lnTo>
                  <a:lnTo>
                    <a:pt x="839" y="845"/>
                  </a:lnTo>
                  <a:lnTo>
                    <a:pt x="844" y="862"/>
                  </a:lnTo>
                  <a:lnTo>
                    <a:pt x="844" y="880"/>
                  </a:lnTo>
                  <a:lnTo>
                    <a:pt x="835" y="902"/>
                  </a:lnTo>
                  <a:lnTo>
                    <a:pt x="807" y="938"/>
                  </a:lnTo>
                  <a:lnTo>
                    <a:pt x="771" y="973"/>
                  </a:lnTo>
                  <a:lnTo>
                    <a:pt x="730" y="995"/>
                  </a:lnTo>
                  <a:lnTo>
                    <a:pt x="689" y="1004"/>
                  </a:lnTo>
                  <a:lnTo>
                    <a:pt x="652" y="1013"/>
                  </a:lnTo>
                  <a:lnTo>
                    <a:pt x="625" y="1026"/>
                  </a:lnTo>
                  <a:lnTo>
                    <a:pt x="611" y="1035"/>
                  </a:lnTo>
                  <a:lnTo>
                    <a:pt x="616" y="1057"/>
                  </a:lnTo>
                  <a:lnTo>
                    <a:pt x="639" y="1088"/>
                  </a:lnTo>
                  <a:lnTo>
                    <a:pt x="666" y="1119"/>
                  </a:lnTo>
                  <a:lnTo>
                    <a:pt x="693" y="1123"/>
                  </a:lnTo>
                  <a:lnTo>
                    <a:pt x="707" y="1115"/>
                  </a:lnTo>
                  <a:lnTo>
                    <a:pt x="725" y="1110"/>
                  </a:lnTo>
                  <a:lnTo>
                    <a:pt x="739" y="1106"/>
                  </a:lnTo>
                  <a:lnTo>
                    <a:pt x="757" y="1110"/>
                  </a:lnTo>
                  <a:lnTo>
                    <a:pt x="771" y="1123"/>
                  </a:lnTo>
                  <a:lnTo>
                    <a:pt x="771" y="1137"/>
                  </a:lnTo>
                  <a:lnTo>
                    <a:pt x="757" y="1154"/>
                  </a:lnTo>
                  <a:lnTo>
                    <a:pt x="739" y="1168"/>
                  </a:lnTo>
                  <a:lnTo>
                    <a:pt x="753" y="1168"/>
                  </a:lnTo>
                  <a:lnTo>
                    <a:pt x="771" y="1168"/>
                  </a:lnTo>
                  <a:lnTo>
                    <a:pt x="794" y="1163"/>
                  </a:lnTo>
                  <a:lnTo>
                    <a:pt x="816" y="1154"/>
                  </a:lnTo>
                  <a:lnTo>
                    <a:pt x="839" y="1150"/>
                  </a:lnTo>
                  <a:lnTo>
                    <a:pt x="857" y="1137"/>
                  </a:lnTo>
                  <a:lnTo>
                    <a:pt x="871" y="1128"/>
                  </a:lnTo>
                  <a:lnTo>
                    <a:pt x="885" y="1115"/>
                  </a:lnTo>
                  <a:lnTo>
                    <a:pt x="894" y="1150"/>
                  </a:lnTo>
                  <a:lnTo>
                    <a:pt x="899" y="1181"/>
                  </a:lnTo>
                  <a:lnTo>
                    <a:pt x="894" y="1207"/>
                  </a:lnTo>
                  <a:lnTo>
                    <a:pt x="880" y="1225"/>
                  </a:lnTo>
                  <a:lnTo>
                    <a:pt x="853" y="1243"/>
                  </a:lnTo>
                  <a:lnTo>
                    <a:pt x="821" y="1265"/>
                  </a:lnTo>
                  <a:lnTo>
                    <a:pt x="794" y="1283"/>
                  </a:lnTo>
                  <a:lnTo>
                    <a:pt x="785" y="1287"/>
                  </a:lnTo>
                  <a:lnTo>
                    <a:pt x="73" y="1287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11"/>
            <p:cNvSpPr/>
            <p:nvPr/>
          </p:nvSpPr>
          <p:spPr>
            <a:xfrm>
              <a:off x="6878520" y="5019480"/>
              <a:ext cx="2265480" cy="1838160"/>
            </a:xfrm>
            <a:custGeom>
              <a:avLst/>
              <a:gdLst>
                <a:gd name="textAreaLeft" fmla="*/ 0 w 2265480"/>
                <a:gd name="textAreaRight" fmla="*/ 2265840 w 2265480"/>
                <a:gd name="textAreaTop" fmla="*/ 0 h 1838160"/>
                <a:gd name="textAreaBottom" fmla="*/ 1838520 h 1838160"/>
              </a:gdLst>
              <a:ahLst/>
              <a:rect l="textAreaLeft" t="textAreaTop" r="textAreaRight" b="textAreaBottom"/>
              <a:pathLst>
                <a:path w="1427" h="1283">
                  <a:moveTo>
                    <a:pt x="41" y="1283"/>
                  </a:moveTo>
                  <a:lnTo>
                    <a:pt x="59" y="1283"/>
                  </a:lnTo>
                  <a:lnTo>
                    <a:pt x="77" y="1279"/>
                  </a:lnTo>
                  <a:lnTo>
                    <a:pt x="100" y="1270"/>
                  </a:lnTo>
                  <a:lnTo>
                    <a:pt x="127" y="1261"/>
                  </a:lnTo>
                  <a:lnTo>
                    <a:pt x="150" y="1256"/>
                  </a:lnTo>
                  <a:lnTo>
                    <a:pt x="173" y="1248"/>
                  </a:lnTo>
                  <a:lnTo>
                    <a:pt x="196" y="1243"/>
                  </a:lnTo>
                  <a:lnTo>
                    <a:pt x="214" y="1243"/>
                  </a:lnTo>
                  <a:lnTo>
                    <a:pt x="246" y="1239"/>
                  </a:lnTo>
                  <a:lnTo>
                    <a:pt x="269" y="1230"/>
                  </a:lnTo>
                  <a:lnTo>
                    <a:pt x="282" y="1221"/>
                  </a:lnTo>
                  <a:lnTo>
                    <a:pt x="287" y="1212"/>
                  </a:lnTo>
                  <a:lnTo>
                    <a:pt x="278" y="1208"/>
                  </a:lnTo>
                  <a:lnTo>
                    <a:pt x="264" y="1208"/>
                  </a:lnTo>
                  <a:lnTo>
                    <a:pt x="246" y="1203"/>
                  </a:lnTo>
                  <a:lnTo>
                    <a:pt x="223" y="1203"/>
                  </a:lnTo>
                  <a:lnTo>
                    <a:pt x="196" y="1199"/>
                  </a:lnTo>
                  <a:lnTo>
                    <a:pt x="168" y="1203"/>
                  </a:lnTo>
                  <a:lnTo>
                    <a:pt x="145" y="1203"/>
                  </a:lnTo>
                  <a:lnTo>
                    <a:pt x="127" y="1208"/>
                  </a:lnTo>
                  <a:lnTo>
                    <a:pt x="109" y="1212"/>
                  </a:lnTo>
                  <a:lnTo>
                    <a:pt x="86" y="1217"/>
                  </a:lnTo>
                  <a:lnTo>
                    <a:pt x="63" y="1221"/>
                  </a:lnTo>
                  <a:lnTo>
                    <a:pt x="41" y="1230"/>
                  </a:lnTo>
                  <a:lnTo>
                    <a:pt x="22" y="1230"/>
                  </a:lnTo>
                  <a:lnTo>
                    <a:pt x="4" y="1234"/>
                  </a:lnTo>
                  <a:lnTo>
                    <a:pt x="0" y="1230"/>
                  </a:lnTo>
                  <a:lnTo>
                    <a:pt x="4" y="1226"/>
                  </a:lnTo>
                  <a:lnTo>
                    <a:pt x="36" y="1199"/>
                  </a:lnTo>
                  <a:lnTo>
                    <a:pt x="68" y="1177"/>
                  </a:lnTo>
                  <a:lnTo>
                    <a:pt x="95" y="1159"/>
                  </a:lnTo>
                  <a:lnTo>
                    <a:pt x="123" y="1146"/>
                  </a:lnTo>
                  <a:lnTo>
                    <a:pt x="150" y="1133"/>
                  </a:lnTo>
                  <a:lnTo>
                    <a:pt x="182" y="1119"/>
                  </a:lnTo>
                  <a:lnTo>
                    <a:pt x="209" y="1111"/>
                  </a:lnTo>
                  <a:lnTo>
                    <a:pt x="223" y="1097"/>
                  </a:lnTo>
                  <a:lnTo>
                    <a:pt x="228" y="1084"/>
                  </a:lnTo>
                  <a:lnTo>
                    <a:pt x="232" y="1071"/>
                  </a:lnTo>
                  <a:lnTo>
                    <a:pt x="232" y="1057"/>
                  </a:lnTo>
                  <a:lnTo>
                    <a:pt x="214" y="1049"/>
                  </a:lnTo>
                  <a:lnTo>
                    <a:pt x="187" y="1044"/>
                  </a:lnTo>
                  <a:lnTo>
                    <a:pt x="155" y="1044"/>
                  </a:lnTo>
                  <a:lnTo>
                    <a:pt x="123" y="1044"/>
                  </a:lnTo>
                  <a:lnTo>
                    <a:pt x="95" y="1053"/>
                  </a:lnTo>
                  <a:lnTo>
                    <a:pt x="77" y="1062"/>
                  </a:lnTo>
                  <a:lnTo>
                    <a:pt x="63" y="1057"/>
                  </a:lnTo>
                  <a:lnTo>
                    <a:pt x="63" y="1044"/>
                  </a:lnTo>
                  <a:lnTo>
                    <a:pt x="77" y="1026"/>
                  </a:lnTo>
                  <a:lnTo>
                    <a:pt x="95" y="1009"/>
                  </a:lnTo>
                  <a:lnTo>
                    <a:pt x="104" y="991"/>
                  </a:lnTo>
                  <a:lnTo>
                    <a:pt x="118" y="978"/>
                  </a:lnTo>
                  <a:lnTo>
                    <a:pt x="141" y="973"/>
                  </a:lnTo>
                  <a:lnTo>
                    <a:pt x="173" y="965"/>
                  </a:lnTo>
                  <a:lnTo>
                    <a:pt x="205" y="951"/>
                  </a:lnTo>
                  <a:lnTo>
                    <a:pt x="232" y="934"/>
                  </a:lnTo>
                  <a:lnTo>
                    <a:pt x="255" y="929"/>
                  </a:lnTo>
                  <a:lnTo>
                    <a:pt x="264" y="925"/>
                  </a:lnTo>
                  <a:lnTo>
                    <a:pt x="264" y="907"/>
                  </a:lnTo>
                  <a:lnTo>
                    <a:pt x="255" y="885"/>
                  </a:lnTo>
                  <a:lnTo>
                    <a:pt x="237" y="876"/>
                  </a:lnTo>
                  <a:lnTo>
                    <a:pt x="218" y="872"/>
                  </a:lnTo>
                  <a:lnTo>
                    <a:pt x="196" y="863"/>
                  </a:lnTo>
                  <a:lnTo>
                    <a:pt x="168" y="858"/>
                  </a:lnTo>
                  <a:lnTo>
                    <a:pt x="136" y="858"/>
                  </a:lnTo>
                  <a:lnTo>
                    <a:pt x="95" y="863"/>
                  </a:lnTo>
                  <a:lnTo>
                    <a:pt x="59" y="863"/>
                  </a:lnTo>
                  <a:lnTo>
                    <a:pt x="31" y="858"/>
                  </a:lnTo>
                  <a:lnTo>
                    <a:pt x="18" y="850"/>
                  </a:lnTo>
                  <a:lnTo>
                    <a:pt x="27" y="832"/>
                  </a:lnTo>
                  <a:lnTo>
                    <a:pt x="59" y="810"/>
                  </a:lnTo>
                  <a:lnTo>
                    <a:pt x="86" y="792"/>
                  </a:lnTo>
                  <a:lnTo>
                    <a:pt x="109" y="783"/>
                  </a:lnTo>
                  <a:lnTo>
                    <a:pt x="132" y="779"/>
                  </a:lnTo>
                  <a:lnTo>
                    <a:pt x="168" y="779"/>
                  </a:lnTo>
                  <a:lnTo>
                    <a:pt x="205" y="774"/>
                  </a:lnTo>
                  <a:lnTo>
                    <a:pt x="232" y="770"/>
                  </a:lnTo>
                  <a:lnTo>
                    <a:pt x="250" y="757"/>
                  </a:lnTo>
                  <a:lnTo>
                    <a:pt x="269" y="735"/>
                  </a:lnTo>
                  <a:lnTo>
                    <a:pt x="282" y="713"/>
                  </a:lnTo>
                  <a:lnTo>
                    <a:pt x="287" y="695"/>
                  </a:lnTo>
                  <a:lnTo>
                    <a:pt x="282" y="677"/>
                  </a:lnTo>
                  <a:lnTo>
                    <a:pt x="269" y="659"/>
                  </a:lnTo>
                  <a:lnTo>
                    <a:pt x="246" y="646"/>
                  </a:lnTo>
                  <a:lnTo>
                    <a:pt x="223" y="637"/>
                  </a:lnTo>
                  <a:lnTo>
                    <a:pt x="196" y="633"/>
                  </a:lnTo>
                  <a:lnTo>
                    <a:pt x="173" y="628"/>
                  </a:lnTo>
                  <a:lnTo>
                    <a:pt x="159" y="620"/>
                  </a:lnTo>
                  <a:lnTo>
                    <a:pt x="150" y="606"/>
                  </a:lnTo>
                  <a:lnTo>
                    <a:pt x="150" y="593"/>
                  </a:lnTo>
                  <a:lnTo>
                    <a:pt x="155" y="580"/>
                  </a:lnTo>
                  <a:lnTo>
                    <a:pt x="168" y="571"/>
                  </a:lnTo>
                  <a:lnTo>
                    <a:pt x="191" y="571"/>
                  </a:lnTo>
                  <a:lnTo>
                    <a:pt x="223" y="567"/>
                  </a:lnTo>
                  <a:lnTo>
                    <a:pt x="250" y="558"/>
                  </a:lnTo>
                  <a:lnTo>
                    <a:pt x="273" y="549"/>
                  </a:lnTo>
                  <a:lnTo>
                    <a:pt x="282" y="544"/>
                  </a:lnTo>
                  <a:lnTo>
                    <a:pt x="282" y="527"/>
                  </a:lnTo>
                  <a:lnTo>
                    <a:pt x="287" y="487"/>
                  </a:lnTo>
                  <a:lnTo>
                    <a:pt x="282" y="447"/>
                  </a:lnTo>
                  <a:lnTo>
                    <a:pt x="278" y="429"/>
                  </a:lnTo>
                  <a:lnTo>
                    <a:pt x="259" y="434"/>
                  </a:lnTo>
                  <a:lnTo>
                    <a:pt x="237" y="434"/>
                  </a:lnTo>
                  <a:lnTo>
                    <a:pt x="209" y="429"/>
                  </a:lnTo>
                  <a:lnTo>
                    <a:pt x="187" y="403"/>
                  </a:lnTo>
                  <a:lnTo>
                    <a:pt x="196" y="394"/>
                  </a:lnTo>
                  <a:lnTo>
                    <a:pt x="228" y="385"/>
                  </a:lnTo>
                  <a:lnTo>
                    <a:pt x="259" y="372"/>
                  </a:lnTo>
                  <a:lnTo>
                    <a:pt x="278" y="354"/>
                  </a:lnTo>
                  <a:lnTo>
                    <a:pt x="282" y="332"/>
                  </a:lnTo>
                  <a:lnTo>
                    <a:pt x="287" y="306"/>
                  </a:lnTo>
                  <a:lnTo>
                    <a:pt x="287" y="284"/>
                  </a:lnTo>
                  <a:lnTo>
                    <a:pt x="287" y="266"/>
                  </a:lnTo>
                  <a:lnTo>
                    <a:pt x="291" y="253"/>
                  </a:lnTo>
                  <a:lnTo>
                    <a:pt x="310" y="244"/>
                  </a:lnTo>
                  <a:lnTo>
                    <a:pt x="323" y="244"/>
                  </a:lnTo>
                  <a:lnTo>
                    <a:pt x="328" y="257"/>
                  </a:lnTo>
                  <a:lnTo>
                    <a:pt x="332" y="288"/>
                  </a:lnTo>
                  <a:lnTo>
                    <a:pt x="342" y="337"/>
                  </a:lnTo>
                  <a:lnTo>
                    <a:pt x="346" y="376"/>
                  </a:lnTo>
                  <a:lnTo>
                    <a:pt x="351" y="394"/>
                  </a:lnTo>
                  <a:lnTo>
                    <a:pt x="378" y="399"/>
                  </a:lnTo>
                  <a:lnTo>
                    <a:pt x="405" y="412"/>
                  </a:lnTo>
                  <a:lnTo>
                    <a:pt x="428" y="438"/>
                  </a:lnTo>
                  <a:lnTo>
                    <a:pt x="446" y="474"/>
                  </a:lnTo>
                  <a:lnTo>
                    <a:pt x="415" y="474"/>
                  </a:lnTo>
                  <a:lnTo>
                    <a:pt x="378" y="474"/>
                  </a:lnTo>
                  <a:lnTo>
                    <a:pt x="346" y="474"/>
                  </a:lnTo>
                  <a:lnTo>
                    <a:pt x="328" y="487"/>
                  </a:lnTo>
                  <a:lnTo>
                    <a:pt x="328" y="513"/>
                  </a:lnTo>
                  <a:lnTo>
                    <a:pt x="337" y="531"/>
                  </a:lnTo>
                  <a:lnTo>
                    <a:pt x="346" y="549"/>
                  </a:lnTo>
                  <a:lnTo>
                    <a:pt x="360" y="562"/>
                  </a:lnTo>
                  <a:lnTo>
                    <a:pt x="383" y="575"/>
                  </a:lnTo>
                  <a:lnTo>
                    <a:pt x="415" y="602"/>
                  </a:lnTo>
                  <a:lnTo>
                    <a:pt x="442" y="646"/>
                  </a:lnTo>
                  <a:lnTo>
                    <a:pt x="456" y="717"/>
                  </a:lnTo>
                  <a:lnTo>
                    <a:pt x="419" y="708"/>
                  </a:lnTo>
                  <a:lnTo>
                    <a:pt x="383" y="699"/>
                  </a:lnTo>
                  <a:lnTo>
                    <a:pt x="346" y="704"/>
                  </a:lnTo>
                  <a:lnTo>
                    <a:pt x="328" y="730"/>
                  </a:lnTo>
                  <a:lnTo>
                    <a:pt x="342" y="743"/>
                  </a:lnTo>
                  <a:lnTo>
                    <a:pt x="351" y="766"/>
                  </a:lnTo>
                  <a:lnTo>
                    <a:pt x="364" y="788"/>
                  </a:lnTo>
                  <a:lnTo>
                    <a:pt x="378" y="801"/>
                  </a:lnTo>
                  <a:lnTo>
                    <a:pt x="392" y="814"/>
                  </a:lnTo>
                  <a:lnTo>
                    <a:pt x="405" y="832"/>
                  </a:lnTo>
                  <a:lnTo>
                    <a:pt x="428" y="845"/>
                  </a:lnTo>
                  <a:lnTo>
                    <a:pt x="460" y="854"/>
                  </a:lnTo>
                  <a:lnTo>
                    <a:pt x="510" y="881"/>
                  </a:lnTo>
                  <a:lnTo>
                    <a:pt x="542" y="934"/>
                  </a:lnTo>
                  <a:lnTo>
                    <a:pt x="565" y="982"/>
                  </a:lnTo>
                  <a:lnTo>
                    <a:pt x="570" y="1009"/>
                  </a:lnTo>
                  <a:lnTo>
                    <a:pt x="529" y="1009"/>
                  </a:lnTo>
                  <a:lnTo>
                    <a:pt x="492" y="1000"/>
                  </a:lnTo>
                  <a:lnTo>
                    <a:pt x="465" y="996"/>
                  </a:lnTo>
                  <a:lnTo>
                    <a:pt x="446" y="996"/>
                  </a:lnTo>
                  <a:lnTo>
                    <a:pt x="433" y="1000"/>
                  </a:lnTo>
                  <a:lnTo>
                    <a:pt x="428" y="1009"/>
                  </a:lnTo>
                  <a:lnTo>
                    <a:pt x="419" y="1022"/>
                  </a:lnTo>
                  <a:lnTo>
                    <a:pt x="419" y="1035"/>
                  </a:lnTo>
                  <a:lnTo>
                    <a:pt x="428" y="1040"/>
                  </a:lnTo>
                  <a:lnTo>
                    <a:pt x="442" y="1049"/>
                  </a:lnTo>
                  <a:lnTo>
                    <a:pt x="469" y="1057"/>
                  </a:lnTo>
                  <a:lnTo>
                    <a:pt x="497" y="1062"/>
                  </a:lnTo>
                  <a:lnTo>
                    <a:pt x="524" y="1071"/>
                  </a:lnTo>
                  <a:lnTo>
                    <a:pt x="547" y="1075"/>
                  </a:lnTo>
                  <a:lnTo>
                    <a:pt x="570" y="1075"/>
                  </a:lnTo>
                  <a:lnTo>
                    <a:pt x="583" y="1075"/>
                  </a:lnTo>
                  <a:lnTo>
                    <a:pt x="606" y="1053"/>
                  </a:lnTo>
                  <a:lnTo>
                    <a:pt x="633" y="1022"/>
                  </a:lnTo>
                  <a:lnTo>
                    <a:pt x="656" y="991"/>
                  </a:lnTo>
                  <a:lnTo>
                    <a:pt x="665" y="978"/>
                  </a:lnTo>
                  <a:lnTo>
                    <a:pt x="633" y="973"/>
                  </a:lnTo>
                  <a:lnTo>
                    <a:pt x="611" y="969"/>
                  </a:lnTo>
                  <a:lnTo>
                    <a:pt x="597" y="965"/>
                  </a:lnTo>
                  <a:lnTo>
                    <a:pt x="592" y="951"/>
                  </a:lnTo>
                  <a:lnTo>
                    <a:pt x="592" y="934"/>
                  </a:lnTo>
                  <a:lnTo>
                    <a:pt x="597" y="916"/>
                  </a:lnTo>
                  <a:lnTo>
                    <a:pt x="592" y="903"/>
                  </a:lnTo>
                  <a:lnTo>
                    <a:pt x="579" y="889"/>
                  </a:lnTo>
                  <a:lnTo>
                    <a:pt x="551" y="872"/>
                  </a:lnTo>
                  <a:lnTo>
                    <a:pt x="519" y="850"/>
                  </a:lnTo>
                  <a:lnTo>
                    <a:pt x="492" y="832"/>
                  </a:lnTo>
                  <a:lnTo>
                    <a:pt x="478" y="819"/>
                  </a:lnTo>
                  <a:lnTo>
                    <a:pt x="483" y="805"/>
                  </a:lnTo>
                  <a:lnTo>
                    <a:pt x="497" y="792"/>
                  </a:lnTo>
                  <a:lnTo>
                    <a:pt x="524" y="779"/>
                  </a:lnTo>
                  <a:lnTo>
                    <a:pt x="556" y="770"/>
                  </a:lnTo>
                  <a:lnTo>
                    <a:pt x="597" y="766"/>
                  </a:lnTo>
                  <a:lnTo>
                    <a:pt x="638" y="770"/>
                  </a:lnTo>
                  <a:lnTo>
                    <a:pt x="670" y="774"/>
                  </a:lnTo>
                  <a:lnTo>
                    <a:pt x="684" y="774"/>
                  </a:lnTo>
                  <a:lnTo>
                    <a:pt x="693" y="770"/>
                  </a:lnTo>
                  <a:lnTo>
                    <a:pt x="697" y="757"/>
                  </a:lnTo>
                  <a:lnTo>
                    <a:pt x="693" y="743"/>
                  </a:lnTo>
                  <a:lnTo>
                    <a:pt x="684" y="730"/>
                  </a:lnTo>
                  <a:lnTo>
                    <a:pt x="670" y="726"/>
                  </a:lnTo>
                  <a:lnTo>
                    <a:pt x="647" y="717"/>
                  </a:lnTo>
                  <a:lnTo>
                    <a:pt x="620" y="713"/>
                  </a:lnTo>
                  <a:lnTo>
                    <a:pt x="588" y="704"/>
                  </a:lnTo>
                  <a:lnTo>
                    <a:pt x="560" y="695"/>
                  </a:lnTo>
                  <a:lnTo>
                    <a:pt x="538" y="690"/>
                  </a:lnTo>
                  <a:lnTo>
                    <a:pt x="519" y="686"/>
                  </a:lnTo>
                  <a:lnTo>
                    <a:pt x="515" y="686"/>
                  </a:lnTo>
                  <a:lnTo>
                    <a:pt x="551" y="633"/>
                  </a:lnTo>
                  <a:lnTo>
                    <a:pt x="529" y="633"/>
                  </a:lnTo>
                  <a:lnTo>
                    <a:pt x="506" y="628"/>
                  </a:lnTo>
                  <a:lnTo>
                    <a:pt x="488" y="624"/>
                  </a:lnTo>
                  <a:lnTo>
                    <a:pt x="478" y="620"/>
                  </a:lnTo>
                  <a:lnTo>
                    <a:pt x="478" y="611"/>
                  </a:lnTo>
                  <a:lnTo>
                    <a:pt x="483" y="602"/>
                  </a:lnTo>
                  <a:lnTo>
                    <a:pt x="497" y="584"/>
                  </a:lnTo>
                  <a:lnTo>
                    <a:pt x="515" y="567"/>
                  </a:lnTo>
                  <a:lnTo>
                    <a:pt x="542" y="549"/>
                  </a:lnTo>
                  <a:lnTo>
                    <a:pt x="579" y="531"/>
                  </a:lnTo>
                  <a:lnTo>
                    <a:pt x="629" y="522"/>
                  </a:lnTo>
                  <a:lnTo>
                    <a:pt x="693" y="518"/>
                  </a:lnTo>
                  <a:lnTo>
                    <a:pt x="697" y="505"/>
                  </a:lnTo>
                  <a:lnTo>
                    <a:pt x="693" y="487"/>
                  </a:lnTo>
                  <a:lnTo>
                    <a:pt x="684" y="474"/>
                  </a:lnTo>
                  <a:lnTo>
                    <a:pt x="670" y="469"/>
                  </a:lnTo>
                  <a:lnTo>
                    <a:pt x="652" y="469"/>
                  </a:lnTo>
                  <a:lnTo>
                    <a:pt x="624" y="469"/>
                  </a:lnTo>
                  <a:lnTo>
                    <a:pt x="602" y="469"/>
                  </a:lnTo>
                  <a:lnTo>
                    <a:pt x="592" y="469"/>
                  </a:lnTo>
                  <a:lnTo>
                    <a:pt x="606" y="447"/>
                  </a:lnTo>
                  <a:lnTo>
                    <a:pt x="629" y="425"/>
                  </a:lnTo>
                  <a:lnTo>
                    <a:pt x="652" y="407"/>
                  </a:lnTo>
                  <a:lnTo>
                    <a:pt x="670" y="399"/>
                  </a:lnTo>
                  <a:lnTo>
                    <a:pt x="693" y="403"/>
                  </a:lnTo>
                  <a:lnTo>
                    <a:pt x="725" y="416"/>
                  </a:lnTo>
                  <a:lnTo>
                    <a:pt x="752" y="421"/>
                  </a:lnTo>
                  <a:lnTo>
                    <a:pt x="770" y="421"/>
                  </a:lnTo>
                  <a:lnTo>
                    <a:pt x="779" y="407"/>
                  </a:lnTo>
                  <a:lnTo>
                    <a:pt x="784" y="394"/>
                  </a:lnTo>
                  <a:lnTo>
                    <a:pt x="779" y="381"/>
                  </a:lnTo>
                  <a:lnTo>
                    <a:pt x="766" y="376"/>
                  </a:lnTo>
                  <a:lnTo>
                    <a:pt x="743" y="376"/>
                  </a:lnTo>
                  <a:lnTo>
                    <a:pt x="725" y="372"/>
                  </a:lnTo>
                  <a:lnTo>
                    <a:pt x="706" y="368"/>
                  </a:lnTo>
                  <a:lnTo>
                    <a:pt x="697" y="359"/>
                  </a:lnTo>
                  <a:lnTo>
                    <a:pt x="711" y="345"/>
                  </a:lnTo>
                  <a:lnTo>
                    <a:pt x="729" y="337"/>
                  </a:lnTo>
                  <a:lnTo>
                    <a:pt x="752" y="323"/>
                  </a:lnTo>
                  <a:lnTo>
                    <a:pt x="761" y="306"/>
                  </a:lnTo>
                  <a:lnTo>
                    <a:pt x="747" y="253"/>
                  </a:lnTo>
                  <a:lnTo>
                    <a:pt x="716" y="239"/>
                  </a:lnTo>
                  <a:lnTo>
                    <a:pt x="679" y="226"/>
                  </a:lnTo>
                  <a:lnTo>
                    <a:pt x="656" y="173"/>
                  </a:lnTo>
                  <a:lnTo>
                    <a:pt x="684" y="155"/>
                  </a:lnTo>
                  <a:lnTo>
                    <a:pt x="720" y="133"/>
                  </a:lnTo>
                  <a:lnTo>
                    <a:pt x="747" y="107"/>
                  </a:lnTo>
                  <a:lnTo>
                    <a:pt x="757" y="89"/>
                  </a:lnTo>
                  <a:lnTo>
                    <a:pt x="747" y="80"/>
                  </a:lnTo>
                  <a:lnTo>
                    <a:pt x="743" y="67"/>
                  </a:lnTo>
                  <a:lnTo>
                    <a:pt x="734" y="58"/>
                  </a:lnTo>
                  <a:lnTo>
                    <a:pt x="720" y="49"/>
                  </a:lnTo>
                  <a:lnTo>
                    <a:pt x="725" y="31"/>
                  </a:lnTo>
                  <a:lnTo>
                    <a:pt x="752" y="14"/>
                  </a:lnTo>
                  <a:lnTo>
                    <a:pt x="784" y="0"/>
                  </a:lnTo>
                  <a:lnTo>
                    <a:pt x="798" y="0"/>
                  </a:lnTo>
                  <a:lnTo>
                    <a:pt x="798" y="23"/>
                  </a:lnTo>
                  <a:lnTo>
                    <a:pt x="802" y="62"/>
                  </a:lnTo>
                  <a:lnTo>
                    <a:pt x="802" y="102"/>
                  </a:lnTo>
                  <a:lnTo>
                    <a:pt x="802" y="120"/>
                  </a:lnTo>
                  <a:lnTo>
                    <a:pt x="834" y="115"/>
                  </a:lnTo>
                  <a:lnTo>
                    <a:pt x="871" y="111"/>
                  </a:lnTo>
                  <a:lnTo>
                    <a:pt x="898" y="107"/>
                  </a:lnTo>
                  <a:lnTo>
                    <a:pt x="907" y="107"/>
                  </a:lnTo>
                  <a:lnTo>
                    <a:pt x="921" y="115"/>
                  </a:lnTo>
                  <a:lnTo>
                    <a:pt x="944" y="133"/>
                  </a:lnTo>
                  <a:lnTo>
                    <a:pt x="966" y="155"/>
                  </a:lnTo>
                  <a:lnTo>
                    <a:pt x="966" y="169"/>
                  </a:lnTo>
                  <a:lnTo>
                    <a:pt x="948" y="177"/>
                  </a:lnTo>
                  <a:lnTo>
                    <a:pt x="925" y="182"/>
                  </a:lnTo>
                  <a:lnTo>
                    <a:pt x="903" y="182"/>
                  </a:lnTo>
                  <a:lnTo>
                    <a:pt x="893" y="182"/>
                  </a:lnTo>
                  <a:lnTo>
                    <a:pt x="889" y="186"/>
                  </a:lnTo>
                  <a:lnTo>
                    <a:pt x="875" y="199"/>
                  </a:lnTo>
                  <a:lnTo>
                    <a:pt x="857" y="213"/>
                  </a:lnTo>
                  <a:lnTo>
                    <a:pt x="839" y="226"/>
                  </a:lnTo>
                  <a:lnTo>
                    <a:pt x="830" y="239"/>
                  </a:lnTo>
                  <a:lnTo>
                    <a:pt x="830" y="257"/>
                  </a:lnTo>
                  <a:lnTo>
                    <a:pt x="834" y="275"/>
                  </a:lnTo>
                  <a:lnTo>
                    <a:pt x="843" y="284"/>
                  </a:lnTo>
                  <a:lnTo>
                    <a:pt x="861" y="288"/>
                  </a:lnTo>
                  <a:lnTo>
                    <a:pt x="880" y="288"/>
                  </a:lnTo>
                  <a:lnTo>
                    <a:pt x="898" y="292"/>
                  </a:lnTo>
                  <a:lnTo>
                    <a:pt x="907" y="292"/>
                  </a:lnTo>
                  <a:lnTo>
                    <a:pt x="925" y="306"/>
                  </a:lnTo>
                  <a:lnTo>
                    <a:pt x="953" y="328"/>
                  </a:lnTo>
                  <a:lnTo>
                    <a:pt x="980" y="354"/>
                  </a:lnTo>
                  <a:lnTo>
                    <a:pt x="994" y="368"/>
                  </a:lnTo>
                  <a:lnTo>
                    <a:pt x="998" y="385"/>
                  </a:lnTo>
                  <a:lnTo>
                    <a:pt x="1012" y="416"/>
                  </a:lnTo>
                  <a:lnTo>
                    <a:pt x="1021" y="452"/>
                  </a:lnTo>
                  <a:lnTo>
                    <a:pt x="1017" y="469"/>
                  </a:lnTo>
                  <a:lnTo>
                    <a:pt x="1007" y="469"/>
                  </a:lnTo>
                  <a:lnTo>
                    <a:pt x="989" y="469"/>
                  </a:lnTo>
                  <a:lnTo>
                    <a:pt x="966" y="465"/>
                  </a:lnTo>
                  <a:lnTo>
                    <a:pt x="944" y="465"/>
                  </a:lnTo>
                  <a:lnTo>
                    <a:pt x="916" y="460"/>
                  </a:lnTo>
                  <a:lnTo>
                    <a:pt x="893" y="460"/>
                  </a:lnTo>
                  <a:lnTo>
                    <a:pt x="875" y="460"/>
                  </a:lnTo>
                  <a:lnTo>
                    <a:pt x="866" y="465"/>
                  </a:lnTo>
                  <a:lnTo>
                    <a:pt x="852" y="474"/>
                  </a:lnTo>
                  <a:lnTo>
                    <a:pt x="839" y="491"/>
                  </a:lnTo>
                  <a:lnTo>
                    <a:pt x="834" y="509"/>
                  </a:lnTo>
                  <a:lnTo>
                    <a:pt x="834" y="527"/>
                  </a:lnTo>
                  <a:lnTo>
                    <a:pt x="848" y="540"/>
                  </a:lnTo>
                  <a:lnTo>
                    <a:pt x="871" y="549"/>
                  </a:lnTo>
                  <a:lnTo>
                    <a:pt x="898" y="562"/>
                  </a:lnTo>
                  <a:lnTo>
                    <a:pt x="930" y="562"/>
                  </a:lnTo>
                  <a:lnTo>
                    <a:pt x="957" y="553"/>
                  </a:lnTo>
                  <a:lnTo>
                    <a:pt x="989" y="536"/>
                  </a:lnTo>
                  <a:lnTo>
                    <a:pt x="1017" y="531"/>
                  </a:lnTo>
                  <a:lnTo>
                    <a:pt x="1044" y="540"/>
                  </a:lnTo>
                  <a:lnTo>
                    <a:pt x="1062" y="562"/>
                  </a:lnTo>
                  <a:lnTo>
                    <a:pt x="1080" y="593"/>
                  </a:lnTo>
                  <a:lnTo>
                    <a:pt x="1094" y="620"/>
                  </a:lnTo>
                  <a:lnTo>
                    <a:pt x="1099" y="646"/>
                  </a:lnTo>
                  <a:lnTo>
                    <a:pt x="1085" y="646"/>
                  </a:lnTo>
                  <a:lnTo>
                    <a:pt x="1067" y="642"/>
                  </a:lnTo>
                  <a:lnTo>
                    <a:pt x="1048" y="642"/>
                  </a:lnTo>
                  <a:lnTo>
                    <a:pt x="1026" y="637"/>
                  </a:lnTo>
                  <a:lnTo>
                    <a:pt x="1007" y="637"/>
                  </a:lnTo>
                  <a:lnTo>
                    <a:pt x="989" y="637"/>
                  </a:lnTo>
                  <a:lnTo>
                    <a:pt x="976" y="637"/>
                  </a:lnTo>
                  <a:lnTo>
                    <a:pt x="962" y="642"/>
                  </a:lnTo>
                  <a:lnTo>
                    <a:pt x="944" y="655"/>
                  </a:lnTo>
                  <a:lnTo>
                    <a:pt x="930" y="673"/>
                  </a:lnTo>
                  <a:lnTo>
                    <a:pt x="925" y="686"/>
                  </a:lnTo>
                  <a:lnTo>
                    <a:pt x="934" y="695"/>
                  </a:lnTo>
                  <a:lnTo>
                    <a:pt x="957" y="699"/>
                  </a:lnTo>
                  <a:lnTo>
                    <a:pt x="989" y="699"/>
                  </a:lnTo>
                  <a:lnTo>
                    <a:pt x="1026" y="699"/>
                  </a:lnTo>
                  <a:lnTo>
                    <a:pt x="1044" y="704"/>
                  </a:lnTo>
                  <a:lnTo>
                    <a:pt x="1067" y="717"/>
                  </a:lnTo>
                  <a:lnTo>
                    <a:pt x="1099" y="743"/>
                  </a:lnTo>
                  <a:lnTo>
                    <a:pt x="1126" y="774"/>
                  </a:lnTo>
                  <a:lnTo>
                    <a:pt x="1131" y="797"/>
                  </a:lnTo>
                  <a:lnTo>
                    <a:pt x="1117" y="792"/>
                  </a:lnTo>
                  <a:lnTo>
                    <a:pt x="1094" y="788"/>
                  </a:lnTo>
                  <a:lnTo>
                    <a:pt x="1067" y="783"/>
                  </a:lnTo>
                  <a:lnTo>
                    <a:pt x="1039" y="779"/>
                  </a:lnTo>
                  <a:lnTo>
                    <a:pt x="1012" y="779"/>
                  </a:lnTo>
                  <a:lnTo>
                    <a:pt x="989" y="779"/>
                  </a:lnTo>
                  <a:lnTo>
                    <a:pt x="971" y="783"/>
                  </a:lnTo>
                  <a:lnTo>
                    <a:pt x="957" y="792"/>
                  </a:lnTo>
                  <a:lnTo>
                    <a:pt x="971" y="805"/>
                  </a:lnTo>
                  <a:lnTo>
                    <a:pt x="989" y="819"/>
                  </a:lnTo>
                  <a:lnTo>
                    <a:pt x="1012" y="823"/>
                  </a:lnTo>
                  <a:lnTo>
                    <a:pt x="1021" y="832"/>
                  </a:lnTo>
                  <a:lnTo>
                    <a:pt x="1003" y="836"/>
                  </a:lnTo>
                  <a:lnTo>
                    <a:pt x="971" y="845"/>
                  </a:lnTo>
                  <a:lnTo>
                    <a:pt x="934" y="863"/>
                  </a:lnTo>
                  <a:lnTo>
                    <a:pt x="916" y="889"/>
                  </a:lnTo>
                  <a:lnTo>
                    <a:pt x="953" y="889"/>
                  </a:lnTo>
                  <a:lnTo>
                    <a:pt x="998" y="894"/>
                  </a:lnTo>
                  <a:lnTo>
                    <a:pt x="1044" y="894"/>
                  </a:lnTo>
                  <a:lnTo>
                    <a:pt x="1094" y="903"/>
                  </a:lnTo>
                  <a:lnTo>
                    <a:pt x="1135" y="916"/>
                  </a:lnTo>
                  <a:lnTo>
                    <a:pt x="1162" y="938"/>
                  </a:lnTo>
                  <a:lnTo>
                    <a:pt x="1181" y="969"/>
                  </a:lnTo>
                  <a:lnTo>
                    <a:pt x="1176" y="1013"/>
                  </a:lnTo>
                  <a:lnTo>
                    <a:pt x="1144" y="1013"/>
                  </a:lnTo>
                  <a:lnTo>
                    <a:pt x="1103" y="1026"/>
                  </a:lnTo>
                  <a:lnTo>
                    <a:pt x="1071" y="1044"/>
                  </a:lnTo>
                  <a:lnTo>
                    <a:pt x="1067" y="1053"/>
                  </a:lnTo>
                  <a:lnTo>
                    <a:pt x="1085" y="1057"/>
                  </a:lnTo>
                  <a:lnTo>
                    <a:pt x="1117" y="1057"/>
                  </a:lnTo>
                  <a:lnTo>
                    <a:pt x="1162" y="1057"/>
                  </a:lnTo>
                  <a:lnTo>
                    <a:pt x="1208" y="1053"/>
                  </a:lnTo>
                  <a:lnTo>
                    <a:pt x="1254" y="1053"/>
                  </a:lnTo>
                  <a:lnTo>
                    <a:pt x="1290" y="1049"/>
                  </a:lnTo>
                  <a:lnTo>
                    <a:pt x="1318" y="1049"/>
                  </a:lnTo>
                  <a:lnTo>
                    <a:pt x="1327" y="1049"/>
                  </a:lnTo>
                  <a:lnTo>
                    <a:pt x="1327" y="1022"/>
                  </a:lnTo>
                  <a:lnTo>
                    <a:pt x="1322" y="991"/>
                  </a:lnTo>
                  <a:lnTo>
                    <a:pt x="1313" y="960"/>
                  </a:lnTo>
                  <a:lnTo>
                    <a:pt x="1299" y="938"/>
                  </a:lnTo>
                  <a:lnTo>
                    <a:pt x="1272" y="925"/>
                  </a:lnTo>
                  <a:lnTo>
                    <a:pt x="1231" y="912"/>
                  </a:lnTo>
                  <a:lnTo>
                    <a:pt x="1194" y="903"/>
                  </a:lnTo>
                  <a:lnTo>
                    <a:pt x="1185" y="885"/>
                  </a:lnTo>
                  <a:lnTo>
                    <a:pt x="1199" y="863"/>
                  </a:lnTo>
                  <a:lnTo>
                    <a:pt x="1226" y="836"/>
                  </a:lnTo>
                  <a:lnTo>
                    <a:pt x="1254" y="810"/>
                  </a:lnTo>
                  <a:lnTo>
                    <a:pt x="1277" y="801"/>
                  </a:lnTo>
                  <a:lnTo>
                    <a:pt x="1299" y="810"/>
                  </a:lnTo>
                  <a:lnTo>
                    <a:pt x="1331" y="814"/>
                  </a:lnTo>
                  <a:lnTo>
                    <a:pt x="1359" y="819"/>
                  </a:lnTo>
                  <a:lnTo>
                    <a:pt x="1372" y="819"/>
                  </a:lnTo>
                  <a:lnTo>
                    <a:pt x="1372" y="810"/>
                  </a:lnTo>
                  <a:lnTo>
                    <a:pt x="1363" y="797"/>
                  </a:lnTo>
                  <a:lnTo>
                    <a:pt x="1354" y="779"/>
                  </a:lnTo>
                  <a:lnTo>
                    <a:pt x="1336" y="757"/>
                  </a:lnTo>
                  <a:lnTo>
                    <a:pt x="1318" y="739"/>
                  </a:lnTo>
                  <a:lnTo>
                    <a:pt x="1290" y="721"/>
                  </a:lnTo>
                  <a:lnTo>
                    <a:pt x="1258" y="708"/>
                  </a:lnTo>
                  <a:lnTo>
                    <a:pt x="1222" y="704"/>
                  </a:lnTo>
                  <a:lnTo>
                    <a:pt x="1235" y="682"/>
                  </a:lnTo>
                  <a:lnTo>
                    <a:pt x="1258" y="659"/>
                  </a:lnTo>
                  <a:lnTo>
                    <a:pt x="1277" y="642"/>
                  </a:lnTo>
                  <a:lnTo>
                    <a:pt x="1290" y="633"/>
                  </a:lnTo>
                  <a:lnTo>
                    <a:pt x="1318" y="628"/>
                  </a:lnTo>
                  <a:lnTo>
                    <a:pt x="1359" y="620"/>
                  </a:lnTo>
                  <a:lnTo>
                    <a:pt x="1400" y="611"/>
                  </a:lnTo>
                  <a:lnTo>
                    <a:pt x="1418" y="606"/>
                  </a:lnTo>
                  <a:lnTo>
                    <a:pt x="1413" y="598"/>
                  </a:lnTo>
                  <a:lnTo>
                    <a:pt x="1404" y="575"/>
                  </a:lnTo>
                  <a:lnTo>
                    <a:pt x="1381" y="553"/>
                  </a:lnTo>
                  <a:lnTo>
                    <a:pt x="1349" y="540"/>
                  </a:lnTo>
                  <a:lnTo>
                    <a:pt x="1349" y="513"/>
                  </a:lnTo>
                  <a:lnTo>
                    <a:pt x="1349" y="491"/>
                  </a:lnTo>
                  <a:lnTo>
                    <a:pt x="1368" y="478"/>
                  </a:lnTo>
                  <a:lnTo>
                    <a:pt x="1427" y="460"/>
                  </a:lnTo>
                  <a:lnTo>
                    <a:pt x="1427" y="1283"/>
                  </a:lnTo>
                  <a:lnTo>
                    <a:pt x="41" y="1283"/>
                  </a:lnTo>
                  <a:close/>
                </a:path>
              </a:pathLst>
            </a:custGeom>
            <a:gradFill rotWithShape="0">
              <a:gsLst>
                <a:gs pos="0">
                  <a:srgbClr val="3fd872"/>
                </a:gs>
                <a:gs pos="100000">
                  <a:srgbClr val="1d64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Rectangle 2"/>
          <p:cNvSpPr/>
          <p:nvPr/>
        </p:nvSpPr>
        <p:spPr>
          <a:xfrm>
            <a:off x="990720" y="2005920"/>
            <a:ext cx="73911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采回的果实样品经洗涤、擦干，大的瓜果或样品量较大时，可均匀切取其中的一部分，用鲜样测定时，可直接将分析样切成小块，用高速植物组织捣碎机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或碾钵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打成匀浆，从混匀的匀浆中称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609480" y="2239560"/>
            <a:ext cx="820908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瓜果样品需要干燥时，则力求快速，以免成分变化。  将打碎的鲜样在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110-120℃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的鼓风干燥箱中杀酶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20-30min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后，于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60-70℃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烘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5-10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小时至变脆易于粉碎成粉末即可。也可在高温蒸汽中杀酶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15-20min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后低温烘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因烘干过程中会有部分糖被焦化或部分淀粉被酸性汁液水解，导致出现较大误差。因此测定这类样品最好用鲜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样品数量较大时，鲜样也可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0℃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条件下，适当保存几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6"/>
          <p:cNvSpPr txBox="1"/>
          <p:nvPr/>
        </p:nvSpPr>
        <p:spPr>
          <a:xfrm>
            <a:off x="1676520" y="1447920"/>
            <a:ext cx="56386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第一章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结束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008000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4"/>
          <p:cNvGraphicFramePr/>
          <p:nvPr/>
        </p:nvGraphicFramePr>
        <p:xfrm>
          <a:off x="6012000" y="6381720"/>
          <a:ext cx="5220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6381720"/>
                    <a:ext cx="522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Group 3"/>
          <p:cNvGrpSpPr/>
          <p:nvPr/>
        </p:nvGrpSpPr>
        <p:grpSpPr>
          <a:xfrm>
            <a:off x="0" y="6165720"/>
            <a:ext cx="1258920" cy="1106640"/>
            <a:chOff x="0" y="6165720"/>
            <a:chExt cx="1258920" cy="1106640"/>
          </a:xfrm>
        </p:grpSpPr>
        <p:graphicFrame>
          <p:nvGraphicFramePr>
            <p:cNvPr id="292" name="Object 7"/>
            <p:cNvGraphicFramePr/>
            <p:nvPr/>
          </p:nvGraphicFramePr>
          <p:xfrm>
            <a:off x="0" y="6165720"/>
            <a:ext cx="1258920" cy="110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6165720"/>
                      <a:ext cx="12589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Text Box 5"/>
            <p:cNvSpPr/>
            <p:nvPr/>
          </p:nvSpPr>
          <p:spPr>
            <a:xfrm>
              <a:off x="403560" y="6365880"/>
              <a:ext cx="1832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6"/>
          <p:cNvGrpSpPr/>
          <p:nvPr/>
        </p:nvGrpSpPr>
        <p:grpSpPr>
          <a:xfrm>
            <a:off x="2843280" y="6021360"/>
            <a:ext cx="1253880" cy="1093680"/>
            <a:chOff x="2843280" y="6021360"/>
            <a:chExt cx="1253880" cy="1093680"/>
          </a:xfrm>
        </p:grpSpPr>
        <p:graphicFrame>
          <p:nvGraphicFramePr>
            <p:cNvPr id="296" name="Object 6"/>
            <p:cNvGraphicFramePr/>
            <p:nvPr/>
          </p:nvGraphicFramePr>
          <p:xfrm>
            <a:off x="2843280" y="6021360"/>
            <a:ext cx="1253880" cy="1093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3280" y="6021360"/>
                      <a:ext cx="1253880" cy="109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8" name="Text Box 8"/>
            <p:cNvSpPr/>
            <p:nvPr/>
          </p:nvSpPr>
          <p:spPr>
            <a:xfrm>
              <a:off x="3179160" y="6216480"/>
              <a:ext cx="1839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9"/>
          <p:cNvGrpSpPr/>
          <p:nvPr/>
        </p:nvGrpSpPr>
        <p:grpSpPr>
          <a:xfrm>
            <a:off x="7956720" y="6381720"/>
            <a:ext cx="911160" cy="887040"/>
            <a:chOff x="7956720" y="6381720"/>
            <a:chExt cx="911160" cy="887040"/>
          </a:xfrm>
        </p:grpSpPr>
        <p:graphicFrame>
          <p:nvGraphicFramePr>
            <p:cNvPr id="300" name="Object 5"/>
            <p:cNvGraphicFramePr/>
            <p:nvPr/>
          </p:nvGraphicFramePr>
          <p:xfrm>
            <a:off x="7956720" y="6381720"/>
            <a:ext cx="911160" cy="50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56720" y="6381720"/>
                      <a:ext cx="911160" cy="50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11"/>
            <p:cNvSpPr/>
            <p:nvPr/>
          </p:nvSpPr>
          <p:spPr>
            <a:xfrm>
              <a:off x="8273880" y="6445080"/>
              <a:ext cx="1846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Rectangle 3"/>
          <p:cNvSpPr/>
          <p:nvPr/>
        </p:nvSpPr>
        <p:spPr>
          <a:xfrm>
            <a:off x="324000" y="1992600"/>
            <a:ext cx="850716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第七章 植物样品采集技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植物样品的分析结果是否有价值，首先取决于采样技术是否正确。采样技术包括各类样品的采集、制备和保存技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植物样品的种类较多，可分为全株、茎叶、根系、籽粒、块根块茎、瓜果等。各类样品的采集、制备方法，随分析目的、分析项目、精度要求以及植物种类和生长条件而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2116440" y="1447920"/>
            <a:ext cx="46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植物分析的目的及采集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2980440" y="2819520"/>
            <a:ext cx="29239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植物分析的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采样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Object 19"/>
          <p:cNvGraphicFramePr/>
          <p:nvPr/>
        </p:nvGraphicFramePr>
        <p:xfrm>
          <a:off x="0" y="5257800"/>
          <a:ext cx="16002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2"/>
          <p:cNvSpPr/>
          <p:nvPr/>
        </p:nvSpPr>
        <p:spPr>
          <a:xfrm>
            <a:off x="457200" y="380880"/>
            <a:ext cx="367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植物分析的目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611280" y="1413000"/>
            <a:ext cx="1439640" cy="2449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27280" y="907920"/>
            <a:ext cx="1008000" cy="1297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养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484360" y="3429000"/>
            <a:ext cx="792360" cy="1225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4356000" y="333360"/>
            <a:ext cx="4392720" cy="230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丰缺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吸收、运输、代谢规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养分间的相互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8"/>
          <p:cNvSpPr/>
          <p:nvPr/>
        </p:nvSpPr>
        <p:spPr>
          <a:xfrm>
            <a:off x="3598920" y="2781360"/>
            <a:ext cx="5545080" cy="25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评价其营养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环境、栽培、施肥等对其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贮存中有关成分的变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鲜贮存提供依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1835280" y="1413000"/>
            <a:ext cx="792000" cy="360360"/>
          </a:xfrm>
          <a:custGeom>
            <a:avLst/>
            <a:gdLst>
              <a:gd name="textAreaLeft" fmla="*/ 455760 w 792000"/>
              <a:gd name="textAreaRight" fmla="*/ 668520 w 792000"/>
              <a:gd name="textAreaTop" fmla="*/ 48600 h 360360"/>
              <a:gd name="textAreaBottom" fmla="*/ 15408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708360" y="141300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17"/>
          <p:cNvSpPr/>
          <p:nvPr/>
        </p:nvSpPr>
        <p:spPr>
          <a:xfrm flipV="1">
            <a:off x="1692360" y="3788640"/>
            <a:ext cx="792000" cy="360360"/>
          </a:xfrm>
          <a:custGeom>
            <a:avLst/>
            <a:gdLst>
              <a:gd name="textAreaLeft" fmla="*/ 455760 w 792000"/>
              <a:gd name="textAreaRight" fmla="*/ 668520 w 792000"/>
              <a:gd name="textAreaTop" fmla="*/ 48600 h 360360"/>
              <a:gd name="textAreaBottom" fmla="*/ 15408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18"/>
          <p:cNvSpPr/>
          <p:nvPr/>
        </p:nvSpPr>
        <p:spPr>
          <a:xfrm>
            <a:off x="327672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2234520" y="10857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采样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403280" y="1844640"/>
            <a:ext cx="61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点、随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样品必须有充分的代表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根据面积的大小、植株的生长状况 采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样点混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样时间和部位的统一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2248920" y="990720"/>
            <a:ext cx="422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第二节  植株样品的采集和制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1295280" y="2490480"/>
            <a:ext cx="68580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植株样品多用于植物营养诊断分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按测定方式和测定的成分形态，分为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植物全量养分分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植物组织养分速测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</a:rPr>
              <a:t>测定植物组织中尚未同化而存在于植株的汁液中的营养成分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ffcc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2295000" y="990720"/>
            <a:ext cx="45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第二节  植物组织样品的采集和制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295280" y="1981080"/>
            <a:ext cx="69343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一、植株全量养分分析样品的采集制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样品的采集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样品的制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、植物组织速测样品的采集和制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样品的采集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样品的制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0:18:19Z</dcterms:created>
  <dc:creator>tfs</dc:creator>
  <dc:description/>
  <dc:language>en-US</dc:language>
  <cp:lastModifiedBy>sxyang</cp:lastModifiedBy>
  <dcterms:modified xsi:type="dcterms:W3CDTF">2019-02-25T00:36:48Z</dcterms:modified>
  <cp:revision>18</cp:revision>
  <dc:subject/>
  <dc:title>PowerPoint 演示文稿</dc:title>
</cp:coreProperties>
</file>